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11.png" ContentType="image/png"/>
  <Override PartName="/ppt/media/image12.jpeg" ContentType="image/jpeg"/>
  <Override PartName="/ppt/media/image7.png" ContentType="image/png"/>
  <Override PartName="/ppt/media/image9.png" ContentType="image/png"/>
  <Override PartName="/ppt/media/image10.jpeg" ContentType="image/jpeg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70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</p:sldMasterIdLst>
  <p:notesMasterIdLst>
    <p:notesMasterId r:id="rId9"/>
  </p:notesMasterIdLst>
  <p:sldIdLst>
    <p:sldId id="256" r:id="rId10"/>
    <p:sldId id="257" r:id="rId11"/>
    <p:sldId id="258" r:id="rId12"/>
    <p:sldId id="259" r:id="rId13"/>
    <p:sldId id="260" r:id="rId14"/>
    <p:sldId id="261" r:id="rId15"/>
    <p:sldId id="262" r:id="rId16"/>
    <p:sldId id="263" r:id="rId17"/>
    <p:sldId id="264" r:id="rId18"/>
    <p:sldId id="265" r:id="rId19"/>
    <p:sldId id="266" r:id="rId20"/>
    <p:sldId id="267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notesMaster" Target="notesMasters/notesMaster1.xml"/><Relationship Id="rId10" Type="http://schemas.openxmlformats.org/officeDocument/2006/relationships/slide" Target="slides/slide1.xml"/><Relationship Id="rId11" Type="http://schemas.openxmlformats.org/officeDocument/2006/relationships/slide" Target="slides/slide2.xml"/><Relationship Id="rId12" Type="http://schemas.openxmlformats.org/officeDocument/2006/relationships/slide" Target="slides/slide3.xml"/><Relationship Id="rId13" Type="http://schemas.openxmlformats.org/officeDocument/2006/relationships/slide" Target="slides/slide4.xml"/><Relationship Id="rId14" Type="http://schemas.openxmlformats.org/officeDocument/2006/relationships/slide" Target="slides/slide5.xml"/><Relationship Id="rId15" Type="http://schemas.openxmlformats.org/officeDocument/2006/relationships/slide" Target="slides/slide6.xml"/><Relationship Id="rId16" Type="http://schemas.openxmlformats.org/officeDocument/2006/relationships/slide" Target="slides/slide7.xml"/><Relationship Id="rId17" Type="http://schemas.openxmlformats.org/officeDocument/2006/relationships/slide" Target="slides/slide8.xml"/><Relationship Id="rId18" Type="http://schemas.openxmlformats.org/officeDocument/2006/relationships/slide" Target="slides/slide9.xml"/><Relationship Id="rId19" Type="http://schemas.openxmlformats.org/officeDocument/2006/relationships/slide" Target="slides/slide10.xml"/><Relationship Id="rId20" Type="http://schemas.openxmlformats.org/officeDocument/2006/relationships/slide" Target="slides/slide11.xml"/><Relationship Id="rId21" Type="http://schemas.openxmlformats.org/officeDocument/2006/relationships/slide" Target="slides/slide12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8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dt" idx="22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move the slid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5"/>
          <p:cNvSpPr>
            <a:spLocks noGrp="1"/>
          </p:cNvSpPr>
          <p:nvPr>
            <p:ph type="ftr" idx="23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6"/>
          <p:cNvSpPr>
            <a:spLocks noGrp="1"/>
          </p:cNvSpPr>
          <p:nvPr>
            <p:ph type="sldNum" idx="24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8E0AD-FA97-4C07-8DC3-01A9F3924036}" type="slidenum">
              <a:rPr b="0" lang="en-GB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THE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etinal Detachment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n be caused by trauma – e.g. box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dden acceleration and deceleration – bungee jumping, car accid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tinal Detachment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n be caused by trauma – e.g. box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udden acceleration and deceleration – bungee jumping, car accid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tached Retin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Detached Retin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vulsed Eye ball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ll it ever work again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will need to be intact for it to work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vulsed Eye ball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ill it ever work again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will need to be intact for it to work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atomy of the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Anatomy of the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mon Disease of the Ey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James is a 22 yrs old martial arts athlete who sustained a kick to his right eye 6 months ago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sustained injury to his right cornea laceration due to the contact le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s seen by an opthalmologist and treated for several wee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ut he still has blurred vision in his right ey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t is best seen under slit lamp, after flourescin st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mmon Disease of the Eye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James is a 22 yrs old martial arts athlete who sustained a kick to his right eye 6 months ag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sustained injury to his right cornea laceration due to the contact len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s seen by an opthalmologist and treated for several week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he still has blurred vision in his right ey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is best seen under slit lamp, after flourescin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corneal injury is visualised as a white patch on the corn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rneal Lac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corneal injury is visualised as a white patch on the corne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urescin Stain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lourescin staining selectively stains damaged corneal tissu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escin Stainin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lourescin staining selectively stains damaged corneal tissu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urther Treatmen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 full thickness corneal laceration, aqueous humour may leak out resulting in distortion of the shape of the eyebal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e wanted to continue fighting, so further treatment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hototherapeutic keratectomy (PTK) or Corneal Transplan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ailure to do so, he may not be able to clear his Pre-participation examination with 'one good eye'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urther Treatme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 full thickness corneal laceration, aqueous humour may leak out resulting in distortion of the shape of the eyeb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anted to continue fighting, so further treatment wi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hototherapeutic keratectomy (PTK) or Corneal Transpla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ailure to do so, he may not be able to clear his Pre-participation examination with 'one good eye'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- clouding or opacification of the natural lens of the eye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 Vi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 - clouding or opacification of the natural lens of the ey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 Vis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can cataracts be treated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only treatment for cataracts is surgical removal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 surgery is the removal of the eye lens and replacing it with an artificial on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wo basic types of surgical procedures to treat catarac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f the eye is otherwise healthy, an intraocular lens may be used to replace the natural, cloudy lens. This lens requires no car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an cataracts be treat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only treatment for cataracts is surgical removal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 surgery is the removal of the eye lens and replacing it with an artificial on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basic types of surgical procedures to treat catarac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the eye is otherwise healthy, an intraocular lens may be used to replace the natural, cloudy lens. This lens requires no car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rofessor Fred Hollow’s work to restore sight to the cataract blind in developing countries was ongoing 15 years after his deat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RED HOLLOWS PERFORMING AN OCULAR EXAMINATION IN VIETNA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rofessor Fred Hollow’s work to restore sight to the cataract blind in developing countries was ongoing 15 years after his death.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RED HOLLOWS PERFORMING AN OCULAR EXAMINATION IN VIETNA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36700-D9A7-49F2-BB10-BEEC8129FF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61229-2C8A-481C-A0F3-BA4806B64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6049F-68B7-4752-8A4D-727B029B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424FE-980D-4561-B19A-8E78B7D194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8F61A0-1BF3-44F7-B2EC-686D9AFDB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6ED14-CA9D-4336-B989-0D94061D0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6DF313-04C3-4433-B8E8-9D911931D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77ACAA-DC52-4901-A21E-AE21558B6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A7589A-05BC-4576-9A0E-F4D1CDC94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41C92-4D9D-4924-ACEC-94AF9B2250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197A7C-AC50-4B12-A39A-0C7B525EE3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8673-069B-4123-A0D7-146FD4192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BF6D98-C2C4-44E1-A6FD-447387217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3539-EE83-431C-9C02-FB2439D7D5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F4CA9-2D63-484A-BF1E-F4D2EEAC7C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FDFD22-B4BB-4527-920D-A75AA80EB1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EE735D-F640-409A-BD24-11EFDD967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3B2DD0A-8762-490E-BCBA-B2A50A86426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3DB174-010A-46E1-A338-82BC0072DC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38A5D5-088E-4CCE-8D8F-2943DBEBA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539BE8-C6EC-4A24-9555-ABEB352502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113EDC-EEB1-480F-BCC6-B8D889FA1B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106A-6E90-4433-9245-41F39B3D0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9E8B3B-D785-47FF-8061-414AA83A25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624576-86BB-44FB-ADAF-6CBD65838A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E8556D-A314-4D09-98A1-C29403F621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5B4A935-FA46-4215-BABE-3E1461EFCA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3A0018-53D8-4E59-9519-AD247CDF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2788A0D-BE75-49CE-805E-2A7F11A31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5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6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1CF259-9A1D-47B4-85FA-D80F4F1D6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4D7D775-74E6-4135-B26B-720E6CF829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80AB67-129D-4D1E-95C6-1DF391CAF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286F6B-4254-4004-A7D4-F5E7ABF1F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2951E-BA8C-46A5-8A1F-F1E587C5A4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35D56C-CD32-475B-847F-7E4A9BAEC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D0F3AEA-93C2-4CB9-B9E0-BD92D35EEB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6184459-6B3F-4170-918C-53F4EF72A5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6E354A5-8C4E-4879-95EE-22BD5F2A0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15FEE4-ACC5-4165-93B5-0594471DC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A068A2-DAC8-49CB-8CD3-2A15119C2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C506D7-F10F-4618-85D3-21015D94C8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4A5150F-509F-44E7-BF35-975038954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56FCFC-C23D-4363-8323-9BECF5203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6387F7-5C56-4969-8595-21C25ABE89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00989-164E-4280-B871-6D006BD1F6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6E7F3-6B8E-4ABC-AF09-1C36608850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5B292D2-A9BF-46DD-A9D0-54C0943A0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E0F00D-0AAB-4A7C-9E0E-A585358E1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A1D8DB-2E5D-44BC-878F-F51EB75F4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FAC6A6-404C-44E2-A63E-18F81A6EE8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13E5602-D420-406F-85F2-27C654C0B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0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1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635806-4BCE-4C95-91C9-13417F6B7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2E7D17-D5AA-4AAF-9921-334E953D3B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A4C7B4-8BA4-4C46-B74F-6122FE4313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3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2814037-D81B-4872-977C-E778F3056F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23158-8E4C-44F2-932D-3E5BE12AE8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29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0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3DAA7A8-2FCD-45E7-8E88-8402509302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9A7517-260E-4479-9CF3-B81C0D8175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FF67D3-CC23-41C6-882A-8792310E6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A69443-F9B2-4B1E-9D0B-730F216D59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F443325-C5DF-4AC2-B049-B7917846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F4D1AB-6AE8-481C-841E-2FE1D5D849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1E3A6DB-9B7B-4E19-AE8F-C5B3B8E06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4460BEE-1EE5-4143-B681-11D747E3F9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2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4DA78A6-38F7-42A0-B48A-B442C0BD7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974DCE6-B060-48C5-9141-E59A3958B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26696A-4622-4083-A919-749AB4348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A608B54-5714-4187-815C-724B43FCB1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4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FD2FA1-A44C-4CA5-8FF8-B80DC7E214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0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1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118570C-4E95-4FFA-8526-F52F22FC21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D2A28CF-A330-46EB-A7D0-2FC16326EF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subTitle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9D24DF9-3232-482D-8039-EF4357ED1E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C11B6C8-886B-4216-BDBD-50FC93EE58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BBDDBA2-04F5-4C88-BAF6-8C3E52308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880E7E9-8A3C-4186-B3E7-2439FD3E79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1434960" y="274320"/>
            <a:ext cx="74995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8244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2061EC-D089-43C2-B373-72A0084F9A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D34AA3-3AEA-4410-81B2-F11BB76FE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5B624-2198-4C3A-9C28-C7A25785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9198D7-84E4-41C4-BC2E-B5C130B22C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33053BB-087F-4256-8507-886CD3BA9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88A0C8-E6B7-4589-83FB-4EE90CB6C3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0" name="PlaceHolder 5"/>
          <p:cNvSpPr>
            <a:spLocks noGrp="1"/>
          </p:cNvSpPr>
          <p:nvPr>
            <p:ph/>
          </p:nvPr>
        </p:nvSpPr>
        <p:spPr>
          <a:xfrm>
            <a:off x="5277960" y="39549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D34870D-D641-48B0-8899-20FB77341A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3" name="PlaceHolder 3"/>
          <p:cNvSpPr>
            <a:spLocks noGrp="1"/>
          </p:cNvSpPr>
          <p:nvPr>
            <p:ph/>
          </p:nvPr>
        </p:nvSpPr>
        <p:spPr>
          <a:xfrm>
            <a:off x="397044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4" name="PlaceHolder 4"/>
          <p:cNvSpPr>
            <a:spLocks noGrp="1"/>
          </p:cNvSpPr>
          <p:nvPr>
            <p:ph/>
          </p:nvPr>
        </p:nvSpPr>
        <p:spPr>
          <a:xfrm>
            <a:off x="6506280" y="14475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5" name="PlaceHolder 5"/>
          <p:cNvSpPr>
            <a:spLocks noGrp="1"/>
          </p:cNvSpPr>
          <p:nvPr>
            <p:ph/>
          </p:nvPr>
        </p:nvSpPr>
        <p:spPr>
          <a:xfrm>
            <a:off x="143496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6" name="PlaceHolder 6"/>
          <p:cNvSpPr>
            <a:spLocks noGrp="1"/>
          </p:cNvSpPr>
          <p:nvPr>
            <p:ph/>
          </p:nvPr>
        </p:nvSpPr>
        <p:spPr>
          <a:xfrm>
            <a:off x="397044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7" name="PlaceHolder 7"/>
          <p:cNvSpPr>
            <a:spLocks noGrp="1"/>
          </p:cNvSpPr>
          <p:nvPr>
            <p:ph/>
          </p:nvPr>
        </p:nvSpPr>
        <p:spPr>
          <a:xfrm>
            <a:off x="6506280" y="3954960"/>
            <a:ext cx="2414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AAE2958-5F56-415E-A4F6-2EFFBD0BD0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34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277960" y="1447560"/>
            <a:ext cx="365976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34960" y="3954960"/>
            <a:ext cx="7499520" cy="228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6019A-9A38-4699-8BFF-8EA0B4064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3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732C55-F81B-473F-9220-BD1CC973E478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sldNum" idx="3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B9826-12D2-45B5-AECB-ACDF738E0FBC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ie 6"/>
          <p:cNvSpPr/>
          <p:nvPr/>
        </p:nvSpPr>
        <p:spPr>
          <a:xfrm>
            <a:off x="-816120" y="-816120"/>
            <a:ext cx="1638360" cy="1638360"/>
          </a:xfrm>
          <a:custGeom>
            <a:avLst/>
            <a:gdLst/>
            <a:ahLst/>
            <a:rect l="l" t="t" r="r" b="b"/>
            <a:pathLst>
              <a:path w="1638300" h="1638300">
                <a:moveTo>
                  <a:pt x="1638300" y="819150"/>
                </a:moveTo>
                <a:cubicBezTo>
                  <a:pt x="1638300" y="1036490"/>
                  <a:pt x="1551928" y="1244920"/>
                  <a:pt x="1398198" y="1398555"/>
                </a:cubicBezTo>
                <a:cubicBezTo>
                  <a:pt x="1244468" y="1552190"/>
                  <a:pt x="1035985" y="1638434"/>
                  <a:pt x="818645" y="1638300"/>
                </a:cubicBezTo>
                <a:cubicBezTo>
                  <a:pt x="818813" y="1365250"/>
                  <a:pt x="818982" y="1092200"/>
                  <a:pt x="819150" y="819150"/>
                </a:cubicBezTo>
                <a:lnTo>
                  <a:pt x="1638300" y="819150"/>
                </a:lnTo>
                <a:close/>
              </a:path>
            </a:pathLst>
          </a:custGeom>
          <a:solidFill>
            <a:srgbClr val="fefaf4">
              <a:alpha val="33000"/>
            </a:srgbClr>
          </a:solidFill>
          <a:ln cap="rnd" w="3240">
            <a:solidFill>
              <a:srgbClr val="d2c39e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Oval 7"/>
          <p:cNvSpPr/>
          <p:nvPr/>
        </p:nvSpPr>
        <p:spPr>
          <a:xfrm>
            <a:off x="168120" y="20520"/>
            <a:ext cx="1703520" cy="1703520"/>
          </a:xfrm>
          <a:prstGeom prst="ellipse">
            <a:avLst/>
          </a:prstGeom>
          <a:noFill/>
          <a:ln cap="rnd" w="27360">
            <a:solidFill>
              <a:srgbClr val="fff6db"/>
            </a:solidFill>
            <a:miter/>
          </a:ln>
          <a:effectLst>
            <a:outerShdw dist="12600" dir="5400000" blurRad="0" rotWithShape="0">
              <a:srgbClr val="afa58d">
                <a:alpha val="8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0" name="Donut 10"/>
          <p:cNvGrpSpPr/>
          <p:nvPr/>
        </p:nvGrpSpPr>
        <p:grpSpPr>
          <a:xfrm>
            <a:off x="171360" y="1042920"/>
            <a:ext cx="1157400" cy="1150920"/>
            <a:chOff x="171360" y="1042920"/>
            <a:chExt cx="1157400" cy="1150920"/>
          </a:xfrm>
        </p:grpSpPr>
        <p:pic>
          <p:nvPicPr>
            <p:cNvPr id="51" name="Donut 10" descr=""/>
            <p:cNvPicPr/>
            <p:nvPr/>
          </p:nvPicPr>
          <p:blipFill>
            <a:blip r:embed="rId3"/>
            <a:stretch/>
          </p:blipFill>
          <p:spPr>
            <a:xfrm>
              <a:off x="171360" y="1042920"/>
              <a:ext cx="1157400" cy="115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 rot="2315400">
              <a:off x="347400" y="1216080"/>
              <a:ext cx="795240" cy="77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Rectangle 11"/>
          <p:cNvSpPr/>
          <p:nvPr/>
        </p:nvSpPr>
        <p:spPr>
          <a:xfrm>
            <a:off x="1012680" y="0"/>
            <a:ext cx="8131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4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Oval 12"/>
          <p:cNvGrpSpPr/>
          <p:nvPr/>
        </p:nvGrpSpPr>
        <p:grpSpPr>
          <a:xfrm>
            <a:off x="920880" y="1414440"/>
            <a:ext cx="218880" cy="212760"/>
            <a:chOff x="920880" y="1414440"/>
            <a:chExt cx="218880" cy="212760"/>
          </a:xfrm>
        </p:grpSpPr>
        <p:pic>
          <p:nvPicPr>
            <p:cNvPr id="56" name="Oval 12" descr=""/>
            <p:cNvPicPr/>
            <p:nvPr/>
          </p:nvPicPr>
          <p:blipFill>
            <a:blip r:embed="rId4"/>
            <a:stretch/>
          </p:blipFill>
          <p:spPr>
            <a:xfrm>
              <a:off x="920880" y="1414440"/>
              <a:ext cx="21888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" name=""/>
            <p:cNvSpPr/>
            <p:nvPr/>
          </p:nvSpPr>
          <p:spPr>
            <a:xfrm>
              <a:off x="952560" y="1444680"/>
              <a:ext cx="149040" cy="149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Oval 13"/>
          <p:cNvSpPr/>
          <p:nvPr/>
        </p:nvSpPr>
        <p:spPr>
          <a:xfrm>
            <a:off x="1157400" y="1344600"/>
            <a:ext cx="63360" cy="651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" bIns="-3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0DFBBC-95DB-4E99-900B-6D2D1A1120F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92DD-E96B-457F-AA47-EA3443B7BF49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12"/>
          <p:cNvSpPr/>
          <p:nvPr/>
        </p:nvSpPr>
        <p:spPr>
          <a:xfrm>
            <a:off x="2282760" y="0"/>
            <a:ext cx="6858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13"/>
          <p:cNvSpPr/>
          <p:nvPr/>
        </p:nvSpPr>
        <p:spPr>
          <a:xfrm>
            <a:off x="2286000" y="0"/>
            <a:ext cx="76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Oval 15"/>
          <p:cNvGrpSpPr/>
          <p:nvPr/>
        </p:nvGrpSpPr>
        <p:grpSpPr>
          <a:xfrm>
            <a:off x="2170080" y="2816280"/>
            <a:ext cx="219240" cy="212760"/>
            <a:chOff x="2170080" y="2816280"/>
            <a:chExt cx="219240" cy="212760"/>
          </a:xfrm>
        </p:grpSpPr>
        <p:pic>
          <p:nvPicPr>
            <p:cNvPr id="103" name="Oval 15" descr=""/>
            <p:cNvPicPr/>
            <p:nvPr/>
          </p:nvPicPr>
          <p:blipFill>
            <a:blip r:embed="rId3"/>
            <a:stretch/>
          </p:blipFill>
          <p:spPr>
            <a:xfrm>
              <a:off x="2170080" y="2816280"/>
              <a:ext cx="219240" cy="212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203560" y="2844720"/>
              <a:ext cx="147600" cy="149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5" name="Oval 16"/>
          <p:cNvSpPr/>
          <p:nvPr/>
        </p:nvSpPr>
        <p:spPr>
          <a:xfrm>
            <a:off x="2408400" y="2746440"/>
            <a:ext cx="63360" cy="63360"/>
          </a:xfrm>
          <a:prstGeom prst="ellipse">
            <a:avLst/>
          </a:prstGeom>
          <a:noFill/>
          <a:ln cap="rnd" w="12600">
            <a:solidFill>
              <a:srgbClr val="307f93">
                <a:alpha val="6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440" bIns="-1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dt" idx="7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C2922-E704-4871-8844-DC06D0D54345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 type="ftr" idx="8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 type="sldNum" idx="9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C06F38-6367-4894-A495-0599BC4FB2C3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66B76-E522-43B9-ACE3-BBE0917E881D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9BCD59-30C5-4624-93CF-934E4C536B67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12"/>
          <p:cNvSpPr/>
          <p:nvPr/>
        </p:nvSpPr>
        <p:spPr>
          <a:xfrm>
            <a:off x="1014480" y="0"/>
            <a:ext cx="81295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3"/>
          <p:cNvSpPr/>
          <p:nvPr/>
        </p:nvSpPr>
        <p:spPr>
          <a:xfrm>
            <a:off x="1014480" y="0"/>
            <a:ext cx="730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  <a:effectLst>
            <a:outerShdw dist="38160" dir="10800000" blurRad="0" rotWithShape="0">
              <a:srgbClr val="706b5f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 type="dt" idx="13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BFA0EE-CC3E-43D8-A14C-DF3D4FB9336C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 type="ftr" idx="14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 type="sldNum" idx="15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ED03D-C71D-41AF-8B39-62ADD992C9E0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 type="dt" idx="16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14FFC-D18E-4C1A-BB83-4B7019A1A171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 type="ftr" idx="17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 type="sldNum" idx="18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7745-E8A4-41A9-A879-B5D15341A42D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2" name="Rectangle 12"/>
          <p:cNvGrpSpPr/>
          <p:nvPr/>
        </p:nvGrpSpPr>
        <p:grpSpPr>
          <a:xfrm>
            <a:off x="652320" y="974880"/>
            <a:ext cx="4797720" cy="4797360"/>
            <a:chOff x="652320" y="974880"/>
            <a:chExt cx="4797720" cy="4797360"/>
          </a:xfrm>
        </p:grpSpPr>
        <p:pic>
          <p:nvPicPr>
            <p:cNvPr id="273" name="Rectangle 12" descr=""/>
            <p:cNvPicPr/>
            <p:nvPr/>
          </p:nvPicPr>
          <p:blipFill>
            <a:blip r:embed="rId3"/>
            <a:stretch/>
          </p:blipFill>
          <p:spPr>
            <a:xfrm>
              <a:off x="652320" y="974880"/>
              <a:ext cx="4797720" cy="4797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762120" y="1066680"/>
              <a:ext cx="4572000" cy="4572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4320" bIns="46800" anchor="t">
              <a:noAutofit/>
            </a:bodyPr>
            <a:p>
              <a:pPr>
                <a:lnSpc>
                  <a:spcPts val="2999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Flowchart: Process 13"/>
          <p:cNvSpPr/>
          <p:nvPr/>
        </p:nvSpPr>
        <p:spPr>
          <a:xfrm rot="19468200">
            <a:off x="396360" y="953640"/>
            <a:ext cx="685800" cy="20484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bdab1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Flowchart: Process 15"/>
          <p:cNvSpPr/>
          <p:nvPr/>
        </p:nvSpPr>
        <p:spPr>
          <a:xfrm flipH="1" rot="2103600">
            <a:off x="5003640" y="936720"/>
            <a:ext cx="649440" cy="204480"/>
          </a:xfrm>
          <a:prstGeom prst="flowChartProcess">
            <a:avLst/>
          </a:prstGeom>
          <a:solidFill>
            <a:srgbClr val="fbfbfb">
              <a:alpha val="45000"/>
            </a:srgbClr>
          </a:solidFill>
          <a:ln cap="rnd" w="6480">
            <a:solidFill>
              <a:srgbClr val="ffffff"/>
            </a:solidFill>
            <a:miter/>
          </a:ln>
          <a:effectLst>
            <a:outerShdw dist="25364" dir="3324462" blurRad="0" rotWithShape="0">
              <a:srgbClr val="e7dec9">
                <a:alpha val="2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572314"/>
                </a:solidFill>
                <a:latin typeface="Gill Sans MT"/>
              </a:rPr>
              <a:t>Click to edit the title text forma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1" marL="639720" indent="-236520">
              <a:spcBef>
                <a:spcPts val="601"/>
              </a:spcBef>
              <a:buClr>
                <a:srgbClr val="3891a7"/>
              </a:buClr>
              <a:buFont typeface="Verdana"/>
              <a:buChar char="◦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2" marL="885960" indent="-228600">
              <a:spcBef>
                <a:spcPts val="601"/>
              </a:spcBef>
              <a:buClr>
                <a:srgbClr val="feb80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3" marL="1096920" indent="-173160">
              <a:spcBef>
                <a:spcPts val="601"/>
              </a:spcBef>
              <a:buClr>
                <a:srgbClr val="c32d2e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4" marL="1297080" indent="-182520">
              <a:spcBef>
                <a:spcPts val="601"/>
              </a:spcBef>
              <a:buClr>
                <a:srgbClr val="84aa33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5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lvl="6" marL="1297080" indent="-182520">
              <a:spcBef>
                <a:spcPts val="601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ill Sans MT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 type="dt" idx="19"/>
          </p:nvPr>
        </p:nvSpPr>
        <p:spPr>
          <a:xfrm>
            <a:off x="3580920" y="6305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C4840E-12D4-4376-9209-2C5D366A93DF}" type="datetime">
              <a:rPr b="0" lang="en-US" sz="1200" spc="-1" strike="noStrike">
                <a:solidFill>
                  <a:srgbClr val="b5a788"/>
                </a:solidFill>
                <a:latin typeface="Gill Sans MT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4"/>
          <p:cNvSpPr>
            <a:spLocks noGrp="1"/>
          </p:cNvSpPr>
          <p:nvPr>
            <p:ph type="ftr" idx="20"/>
          </p:nvPr>
        </p:nvSpPr>
        <p:spPr>
          <a:xfrm>
            <a:off x="5714640" y="630504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5"/>
          <p:cNvSpPr>
            <a:spLocks noGrp="1"/>
          </p:cNvSpPr>
          <p:nvPr>
            <p:ph type="sldNum" idx="21"/>
          </p:nvPr>
        </p:nvSpPr>
        <p:spPr>
          <a:xfrm>
            <a:off x="8613720" y="6305040"/>
            <a:ext cx="4572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b5a788"/>
                </a:solidFill>
                <a:latin typeface="Gill Sans M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CEEEF1-B0D0-4595-99A8-0B3E36414B1C}" type="slidenum">
              <a:rPr b="0" lang="en-AU" sz="1200" spc="-1" strike="noStrike">
                <a:solidFill>
                  <a:srgbClr val="b5a788"/>
                </a:solidFill>
                <a:latin typeface="Gill Sans MT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73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1928880" y="1785960"/>
            <a:ext cx="528624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8600" spc="-1" strike="noStrike">
                <a:solidFill>
                  <a:srgbClr val="572314"/>
                </a:solidFill>
                <a:latin typeface="Gill Sans MT"/>
              </a:rPr>
              <a:t>THE EYE</a:t>
            </a:r>
            <a:endParaRPr b="0" lang="en-US" sz="86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26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Retinal Detachment</a:t>
            </a: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56" name=""/>
          <p:cNvSpPr txBox="1"/>
          <p:nvPr/>
        </p:nvSpPr>
        <p:spPr>
          <a:xfrm>
            <a:off x="1434600" y="1447560"/>
            <a:ext cx="36370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Can be caused by trauma – e.g. boxing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53880" indent="-27396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Sudden acceleration and deceleration – bungee jumping, car accidents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57" name="Picture 3" descr="2mosley.jpg"/>
          <p:cNvPicPr/>
          <p:nvPr/>
        </p:nvPicPr>
        <p:blipFill>
          <a:blip r:embed="rId1"/>
          <a:stretch/>
        </p:blipFill>
        <p:spPr>
          <a:xfrm>
            <a:off x="5286240" y="1357200"/>
            <a:ext cx="3446640" cy="4572000"/>
          </a:xfrm>
          <a:prstGeom prst="rect">
            <a:avLst/>
          </a:prstGeom>
          <a:ln w="0">
            <a:noFill/>
          </a:ln>
        </p:spPr>
      </p:pic>
      <p:sp>
        <p:nvSpPr>
          <p:cNvPr id="358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Detached Retina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60" name="Content Placeholder 3" descr="Retinal_Tear_02[1].png"/>
          <p:cNvPicPr/>
          <p:nvPr/>
        </p:nvPicPr>
        <p:blipFill>
          <a:blip r:embed="rId1"/>
          <a:stretch/>
        </p:blipFill>
        <p:spPr>
          <a:xfrm>
            <a:off x="3171960" y="1571760"/>
            <a:ext cx="4043160" cy="4357440"/>
          </a:xfrm>
          <a:prstGeom prst="rect">
            <a:avLst/>
          </a:prstGeom>
          <a:ln w="0">
            <a:noFill/>
          </a:ln>
        </p:spPr>
      </p:pic>
      <p:sp>
        <p:nvSpPr>
          <p:cNvPr id="361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Avulsed Eye ball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	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63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ill it ever work again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200" spc="-1" strike="noStrike">
                <a:solidFill>
                  <a:srgbClr val="000000"/>
                </a:solidFill>
                <a:latin typeface="Gill Sans MT"/>
              </a:rPr>
              <a:t>What will need to be intact for it to work?</a:t>
            </a: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64" name="Picture 3" descr="halloween0411.jpg"/>
          <p:cNvPicPr/>
          <p:nvPr/>
        </p:nvPicPr>
        <p:blipFill>
          <a:blip r:embed="rId1"/>
          <a:stretch/>
        </p:blipFill>
        <p:spPr>
          <a:xfrm>
            <a:off x="2786040" y="3071880"/>
            <a:ext cx="4357800" cy="3071880"/>
          </a:xfrm>
          <a:prstGeom prst="rect">
            <a:avLst/>
          </a:prstGeom>
          <a:ln w="0">
            <a:noFill/>
          </a:ln>
        </p:spPr>
      </p:pic>
      <p:sp>
        <p:nvSpPr>
          <p:cNvPr id="365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Anatomy of the Eye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28" name="Content Placeholder 3" descr="eye_anatomy.gif"/>
          <p:cNvPicPr/>
          <p:nvPr/>
        </p:nvPicPr>
        <p:blipFill>
          <a:blip r:embed="rId1"/>
          <a:stretch/>
        </p:blipFill>
        <p:spPr>
          <a:xfrm>
            <a:off x="2286000" y="1643040"/>
            <a:ext cx="5286240" cy="4357800"/>
          </a:xfrm>
          <a:prstGeom prst="rect">
            <a:avLst/>
          </a:prstGeom>
          <a:ln w="0">
            <a:noFill/>
          </a:ln>
        </p:spPr>
      </p:pic>
      <p:sp>
        <p:nvSpPr>
          <p:cNvPr id="329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Common Disease of the Eye</a:t>
            </a:r>
            <a:br>
              <a:rPr sz="3900"/>
            </a:br>
            <a:r>
              <a:rPr b="0" lang="en-AU" sz="3900" spc="-1" strike="noStrike">
                <a:solidFill>
                  <a:srgbClr val="572314"/>
                </a:solidFill>
                <a:latin typeface="Gill Sans MT"/>
              </a:rPr>
              <a:t>Corneal Laceration</a:t>
            </a:r>
            <a:endParaRPr b="0" lang="en-US" sz="39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31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James is a 22 yrs old martial arts athlete who sustained a kick to his right eye 6 months ago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sustained injury to his right cornea laceration due to the contact len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was seen by an opthalmologist and treated for several weeks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But he still has blurred vision in his right eye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It is best seen under slit lamp, after flourescin staining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8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2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5929200" y="2285640"/>
            <a:ext cx="2743200" cy="547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Corneal Laceration</a:t>
            </a:r>
            <a:endParaRPr b="0" lang="en-US" sz="21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4" name="Picture Placeholder 4" descr="Corneal_laceration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638520"/>
          </a:xfrm>
          <a:prstGeom prst="rect">
            <a:avLst/>
          </a:prstGeom>
          <a:ln w="0">
            <a:noFill/>
          </a:ln>
        </p:spPr>
      </p:pic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The corneal injury is visualised as a white patch on the cornea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36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5786280" y="2285640"/>
            <a:ext cx="2743200" cy="476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Flourescin Staining</a:t>
            </a:r>
            <a:endParaRPr b="0" lang="en-US" sz="21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38" name="Picture Placeholder 4" descr="384470808_9a073d2be9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511440"/>
          </a:xfrm>
          <a:prstGeom prst="rect">
            <a:avLst/>
          </a:prstGeom>
          <a:ln w="0">
            <a:noFill/>
          </a:ln>
        </p:spPr>
      </p:pic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62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Flourescin staining selectively stains damaged corneal tissue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0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Further Treatment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2" name=""/>
          <p:cNvSpPr txBox="1"/>
          <p:nvPr/>
        </p:nvSpPr>
        <p:spPr>
          <a:xfrm>
            <a:off x="1434960" y="1447560"/>
            <a:ext cx="74995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In full thickness corneal laceration, aqueous humour may leak out resulting in distortion of the shape of the eyeball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He wanted to continue fighting, so further treatment with </a:t>
            </a:r>
            <a:br>
              <a:rPr sz="3000"/>
            </a:b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Phototherapeutic keratectomy (PTK) or Corneal Transplant.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Failure to do so, he may not be able to clear his Pre-participation examination with 'one good eye'.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43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Cataracts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5" name=""/>
          <p:cNvSpPr txBox="1"/>
          <p:nvPr/>
        </p:nvSpPr>
        <p:spPr>
          <a:xfrm>
            <a:off x="1434960" y="1447560"/>
            <a:ext cx="7499520" cy="4910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Cataracts - clouding or opacification of the natural lens of the eye 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  <a:p>
            <a:pPr marL="365040" indent="-282600">
              <a:lnSpc>
                <a:spcPct val="90000"/>
              </a:lnSpc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3000" spc="-1" strike="noStrike">
                <a:solidFill>
                  <a:srgbClr val="000000"/>
                </a:solidFill>
                <a:latin typeface="Gill Sans MT"/>
              </a:rPr>
              <a:t>Cataract Vision</a:t>
            </a:r>
            <a:endParaRPr b="0" lang="en-US" sz="3000" spc="-1" strike="noStrike">
              <a:solidFill>
                <a:srgbClr val="000000"/>
              </a:solidFill>
              <a:latin typeface="Gill Sans MT"/>
            </a:endParaRPr>
          </a:p>
        </p:txBody>
      </p:sp>
      <p:pic>
        <p:nvPicPr>
          <p:cNvPr id="346" name="Picture 3" descr="cat_m.jpg"/>
          <p:cNvPicPr/>
          <p:nvPr/>
        </p:nvPicPr>
        <p:blipFill>
          <a:blip r:embed="rId1"/>
          <a:stretch/>
        </p:blipFill>
        <p:spPr>
          <a:xfrm>
            <a:off x="2714760" y="2500200"/>
            <a:ext cx="4572000" cy="3143520"/>
          </a:xfrm>
          <a:prstGeom prst="rect">
            <a:avLst/>
          </a:prstGeom>
          <a:ln w="0">
            <a:noFill/>
          </a:ln>
        </p:spPr>
      </p:pic>
      <p:sp>
        <p:nvSpPr>
          <p:cNvPr id="347" name="Місце для нижнього колонтитула 3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434960" y="274320"/>
            <a:ext cx="7499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4300" spc="-1" strike="noStrike">
                <a:solidFill>
                  <a:srgbClr val="572314"/>
                </a:solidFill>
                <a:latin typeface="Gill Sans MT"/>
              </a:rPr>
              <a:t>How can cataracts be treated?</a:t>
            </a:r>
            <a:endParaRPr b="0" lang="en-US" sz="4300" spc="-1" strike="noStrike">
              <a:solidFill>
                <a:srgbClr val="572314"/>
              </a:solidFill>
              <a:latin typeface="Gill Sans MT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1499760" y="1285560"/>
            <a:ext cx="7497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The only treatment for cataracts is surgical removal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Cataract surgery is the removal of the eye lens and replacing it with an artificial on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Two basic types of surgical procedures to treat cataracts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(1) Phacoemulsification - utilizes a small incision on the side of the cornea to access the cataract with a tiny probe. Ultrasound is then used to break up the lens for removal by suction. This is the most popular kind of cataract surgery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(2) Extracapsular surgery  -This procedure requires a longer incision. The cloudy core is removed intact followed by removal of the remaining lens by suction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If the eye is otherwise healthy, an intraocular lens may be used to replace the natural, cloudy lens. This lens requires no car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  <a:p>
            <a:pPr marL="321120" indent="-248400">
              <a:spcBef>
                <a:spcPts val="601"/>
              </a:spcBef>
              <a:buClr>
                <a:srgbClr val="3891a7"/>
              </a:buClr>
              <a:buSzPct val="8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2000" spc="-1" strike="noStrike">
                <a:solidFill>
                  <a:srgbClr val="000000"/>
                </a:solidFill>
                <a:latin typeface="Gill Sans MT"/>
              </a:rPr>
              <a:t>Post-operative orders carefully. Not to bend over or lift heavy objects for a few days or weeks. A protective eye shield will reduce the chances of injury to the eye. </a:t>
            </a:r>
            <a:endParaRPr b="0" lang="en-US" sz="20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0" name="Місце для нижнього колонтитула 2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5500440" y="1066680"/>
            <a:ext cx="3429000" cy="56484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AU" sz="2100" spc="-1" strike="noStrike">
                <a:solidFill>
                  <a:srgbClr val="572314"/>
                </a:solidFill>
                <a:latin typeface="Gill Sans MT"/>
              </a:rPr>
              <a:t>Professor Fred Hollow’s </a:t>
            </a:r>
            <a:r>
              <a:rPr b="1" lang="en-AU" sz="2400" spc="-1" strike="noStrike">
                <a:solidFill>
                  <a:srgbClr val="572314"/>
                </a:solidFill>
                <a:latin typeface="Gill Sans MT"/>
              </a:rPr>
              <a:t>work to restore sight to the cataract blind in developing countries was ongoing 15 years after his death.</a:t>
            </a:r>
            <a:br>
              <a:rPr sz="2400"/>
            </a:br>
            <a:r>
              <a:rPr b="1" lang="en-AU" sz="2400" spc="-1" strike="noStrike">
                <a:solidFill>
                  <a:srgbClr val="572314"/>
                </a:solidFill>
                <a:latin typeface="Gill Sans MT"/>
              </a:rPr>
              <a:t>Cataracts are the cause of about half of all cases of avoidable blindness in developing countries and they can be removed with a relatively simple operation costing as little as $25.</a:t>
            </a:r>
            <a:br>
              <a:rPr sz="2400"/>
            </a:br>
            <a:endParaRPr b="0" lang="en-US" sz="2400" spc="-1" strike="noStrike">
              <a:solidFill>
                <a:srgbClr val="572314"/>
              </a:solidFill>
              <a:latin typeface="Gill Sans MT"/>
            </a:endParaRPr>
          </a:p>
        </p:txBody>
      </p:sp>
      <p:pic>
        <p:nvPicPr>
          <p:cNvPr id="352" name="Picture Placeholder 4" descr="fredhollows_wideweb__470x318,2.jpg"/>
          <p:cNvPicPr/>
          <p:nvPr/>
        </p:nvPicPr>
        <p:blipFill>
          <a:blip r:embed="rId1"/>
          <a:stretch/>
        </p:blipFill>
        <p:spPr>
          <a:xfrm>
            <a:off x="841320" y="1146240"/>
            <a:ext cx="4419720" cy="3511440"/>
          </a:xfrm>
          <a:prstGeom prst="rect">
            <a:avLst/>
          </a:prstGeom>
          <a:ln w="0">
            <a:noFill/>
          </a:ln>
        </p:spPr>
      </p:pic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837720" y="4800240"/>
            <a:ext cx="4419720" cy="771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 algn="ctr">
              <a:lnSpc>
                <a:spcPts val="1599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400" spc="-1" strike="noStrike">
                <a:solidFill>
                  <a:srgbClr val="777777"/>
                </a:solidFill>
                <a:latin typeface="Gill Sans MT"/>
              </a:rPr>
              <a:t>FRED HOLLOWS PERFORMING AN OCULAR EXAMINATION IN VIETNAM</a:t>
            </a:r>
            <a:endParaRPr b="0" lang="en-US" sz="1400" spc="-1" strike="noStrike">
              <a:solidFill>
                <a:srgbClr val="000000"/>
              </a:solidFill>
              <a:latin typeface="Gill Sans MT"/>
            </a:endParaRPr>
          </a:p>
        </p:txBody>
      </p:sp>
      <p:sp>
        <p:nvSpPr>
          <p:cNvPr id="354" name="Місце для нижнього колонтитула 1"/>
          <p:cNvSpPr/>
          <p:nvPr/>
        </p:nvSpPr>
        <p:spPr>
          <a:xfrm>
            <a:off x="5715000" y="6305400"/>
            <a:ext cx="289548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b5a788"/>
                </a:solidFill>
                <a:latin typeface="Gill Sans MT"/>
              </a:rPr>
              <a:t>www.sliderbase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1-06T20:52:08Z</dcterms:created>
  <dc:creator>pracstudent</dc:creator>
  <dc:description/>
  <dc:language>en-US</dc:language>
  <cp:lastModifiedBy>LEGION2</cp:lastModifiedBy>
  <dcterms:modified xsi:type="dcterms:W3CDTF">2016-01-14T12:09:32Z</dcterms:modified>
  <cp:revision>13</cp:revision>
  <dc:subject/>
  <dc:title>THE EYE</dc:title>
</cp:coreProperties>
</file>