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F485-8BDD-4380-A387-3BFDDC098E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l Detach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aused by trauma – e.g. box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den acceleration and deceleration – bungee jumping, car ac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nal Detach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aused by trauma – e.g. bo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acceleration and deceleration – bungee jumping, car acc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ched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ched Re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ulsed Eye ba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it ever work ag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need to be intact for it to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ulsed Eye ba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t ever work ag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ill need to be intact for it to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of the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isease of the Ey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is a 22 yrs old martial arts athlete who sustained a kick to his right eye 6 months ag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ustained injury to his right cornea laceration due to the contact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seen by an opthalmologist and treated for several w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he still has blurred vision in his right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st seen under slit lamp, after flourescin st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Disease of the Ey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is a 22 yrs old martial arts athlete who sustained a kick to his right eye 6 month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ustained injury to his right cornea laceration due to the contact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seen by an opthalmologist and treated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e still has blurred vision in his right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st seen under slit lamp, after flourescin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neal injury is visualised as a white patch on the 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neal injury is visualised as a white patch on the cor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urescin St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urescin staining selectively stains damaged corneal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escin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escin staining selectively stains damaged corne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ull thickness corneal laceration, aqueous humour may leak out resulting in distortion of the shape of the eyeb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nted to continue fighting, so further treatment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therapeutic keratectomy (PTK) or Corneal Trans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lure to do so, he may not be able to clear his Pre-participation examination with 'one good eye'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ull thickness corneal laceration, aqueous humour may leak out resulting in distortion of the shape of the eyeb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nted to continue fighting, so further treatment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therapeutic keratectomy (PTK) or Corneal Trans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ure to do so, he may not be able to clear his Pre-participation examination with 'one good eye'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- clouding or opacification of the natural lens of the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 - clouding or opacification of the natural lens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cataracts be tre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treatment for cataracts is surgical remo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 surgery is the removal of the eye lens and replacing it with an artificial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basic types of surgical procedures to treat catar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eye is otherwise healthy, an intraocular lens may be used to replace the natural, cloudy lens. This lens requires no c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cataracts be tre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treatment for cataracts is surgical remov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 surgery is the removal of the eye lens and replacing it with an artificial 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asic types of surgical procedures to treat cata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ye is otherwise healthy, an intraocular lens may be used to replace the natural, cloudy lens. This lens requires no ca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or Fred Hollow’s work to restore sight to the cataract blind in developing countries was ongoing 15 years after his deat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HOLLOWS PERFORMING AN OCULAR EXAMINATION IN VIET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sor Fred Hollow’s work to restore sight to the cataract blind in developing countries was ongoing 15 years after his deat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D HOLLOWS PERFORMING AN OCULAR EXAMINATION IN VIETN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5A12-7FFE-426E-A9C9-82E39B9B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1DC-E718-4610-ADFA-E5837DF3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FA5-97C2-4D6B-BAA9-EF03C1F3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C5E-CECA-40DE-BBA3-AF6F63C3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6A79-164B-4641-B651-9028925A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D92C-6565-420C-AE64-E0F1B1CC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F896-9644-450C-94CB-8D491F41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0357-CBAB-4EAD-9E60-9121F168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261A-66E1-4E9F-B277-D3491CF7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4032-C705-463C-9E3E-86E6B8A5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638F-3F27-4164-91D8-FC69F7BD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94B-5373-4386-9CD2-E293F333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3129-93CC-44B6-9C76-B728F6F3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5E9E-934A-4A79-A5BC-45AB969D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9FF4-9FFA-4443-86F6-8385C3FB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4B33-E9F5-4B13-B35C-8EAA6429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A24B-A234-4C25-8C13-244489B6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6CBF8-06F2-4EEE-B587-C193B62C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3A2BE-7487-424F-866A-E1CE9F99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48C49-36AD-4B0A-AE76-EA796960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3630A-94AB-4503-9BF4-3BC66BAB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3B93C-B3CA-4155-9A5D-1DDCBF8A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4E6-3899-41B5-B3AD-967143BE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CFB96-D99A-44F7-A17B-5104C836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D2C1A-50E2-4073-A053-D0FF225B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63E49-7E12-4E9D-A5EB-92671AC1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853A1-AABF-4E02-9F6C-E1A7DF9F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C00DE-19D8-4EE6-88F1-67D9ADBD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5C7B5-D15F-4715-941F-371C9133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0156B-CB9B-4EAE-B1BC-596A5AE4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77598-F8B0-4942-B2B3-F08F2842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726C6-3A5A-4CE3-8DB6-B00DFD4F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9EA0A-1FBC-4131-B355-E5079BE1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8DC-BE99-47EC-A457-303EA432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6C845-A14A-47FC-9DCF-7AB7A370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4E1AE-CD43-404A-A404-A46CEFD3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0B42F-A5BE-44F1-97BE-F1C91EB9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394B5-99E5-4ABB-87AE-8B3B306F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C1FA9-3BE0-4DFE-A9A8-6D8BC1C3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E7B7F-D15A-442D-8224-869E8DD0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4C13B-3E4C-4D57-916F-9D3575D0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7F9E0-CC6D-4E0C-82F6-7D290D47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458B9-B71E-483F-BE18-CDE0758A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0F0F8-1FA3-4A15-BB62-B8DFD790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4188-D454-41E9-BBE0-1BE070C3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CAEEC-098F-4003-8E73-8BD8A3D8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1D7A9-9063-49CB-8164-E97B860D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F5AD5-FDD6-475F-8961-B10132CD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05F3C-11E2-4AB0-811F-7CFC9B54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23244-783E-467F-9923-BC084A0F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2377A-F88F-42BB-B0E9-1D17D1AB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A2CC7-094F-4170-9518-5300B0FB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5D1AC-971C-48F7-8832-8054E59E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90DA9-A58A-4C49-A586-5FAEDD59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149BC-C6F0-4D74-9CA0-D0EEE59B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C2D-EABA-41EF-B261-5E55003F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608F0-F0B2-4FD5-A330-7727D400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6C80F-F757-4D2C-B2EE-B2966446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7CF2F-B5A2-4166-B013-0F146D96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2DFBC-3DA9-4ED2-87BE-C8F1A24D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C8B05-DD23-4AA0-8CE8-C4288BC7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03899-5540-4BBF-B077-0A56D561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061CE-6E34-4637-8557-7579B702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B1C13-9CFB-4F1A-BDD4-36491E37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94885-DF82-4FEF-8A37-CD050744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6E3B5-C81C-444A-88DF-EC513DAA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739-E8C1-4F7D-A261-CCBBDFDB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428F1-E463-4E73-ABD2-A5ED07CC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BE699-4933-4E0E-91F0-A00A38EC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E17AB-AE88-4224-9E79-A247B990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7FC57-ACEF-40D5-9D84-40F7B433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511E0-215C-40C4-9628-991F4594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95B12-2AF6-4D5D-8121-95FF0C3D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08CF7-2770-438B-9F06-8048E2B2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90F2C-D140-4B40-9835-04C5E7D5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FD475-8DE9-4D5B-93E1-68B37D26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D969C-9B3D-4366-94E2-BADBB592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794A-8EFE-452A-BC93-B4E0557C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C1B0B-453B-4411-B09D-663A24E6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F2CBC-64CE-4DB2-9594-B0AD9DED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B7D64-CFCF-46D6-A408-2F7AE837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D61CB-B07D-49D3-8F28-59EAD4C6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69F69-2405-454A-9E6C-75B6FFDF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461-1865-4B5B-A1C4-E321E1F8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4C1B-B97D-4641-ADBB-C81E5C6FCD5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F635-B4DB-484E-B22B-DAFFA52041B5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EC68-E4F3-48AA-A33E-DB9CB01A5F2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8492-A03A-405C-99E6-7C2692049468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5B3E-0E86-4432-9A10-9F46E1CC907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95F4-F05E-4C05-BD90-22CF0C4EC615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B639-5A68-4780-9366-28932573D36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95B8-870C-49E0-B48D-B678AAC65D4A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B270-EA61-4470-928B-DF14DD5EF5D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63C8-80C5-47F7-B6E1-2076149A9B44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DC5E-0A71-4CC4-A49A-4FACF80A0D4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0B62-69A0-496C-9DF5-C7FFA8B3FA26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378B-E1AA-47D2-A2DC-ABF8DCAEC92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75A8-DB95-4480-8FE4-17D504C7BD16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28880" y="1785960"/>
            <a:ext cx="5286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600" spc="-1" strike="noStrike">
                <a:solidFill>
                  <a:srgbClr val="572314"/>
                </a:solidFill>
                <a:latin typeface="Gill Sans MT"/>
              </a:rPr>
              <a:t>THE EYE</a:t>
            </a:r>
            <a:endParaRPr b="0" lang="en-US" sz="8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Retinal Detachment</a:t>
            </a: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600" y="1447560"/>
            <a:ext cx="363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Can be caused by trauma – e.g. box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udden acceleration and deceleration – bungee jumping, car accid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3" descr="2mosley.jpg"/>
          <p:cNvPicPr/>
          <p:nvPr/>
        </p:nvPicPr>
        <p:blipFill>
          <a:blip r:embed="rId1"/>
          <a:stretch/>
        </p:blipFill>
        <p:spPr>
          <a:xfrm>
            <a:off x="5286240" y="1357200"/>
            <a:ext cx="3446640" cy="457200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Detached Reti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0" name="Content Placeholder 3" descr="Retinal_Tear_02[1].png"/>
          <p:cNvPicPr/>
          <p:nvPr/>
        </p:nvPicPr>
        <p:blipFill>
          <a:blip r:embed="rId1"/>
          <a:stretch/>
        </p:blipFill>
        <p:spPr>
          <a:xfrm>
            <a:off x="3171960" y="1571760"/>
            <a:ext cx="4043160" cy="435744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Avulsed Eye ball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ill it ever work agai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hat will need to be intact for it to work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Picture 3" descr="halloween0411.jpg"/>
          <p:cNvPicPr/>
          <p:nvPr/>
        </p:nvPicPr>
        <p:blipFill>
          <a:blip r:embed="rId1"/>
          <a:stretch/>
        </p:blipFill>
        <p:spPr>
          <a:xfrm>
            <a:off x="2786040" y="3071880"/>
            <a:ext cx="4357800" cy="30718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Anatomy of the Ey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Content Placeholder 3" descr="eye_anatomy.gif"/>
          <p:cNvPicPr/>
          <p:nvPr/>
        </p:nvPicPr>
        <p:blipFill>
          <a:blip r:embed="rId1"/>
          <a:stretch/>
        </p:blipFill>
        <p:spPr>
          <a:xfrm>
            <a:off x="2286000" y="1643040"/>
            <a:ext cx="5286240" cy="435780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ommon Disease of the Eye</a:t>
            </a:r>
            <a:br>
              <a:rPr sz="3900"/>
            </a:b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orneal Lacer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James is a 22 yrs old martial arts athlete who sustained a kick to his right eye 6 months ago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sustained injury to his right cornea laceration due to the contact le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was seen by an opthalmologist and treated for several week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But he still has blurred vision in his right ey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It is best seen under slit lamp, after flourescin stain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29200" y="2285640"/>
            <a:ext cx="2743200" cy="5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Corneal Laceration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Picture Placeholder 4" descr="Corneal_laceration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6385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The corneal injury is visualised as a white patch on the corne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86280" y="2285640"/>
            <a:ext cx="27432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Flourescin Staining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8" name="Picture Placeholder 4" descr="384470808_9a073d2be9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Flourescin staining selectively stains damaged corneal tissu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Further Treat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In full thickness corneal laceration, aqueous humour may leak out resulting in distortion of the shape of the eyeball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wanted to continue fighting, so further treatment with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Phototherapeutic keratectomy (PTK) or Corneal Transplan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Failure to do so, he may not be able to clear his Pre-participation examination with 'one good eye'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Catara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ataracts - clouding or opacification of the natural lens of the ey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ataract Vis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" name="Picture 3" descr="cat_m.jpg"/>
          <p:cNvPicPr/>
          <p:nvPr/>
        </p:nvPicPr>
        <p:blipFill>
          <a:blip r:embed="rId1"/>
          <a:stretch/>
        </p:blipFill>
        <p:spPr>
          <a:xfrm>
            <a:off x="2714760" y="2500200"/>
            <a:ext cx="4572000" cy="314352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How can cataracts be treated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99760" y="1285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The only treatment for cataracts is surgical removal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Cataract surgery is the removal of the eye lens and replacing it with an artificial on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Two basic types of surgical procedures to treat catara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If the eye is otherwise healthy, an intraocular lens may be used to replace the natural, cloudy lens. This lens requires no car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500440" y="1066680"/>
            <a:ext cx="3429000" cy="564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Professor Fred Hollow’s </a:t>
            </a:r>
            <a:r>
              <a:rPr b="1" lang="en-AU" sz="2400" spc="-1" strike="noStrike">
                <a:solidFill>
                  <a:srgbClr val="572314"/>
                </a:solidFill>
                <a:latin typeface="Gill Sans MT"/>
              </a:rPr>
              <a:t>work to restore sight to the cataract blind in developing countries was ongoing 15 years after his death.</a:t>
            </a:r>
            <a:br>
              <a:rPr sz="2400"/>
            </a:br>
            <a:r>
              <a:rPr b="1" lang="en-AU" sz="2400" spc="-1" strike="noStrike">
                <a:solidFill>
                  <a:srgbClr val="572314"/>
                </a:solidFill>
                <a:latin typeface="Gill Sans MT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2" name="Picture Placeholder 4" descr="fredhollows_wideweb__470x318,2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FRED HOLLOWS PERFORMING AN OCULAR EXAMINATION IN VIETNAM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20:52:08Z</dcterms:created>
  <dc:creator>pracstudent</dc:creator>
  <dc:description/>
  <dc:language>en-US</dc:language>
  <cp:lastModifiedBy>LEGION2</cp:lastModifiedBy>
  <dcterms:modified xsi:type="dcterms:W3CDTF">2016-01-14T12:09:32Z</dcterms:modified>
  <cp:revision>13</cp:revision>
  <dc:subject/>
  <dc:title>THE EYE</dc:title>
</cp:coreProperties>
</file>