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3502-E98D-4A25-8526-E98EAC586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7C2-27B9-4540-A3AE-68161DA2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BA1-8A19-4CE4-A293-C0EE3B94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D06-98A0-4020-9B4A-BBEBF7ED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5B4-B5F7-4390-B5A7-D196025C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0AA2-F46B-4882-ACEE-17DD9817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3E31-4285-4C3E-94CB-FA64DCB2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AD49-7D9E-4467-87CA-B29FE42E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ED4A-056F-454E-9158-4266318E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2290-8C5D-4FDE-9C61-E14943E1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5A4A-0255-44E3-B7EA-CA0F15CC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F06D-CB45-48C5-8BE0-3F1B8EE2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630-9AA1-4DDC-817C-C3338F45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BB47-501A-4AAD-BC37-718BDF64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060E-8164-45DF-9690-D27A644C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B076-1C6E-45D4-9F65-23F71D16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BB04-CE02-42E8-A1D3-B03B986E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3D38-574B-4CAE-9B38-5E6E246B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F195-A757-43B3-9B61-76A3E60F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B9AF-A16C-48D1-AEEF-095CF2CE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228D9-BE27-4911-AF84-85D997CE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D4C8-D4D3-485E-B60A-A9E440E8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FAF81-4244-4174-8D3C-AC578CBB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E47-E2D1-4720-9C2E-5567ECA0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D457-EADB-4756-81BD-FEE448BF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329F-98EF-413D-B8AA-638C3007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6465-0D51-46DE-8107-751AAF08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0422-175D-4D4D-822A-F1DF025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9BC9E-3E60-40D7-93E2-5BEA5A95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A5B5-F70F-4EEA-B219-589E34C2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EFA6-B343-4707-8C90-8D83372E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367A-C26D-4AA0-AE33-42EC9F8C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DEC0-755B-4559-8014-0E22E681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E2B3-FA51-439B-85E2-A24A1C12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975-7296-4784-8DE8-23F4EEE8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AD3B-DDE5-4722-B026-67E0C02A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C6A5-9A8F-4800-9C2D-2B66EC1D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4D095-FB76-476A-AAB6-BEA2C83D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8394-B2E7-48C3-ABC4-8143FE30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3746-CDAE-4060-B5B0-BF694CA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7A86D-F715-4244-8025-CDBE74F8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7EEBB-FA8A-4868-8926-EB8814C9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9476-480D-459D-B6F0-496DE0D6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F858-B38A-47A1-80A1-8ADC4EFE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411A9-EF20-4FE4-9DE5-7BB5A4B7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597-9ED5-43AE-80A0-271B53C1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8FE9A-BC72-4957-A865-8BD0A599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FA6C9-6662-428E-B795-CF25F69B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23184-8C02-45F0-AFE9-D2931B03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81A05-D2D1-4738-A250-96327799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2BA88-959C-4345-BE2B-6B04998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2CCC9-2B7B-42B7-98F8-B7C0870A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E5F62-C480-4E6A-9D66-DB34918C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38297-F964-4F67-8C17-B7E545A8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5E702-1817-4C09-9D5F-50D78478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64E7A-F9A8-45CD-9CCF-15556D27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B7B-11C9-4978-8019-12BBE484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32F35-D2C2-45E0-8691-79788B83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B5BB1-07A6-41E0-934D-97859C7B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174A4-1F52-4683-94A3-07353749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B2748-2C14-48E0-9668-AE742BEF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747C3-53DD-4CCF-A94D-A59692EB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2CE3C-44A3-45E2-8BE8-7F45FD85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1EF49-C491-45B8-9EDB-4EC22F99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234E1-79FF-4127-B47E-CD893435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46119-5110-460F-92CE-2E0F3A21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807FB-5862-499D-8AAA-0F83B819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042-E05A-4307-9B2A-C407522A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D203F-C440-4BDB-80BB-2D7611EC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1F901-9EC7-4342-B01F-02B4EC1A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1CD7-1CBA-4BA6-85A7-63D9785C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9ECFB-8C57-40D5-9E86-1901D519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8B9D1-96B5-4AE2-B6C4-48FF0196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BD2F3-3FCC-498A-A2E7-E86849B9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A42F5-ADFC-4DE5-B369-39231CC5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4E36A-9D24-4B51-A714-67EDE9E3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8E1D6-AD8E-44C9-86C6-4636C493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3913C-9439-4902-80E6-807A9C8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683-9416-4583-8BEC-44A3F869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B0ABA-2AB9-442F-91CB-6C5B995D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B8B3-DD08-4CE8-A583-3E1FB944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4D618-76BE-4DDC-878F-A8CAB683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23C80-8FD3-4319-B19D-72BA611B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96054-0D85-4738-82F3-B8E871C1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A75-47C2-4E37-9A33-C34A10D4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8989-0088-41DF-9C50-EAF2AD759CD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54BA-8F0E-4EFD-9D29-3162768BD9C2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D169-0EF4-4852-A71C-47B078D3005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1E6C-D1BE-434C-A3C6-605EE1B4605C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A10A-D44F-4749-8B43-2C67A8A0D5B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DEC4-E9FD-48EA-BCFE-313124F9F6BD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CA9C-DFAF-4BC7-9A12-FE34F41F4BB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61ED-C565-4285-A2BB-B813D0CC05C6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A580-E81C-49B0-904F-A541F878F2E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2F27-3E95-4B41-9AE4-4F2079D1DF3E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FCF5-4DCF-4456-95FC-706B812FA82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BE0E-0673-42ED-AE79-2E11B7B4D309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734A-3FE4-49F8-BE40-0B5DB222466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D455-AF3A-4DD2-B5C9-68F24D0717CD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28880" y="1785960"/>
            <a:ext cx="5286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572314"/>
                </a:solidFill>
                <a:latin typeface="Gill Sans MT"/>
              </a:rPr>
              <a:t>THE EYE</a:t>
            </a:r>
            <a:endParaRPr b="0" lang="en-US" sz="8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Retinal Detachment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600" y="1447560"/>
            <a:ext cx="363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an be caused by trauma – e.g. box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udden acceleration and deceleration – bungee jumping, car acci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2mosley.jpg"/>
          <p:cNvPicPr/>
          <p:nvPr/>
        </p:nvPicPr>
        <p:blipFill>
          <a:blip r:embed="rId1"/>
          <a:stretch/>
        </p:blipFill>
        <p:spPr>
          <a:xfrm>
            <a:off x="5286240" y="1357200"/>
            <a:ext cx="3446640" cy="4572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Detached Re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Content Placeholder 3" descr="Retinal_Tear_02[1].png"/>
          <p:cNvPicPr/>
          <p:nvPr/>
        </p:nvPicPr>
        <p:blipFill>
          <a:blip r:embed="rId1"/>
          <a:stretch/>
        </p:blipFill>
        <p:spPr>
          <a:xfrm>
            <a:off x="3171960" y="1571760"/>
            <a:ext cx="4043160" cy="4357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Avulsed Eye ball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ill it ever work agai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hat will need to be intact for it to work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3" descr="halloween0411.jpg"/>
          <p:cNvPicPr/>
          <p:nvPr/>
        </p:nvPicPr>
        <p:blipFill>
          <a:blip r:embed="rId1"/>
          <a:stretch/>
        </p:blipFill>
        <p:spPr>
          <a:xfrm>
            <a:off x="2786040" y="307188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Anatomy of the Ey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Content Placeholder 3" descr="eye_anatomy.gif"/>
          <p:cNvPicPr/>
          <p:nvPr/>
        </p:nvPicPr>
        <p:blipFill>
          <a:blip r:embed="rId1"/>
          <a:stretch/>
        </p:blipFill>
        <p:spPr>
          <a:xfrm>
            <a:off x="2286000" y="1643040"/>
            <a:ext cx="5286240" cy="43578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mmon Disease of the Eye</a:t>
            </a:r>
            <a:br>
              <a:rPr sz="3900"/>
            </a:b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James is a 22 yrs old martial arts athlete who sustained a kick to his right eye 6 months ago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sustained injury to his right cornea laceration due to the contact le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s seen by an opthalmologist and treated for several week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But he still has blurred vision in his right ey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t is best seen under slit lamp, after flourescin stai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29200" y="2285640"/>
            <a:ext cx="27432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Picture Placeholder 4" descr="Corneal_laceration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6385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The corneal injury is visualised as a white patch on the corne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86280" y="2285640"/>
            <a:ext cx="27432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Flourescin Staining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Placeholder 4" descr="384470808_9a073d2be9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lourescin staining selectively stains damaged corneal tissu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urther Treat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n full thickness corneal laceration, aqueous humour may leak out resulting in distortion of the shape of the eyebal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nted to continue fighting, so further treatment with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Phototherapeutic keratectomy (PTK) or Corneal Transpla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Failure to do so, he may not be able to clear his Pre-participation examination with 'one good eye'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atara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s - clouding or opacification of the natural lens of the ey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 Vis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3" descr="cat_m.jpg"/>
          <p:cNvPicPr/>
          <p:nvPr/>
        </p:nvPicPr>
        <p:blipFill>
          <a:blip r:embed="rId1"/>
          <a:stretch/>
        </p:blipFill>
        <p:spPr>
          <a:xfrm>
            <a:off x="2714760" y="250020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How can cataracts be treated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997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he only treatment for cataracts is surgical remov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Cataract surgery is the removal of the eye lens and replacing it with an artificial on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wo basic types of surgical procedures to treat catara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f the eye is otherwise healthy, an intraocular lens may be used to replace the natural, cloudy lens. This lens requires no car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500440" y="1066680"/>
            <a:ext cx="3429000" cy="564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Professor Fred Hollow’s </a:t>
            </a: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work to restore sight to the cataract blind in developing countries was ongoing 15 years after his death.</a:t>
            </a:r>
            <a:br>
              <a:rPr sz="2400"/>
            </a:b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Placeholder 4" descr="fredhollows_wideweb__470x318,2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RED HOLLOWS PERFORMING AN OCULAR EXAMINATION IN VIETNAM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20:52:08Z</dcterms:created>
  <dc:creator>pracstudent</dc:creator>
  <dc:description/>
  <dc:language>en-US</dc:language>
  <cp:lastModifiedBy>LEGION2</cp:lastModifiedBy>
  <dcterms:modified xsi:type="dcterms:W3CDTF">2016-01-14T12:09:32Z</dcterms:modified>
  <cp:revision>13</cp:revision>
  <dc:subject/>
  <dc:title>THE EYE</dc:title>
</cp:coreProperties>
</file>