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5B72-6CDB-403C-81A3-AC026B8343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EE9-2F73-4486-9EF1-CCE138B4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9D1-60E6-4D03-B1DE-D380B6CE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A89-23E0-476E-926D-FF4E059A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C74-6EF9-448B-BA43-12CCE7CE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C09-ACED-4260-8ECD-8AF7D1B9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9C0-78D8-4961-865D-C145A022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C0CD-2105-40C4-BFDA-821C346E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5E95-4A55-4B01-94D6-81FF07A0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F249-88DF-4763-B6A8-CBEDB101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7D0-64B6-4DB4-9604-D5FE03D6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997-A6C8-48D1-B018-2EBA7D6B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8C1-9A48-4728-9211-6B7C9F38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076B-5BF7-424C-9579-CF17E8B41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LEGION2</dc:creator>
  <dc:description/>
  <dc:language>en-US</dc:language>
  <cp:lastModifiedBy>LEGION2</cp:lastModifiedBy>
  <dcterms:modified xsi:type="dcterms:W3CDTF">2016-01-14T12:04:34Z</dcterms:modified>
  <cp:revision>7</cp:revision>
  <dc:subject/>
  <dc:title>The components of the blood</dc:title>
</cp:coreProperties>
</file>