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8B74-D94F-4548-820A-C5F8DC0B921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onents of the bloo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ir j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ponents of the bl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ir j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 on the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 of blood carries oxygen to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 red blood cells flat disc-shap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job of platele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a white blood cell carries out its j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straw-coloured liquid which carries all the other parts of blood call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o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art of blood carries oxygen to cel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red blood cells flat disc-shap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job of platele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a white blood cell carries out its jo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traw-coloured liquid which carries all the other parts of blood ca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questions on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cell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cell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questions on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ce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ce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blood made up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down products of digestion, such as glucose, fatty acids and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solved mineral sa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lood made up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products of digestion, such as glucose, fatty acids and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solved mineral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plasm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is the liquid part of the blood which carries everything el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is a straw-yellow coloured liq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everything in plasma was removed, plasma would look like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plasm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is the liquid part of the blood which carries everything e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is a straw-yellow coloured 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everything in plasma was removed, plasma would look like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 different parts of blood look like under a microscop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the different parts of blood look like under a micro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job of red blood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ve a round, flat disc shape for a large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o not have a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ntain haemoglobin which combines with oxygen in areas of high concentration to form oxyhaemoglob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 + haemoglobin         oxyhaemoglob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 carry oxygen to the cells of the body for use in res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job of red blood cel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round, flat disc shape for a large surfac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o not have a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ntain haemoglobin which combines with oxygen in areas of high concentration to form oxy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+ haemoglobin         oxy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carry oxygen to the cells of the body for use in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help the body to fight invading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will engulf and ingest invading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help the body to fight invading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will engulf and ingest invading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important jobs of the white blood cel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roduce antibodies which can recognise and fight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roduce antitoxins which neutralise the toxins (poisons) that bacteria produce, which make us feel 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mportant jobs of the white blood cel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antibodies which can recognise and fight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antitoxins which neutralise the toxins (poisons) that bacteria produce, which make us feel 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platelet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telets are fragments of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job of platelets is to help blood clot and form a sc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telets are involved in the formation of fibrin, which is needed for clotting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useful for stopping bleeding, and for preventing germs from entering the body through the c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platelet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 are fragments of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b of platelets is to help blood clot and form a sc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telets are involved in the formation of fibrin, which is needed for clotting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useful for stopping bleeding, and for preventing germs from entering the body through the c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 of the composition of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the composition of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115E-83B3-48C9-BE3E-888DC028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19C5-0C4B-40F4-8E93-2B558475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ED1C-25F8-409A-B100-F4E24A8D0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1D44-9F6E-4252-8113-B58525CF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FCB7-5DF1-4EC8-ACFF-B9E3AEEE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0356-CD40-4E95-9F42-FF198826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B73C-19BE-4E3D-AF7E-A12519AC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2764-C6BC-4283-A910-3E2A9466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7584-DE4D-46C8-9A1A-26BA232F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7E60-3F98-4B77-928F-637B3442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B808-30E5-4919-8D2B-FDF09FBE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44CF-069A-47C8-8112-41F87EE2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6D16-8220-4B93-919C-E7E42D12D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The components of the bloo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nd their jo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Questions on the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part of blood carries oxygen to cel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y are red blood cells flat disc-shap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the job of platele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escribe how a white blood cell carries out its jo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the straw-coloured liquid which carries all the other parts of blood cal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More questions on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 cell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 cell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blood1"/>
          <p:cNvPicPr/>
          <p:nvPr/>
        </p:nvPicPr>
        <p:blipFill>
          <a:blip r:embed="rId1"/>
          <a:stretch/>
        </p:blipFill>
        <p:spPr>
          <a:xfrm>
            <a:off x="2895480" y="1981080"/>
            <a:ext cx="3886200" cy="297180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>
            <a:off x="1828800" y="2438280"/>
            <a:ext cx="19051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6"/>
          <p:cNvSpPr/>
          <p:nvPr/>
        </p:nvSpPr>
        <p:spPr>
          <a:xfrm flipH="1" flipV="1">
            <a:off x="6019560" y="4038480"/>
            <a:ext cx="2286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09588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44792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is blood made up o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d blood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reakdown products of digestion, such as glucose, fatty acids and amino 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solved mineral sa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is plasm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lasma is the liquid part of the blood which carries everything e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lasma is a straw-yellow coloured liq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 everything in plasma was removed, plasma would look like t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4"/>
          <p:cNvGraphicFramePr/>
          <p:nvPr/>
        </p:nvGraphicFramePr>
        <p:xfrm>
          <a:off x="6400800" y="4191120"/>
          <a:ext cx="608040" cy="23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191120"/>
                    <a:ext cx="608040" cy="23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What do the different parts of blood look like under a microscop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blood"/>
          <p:cNvPicPr/>
          <p:nvPr/>
        </p:nvPicPr>
        <p:blipFill>
          <a:blip r:embed="rId1"/>
          <a:stretch/>
        </p:blipFill>
        <p:spPr>
          <a:xfrm>
            <a:off x="1219320" y="1905120"/>
            <a:ext cx="6248160" cy="4419360"/>
          </a:xfrm>
          <a:prstGeom prst="rect">
            <a:avLst/>
          </a:prstGeom>
          <a:ln w="0">
            <a:noFill/>
          </a:ln>
        </p:spPr>
      </p:pic>
      <p:sp>
        <p:nvSpPr>
          <p:cNvPr id="61" name="Line 4"/>
          <p:cNvSpPr/>
          <p:nvPr/>
        </p:nvSpPr>
        <p:spPr>
          <a:xfrm>
            <a:off x="762120" y="2666880"/>
            <a:ext cx="914400" cy="3812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5"/>
          <p:cNvSpPr/>
          <p:nvPr/>
        </p:nvSpPr>
        <p:spPr>
          <a:xfrm>
            <a:off x="914400" y="3124080"/>
            <a:ext cx="609480" cy="6098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0" y="26668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7"/>
          <p:cNvSpPr/>
          <p:nvPr/>
        </p:nvSpPr>
        <p:spPr>
          <a:xfrm flipH="1" flipV="1">
            <a:off x="5486040" y="3809520"/>
            <a:ext cx="2057400" cy="3812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8"/>
          <p:cNvSpPr/>
          <p:nvPr/>
        </p:nvSpPr>
        <p:spPr>
          <a:xfrm flipH="1" flipV="1">
            <a:off x="4419720" y="2666520"/>
            <a:ext cx="3124080" cy="121932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467480" y="3809880"/>
            <a:ext cx="10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What is the job of red blood cell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have a round, flat disc shape for a large surfac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do not have a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contain haemoglobin which combines with oxygen in areas of high concentration to form oxyhaemoglo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Oxygen + haemoglobin         oxyhaemoglo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 blood cells carry oxygen to the cells of the body for use in re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red-blood-cells"/>
          <p:cNvPicPr/>
          <p:nvPr/>
        </p:nvPicPr>
        <p:blipFill>
          <a:blip r:embed="rId1"/>
          <a:stretch/>
        </p:blipFill>
        <p:spPr>
          <a:xfrm>
            <a:off x="4724280" y="2133720"/>
            <a:ext cx="4038840" cy="3867120"/>
          </a:xfrm>
          <a:prstGeom prst="rect">
            <a:avLst/>
          </a:prstGeom>
          <a:ln w="0">
            <a:noFill/>
          </a:ln>
        </p:spPr>
      </p:pic>
      <p:sp>
        <p:nvSpPr>
          <p:cNvPr id="71" name="Line 7"/>
          <p:cNvSpPr/>
          <p:nvPr/>
        </p:nvSpPr>
        <p:spPr>
          <a:xfrm>
            <a:off x="2666880" y="46483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do white blood cell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help the body to fight invading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will engulf and ingest invading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engulfing bacteria"/>
          <p:cNvPicPr/>
          <p:nvPr/>
        </p:nvPicPr>
        <p:blipFill>
          <a:blip r:embed="rId1"/>
          <a:stretch/>
        </p:blipFill>
        <p:spPr>
          <a:xfrm>
            <a:off x="685800" y="2070000"/>
            <a:ext cx="3809880" cy="39355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ther important jobs of the white blood cel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y produc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ibodie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can recognise and fight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96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y produc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itoxi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neutralise the toxins (poisons) that bacteria produce, which make us feel 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do platele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latelets are fragments of ce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job of platelets is to help blood clot and form a sc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platelets are involved in the formation of fibrin, which is needed for clotting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useful for stopping bleeding, and for preventing germs from entering the body through the c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Summary of the composition of bl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blood composition"/>
          <p:cNvPicPr/>
          <p:nvPr/>
        </p:nvPicPr>
        <p:blipFill>
          <a:blip r:embed="rId1"/>
          <a:stretch/>
        </p:blipFill>
        <p:spPr>
          <a:xfrm>
            <a:off x="457200" y="8380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5:39:52Z</dcterms:created>
  <dc:creator>LEGION2</dc:creator>
  <dc:description/>
  <dc:language>en-US</dc:language>
  <cp:lastModifiedBy>LEGION2</cp:lastModifiedBy>
  <dcterms:modified xsi:type="dcterms:W3CDTF">2016-01-14T12:04:34Z</dcterms:modified>
  <cp:revision>7</cp:revision>
  <dc:subject/>
  <dc:title>The components of the blood</dc:title>
</cp:coreProperties>
</file>