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8575-3384-4DA2-A089-D024E885BBB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BB46-5E66-41E5-85C5-C253C6C9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99C4-56BE-4D6A-A317-B124E626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E7C7-C44D-40BF-9803-0D565398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86B1-91F7-48B3-AA53-DEE09FB1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E0F9-DF40-4601-B94C-ADB0667C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346B-4CF6-4307-9A3B-4F9780B2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89BD-66C4-4B9F-BECC-4381641F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94FA-10A5-406E-9F30-C6B67C63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1263-4059-4433-957D-0B9D9258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3202-379A-4DD3-897E-F7DA9E10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1105-7052-46E5-AF04-90A1F13B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CD80-86E0-4F37-952D-E7783D13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43DF-2C89-41AA-BD79-BE2AF0E78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he components of the bloo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Questions on the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More questions on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blood1"/>
          <p:cNvPicPr/>
          <p:nvPr/>
        </p:nvPicPr>
        <p:blipFill>
          <a:blip r:embed="rId1"/>
          <a:stretch/>
        </p:blipFill>
        <p:spPr>
          <a:xfrm>
            <a:off x="2895480" y="198108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>
            <a:off x="1828800" y="2438280"/>
            <a:ext cx="1905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 flipH="1" flipV="1">
            <a:off x="6019560" y="4038480"/>
            <a:ext cx="228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5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4479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blood made up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plasm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6400800" y="4191120"/>
          <a:ext cx="60804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191120"/>
                    <a:ext cx="60804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do the different parts of blood look like under a microscop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blood"/>
          <p:cNvPicPr/>
          <p:nvPr/>
        </p:nvPicPr>
        <p:blipFill>
          <a:blip r:embed="rId1"/>
          <a:stretch/>
        </p:blipFill>
        <p:spPr>
          <a:xfrm>
            <a:off x="1219320" y="1905120"/>
            <a:ext cx="6248160" cy="441936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>
            <a:off x="762120" y="2666880"/>
            <a:ext cx="914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914400" y="3124080"/>
            <a:ext cx="609480" cy="6098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6668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 flipH="1" flipV="1">
            <a:off x="5486040" y="3809520"/>
            <a:ext cx="2057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 flipH="1" flipV="1">
            <a:off x="4419720" y="2666520"/>
            <a:ext cx="3124080" cy="12193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467480" y="38098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is the job of red blood ce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Oxygen + haemoglobin         oxyhaemoglo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red-blood-cells"/>
          <p:cNvPicPr/>
          <p:nvPr/>
        </p:nvPicPr>
        <p:blipFill>
          <a:blip r:embed="rId1"/>
          <a:stretch/>
        </p:blipFill>
        <p:spPr>
          <a:xfrm>
            <a:off x="4724280" y="2133720"/>
            <a:ext cx="4038840" cy="3867120"/>
          </a:xfrm>
          <a:prstGeom prst="rect">
            <a:avLst/>
          </a:prstGeom>
          <a:ln w="0">
            <a:noFill/>
          </a:ln>
        </p:spPr>
      </p:pic>
      <p:sp>
        <p:nvSpPr>
          <p:cNvPr id="71" name="Line 7"/>
          <p:cNvSpPr/>
          <p:nvPr/>
        </p:nvSpPr>
        <p:spPr>
          <a:xfrm>
            <a:off x="26668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white blood cell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engulfing bacteria"/>
          <p:cNvPicPr/>
          <p:nvPr/>
        </p:nvPicPr>
        <p:blipFill>
          <a:blip r:embed="rId1"/>
          <a:stretch/>
        </p:blipFill>
        <p:spPr>
          <a:xfrm>
            <a:off x="685800" y="2070000"/>
            <a:ext cx="3809880" cy="3935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bodie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can recognise and fight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toxi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neutralise the toxins (poisons) that bacteria produce, which make us feel 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platele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ummary of the composition of bl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blood composition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5:39:52Z</dcterms:created>
  <dc:creator>LEGION2</dc:creator>
  <dc:description/>
  <dc:language>en-US</dc:language>
  <cp:lastModifiedBy>LEGION2</cp:lastModifiedBy>
  <dcterms:modified xsi:type="dcterms:W3CDTF">2016-01-14T12:04:34Z</dcterms:modified>
  <cp:revision>7</cp:revision>
  <dc:subject/>
  <dc:title>The components of the blood</dc:title>
</cp:coreProperties>
</file>