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40B4-1DC4-437A-A160-D263546BD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Cycle and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Cycle and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replicated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communicate with each other  so they don’t become overcrow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occur in the DNA when it is repli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that start and stop the cell cycle are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do not communicate with each other and tumors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replicated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communicate with each other  so they don’t become overcrow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occur in the DNA when it is repli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that start and stop the cell cycle are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do not communicate with each other and tumors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alt-tab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alt-tab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Before a cell divides, the DNA is checked   to make sure it has replicated correctly. (If DNA does not copy itself correctly, a gene mutation occ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Before a cell divides, the DNA is checked   to make sure it has replicated correctly. (If DNA does not copy itself correctly, a gene mutation occ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is a disease of the cell cycle.  Some of the body’s cells divide uncontrollably and tumors fo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is a disease of the cell cycle.  Some of the body’s cells divide uncontrollably and tumors fo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may be cau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mo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ollu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hemica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may be cau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mo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ollu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hemica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imations of cancer cells dividing: click on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imations of cancer cells dividing: click on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ED5E-F2DC-44E3-8F18-97A73780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AE7-A3DF-4171-ADC4-56921AF8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A38E-6B36-40E8-B3D9-C0185F35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5BAA-80AF-44E5-9F0E-283CB528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ADF-C54B-49CD-B824-D27CFF3C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9B6-EC87-41FA-B7D7-BEE4D28C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0C6-9346-476C-9FAA-6BA99E67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BEE-B49A-46B7-A36B-93C9E146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E6BF-38A8-42EE-87BB-55E25964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C3B-87CD-4826-98BE-CCAF1ECB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F0B-84EB-4E02-8C3B-A5FA976A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496E-1ABA-4BFD-BA7A-1467716C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4800-2252-4DE5-8A7A-1A0AAE2D5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The Cell Cycle and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cycle"/>
          <p:cNvPicPr/>
          <p:nvPr/>
        </p:nvPicPr>
        <p:blipFill>
          <a:blip r:embed="rId1"/>
          <a:stretch/>
        </p:blipFill>
        <p:spPr>
          <a:xfrm>
            <a:off x="609480" y="1981080"/>
            <a:ext cx="3619800" cy="360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5"/>
          <p:cNvPicPr/>
          <p:nvPr/>
        </p:nvPicPr>
        <p:blipFill>
          <a:blip r:embed="rId2"/>
          <a:stretch/>
        </p:blipFill>
        <p:spPr>
          <a:xfrm>
            <a:off x="5181480" y="1752480"/>
            <a:ext cx="2819520" cy="1976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18"/>
          <p:cNvPicPr/>
          <p:nvPr/>
        </p:nvPicPr>
        <p:blipFill>
          <a:blip r:embed="rId3"/>
          <a:stretch/>
        </p:blipFill>
        <p:spPr>
          <a:xfrm>
            <a:off x="5867280" y="3962520"/>
            <a:ext cx="2667240" cy="18669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429000" y="6019920"/>
            <a:ext cx="268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1"/>
          <a:stretch/>
        </p:blipFill>
        <p:spPr>
          <a:xfrm>
            <a:off x="2390760" y="1795320"/>
            <a:ext cx="4362480" cy="3267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3946680" y="514188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352680" y="510552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Normal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DNA is replicated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. Chemical signals start and stop the cell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. Cells communicate with each other  so they don’t become overcrow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anc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utations occur in the DNA when it is replic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. Chemical signals that start and stop the cell cycle are ign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. Cells do not communicate with each other and tumors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304920" y="380880"/>
            <a:ext cx="84582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reating Can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ycle"/>
          <p:cNvPicPr/>
          <p:nvPr/>
        </p:nvPicPr>
        <p:blipFill>
          <a:blip r:embed="rId1"/>
          <a:stretch/>
        </p:blipFill>
        <p:spPr>
          <a:xfrm>
            <a:off x="2743200" y="2743200"/>
            <a:ext cx="3809880" cy="37893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cell"/>
          <p:cNvPicPr/>
          <p:nvPr/>
        </p:nvPicPr>
        <p:blipFill>
          <a:blip r:embed="rId1"/>
          <a:stretch/>
        </p:blipFill>
        <p:spPr>
          <a:xfrm>
            <a:off x="1676520" y="1600200"/>
            <a:ext cx="3467160" cy="3162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5325120" y="4952880"/>
            <a:ext cx="34725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t-t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.Before a cell divides, the DNA is checked   to make sure it has replicated correctly. (If DNA does not copy itself correctly, a gen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utation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occ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3124440" cy="2030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775480" y="5751360"/>
            <a:ext cx="260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867280" y="60199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2436840" cy="3443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505320" y="5791320"/>
            <a:ext cx="30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5194440" y="2286000"/>
            <a:ext cx="2317680" cy="3276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346480" y="5943600"/>
            <a:ext cx="455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2857320" cy="26859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an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sease of the cell cy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Some of the body’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vide uncontrollab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um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iver_cancer_nodular_hodgkins_metast_liver_cancer"/>
          <p:cNvPicPr/>
          <p:nvPr/>
        </p:nvPicPr>
        <p:blipFill>
          <a:blip r:embed="rId1"/>
          <a:stretch/>
        </p:blipFill>
        <p:spPr>
          <a:xfrm>
            <a:off x="990720" y="3581280"/>
            <a:ext cx="300996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19222"/>
          <p:cNvPicPr/>
          <p:nvPr/>
        </p:nvPicPr>
        <p:blipFill>
          <a:blip r:embed="rId2"/>
          <a:stretch/>
        </p:blipFill>
        <p:spPr>
          <a:xfrm>
            <a:off x="4876920" y="320040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343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Mutations may be caused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1.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2. smo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3. Pollut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4. chemical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5. vir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na-mutation"/>
          <p:cNvPicPr/>
          <p:nvPr/>
        </p:nvPicPr>
        <p:blipFill>
          <a:blip r:embed="rId1"/>
          <a:stretch/>
        </p:blipFill>
        <p:spPr>
          <a:xfrm>
            <a:off x="152280" y="2514600"/>
            <a:ext cx="4953240" cy="24336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norm_cancer"/>
          <p:cNvPicPr/>
          <p:nvPr/>
        </p:nvPicPr>
        <p:blipFill>
          <a:blip r:embed="rId1"/>
          <a:stretch/>
        </p:blipFill>
        <p:spPr>
          <a:xfrm>
            <a:off x="5410080" y="1752480"/>
            <a:ext cx="2552760" cy="155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Understanding Cancer"/>
          <p:cNvPicPr/>
          <p:nvPr/>
        </p:nvPicPr>
        <p:blipFill>
          <a:blip r:embed="rId2"/>
          <a:stretch/>
        </p:blipFill>
        <p:spPr>
          <a:xfrm>
            <a:off x="1143000" y="1828800"/>
            <a:ext cx="2857680" cy="4276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getImage"/>
          <p:cNvPicPr/>
          <p:nvPr/>
        </p:nvPicPr>
        <p:blipFill>
          <a:blip r:embed="rId3"/>
          <a:stretch/>
        </p:blipFill>
        <p:spPr>
          <a:xfrm>
            <a:off x="4952880" y="3581280"/>
            <a:ext cx="3724560" cy="24289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83280" y="5638680"/>
            <a:ext cx="43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animations of cancer cells dividing: click on pi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038840" cy="2719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3:24:33Z</dcterms:created>
  <dc:creator>Tim Lally</dc:creator>
  <dc:description/>
  <dc:language>en-US</dc:language>
  <cp:lastModifiedBy>LEGION2</cp:lastModifiedBy>
  <dcterms:modified xsi:type="dcterms:W3CDTF">2016-01-14T11:27:30Z</dcterms:modified>
  <cp:revision>81</cp:revision>
  <dc:subject/>
  <dc:title>The Cell Cycle and Cancer</dc:title>
</cp:coreProperties>
</file>