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jpeg" ContentType="image/jpeg"/>
  <Override PartName="/ppt/media/image16.png" ContentType="image/png"/>
  <Override PartName="/ppt/media/image2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2.jpeg" ContentType="image/jpe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F7BC5-4034-4338-A9C9-6E29251CD3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ell Cycle and Canc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ell Cycle and Canc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e to DNA mutations, cancer cells cannot communicate with neighboring cells. Cells continue to grow and form tumo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cancer cells dividing: click on picture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kin canc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e to DNA mutations, cancer cells cannot communicate with neighboring cells. Cells continue to grow and form tumo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cancer cells dividing: click on picture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kin canc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l Cell Divi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is replicated proper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Chemical signals start and stop the cell cyc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Cells communicate with each other  so they don’t become overcrowd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cer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tations occur in the DNA when it is replica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Chemical signals that start and stop the cell cycle are ignor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Cells do not communicate with each other and tumors for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l Cell Divi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is replicated proper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Chemical signals start and stop the cell cyc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Cells communicate with each other  so they don’t become overcrowd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cer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tations occur in the DNA when it is replica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Chemical signals that start and stop the cell cycle are ignor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Cells do not communicate with each other and tumors for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eating Canc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cer treatments include drugs that can stop cancer cells from divi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eating Canc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cer treatments include drugs that can stop cancer cells from divi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ages of the Cell Cy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Click on picture for cell cycle animation 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 go to www.cancerquest.or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Use alt-tab keys to go between webs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ower point presentation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Click on blank space to proceed to next slide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ages of the Cell Cy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Click on picture for cell cycle animation 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 go to www.cancerquest.or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Use alt-tab keys to go between webs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ower point presentation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Click on blank space to proceed to next slide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several factors that regulate the cell cycle and assure a cell divides correct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Before a cell divides, the DNA is checked   to make sure it has replicated correctly. (If DNA does not copy itself correctly, a gene mutation occu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replication animation:click on DNA pi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several factors that regulate the cell cycle and assure a cell divides correct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Before a cell divides, the DNA is checked   to make sure it has replicated correctly. (If DNA does not copy itself correctly, a gene mutation occu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replication animation:click on DNA pi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Chemical Signals tell a cell when to start and stop dividing.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Target cells animation: click on go sig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Chemical Signals tell a cell when to start and stop dividing.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Target cells animation: click on go sig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ighboring cells communicate with dividing cells to regulate their growth als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rmal contact inhibition animation: click on petri dis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ighboring cells communicate with dividing cells to regulate their growth als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rmal contact inhibition animation: click on petri dis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cer is a disease of the cell cycle.  Some of the body’s cells divide uncontrollably and tumors for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mors in L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mor in Col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cer is a disease of the cell cycle.  Some of the body’s cells divide uncontrollably and tumors for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mors in L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mor in Col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mutations disrupt the cell cyc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tations may be caused b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smo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Pollut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chemicals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 viru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mutations disrupt the cell cyc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tations may be caused b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smo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Pollut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chemicals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 viru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le normal cells will stop dividing if there is a mutation in the DNA, cancer cells will continue to divide with mut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le normal cells will stop dividing if there is a mutation in the DNA, cancer cells will continue to divide with mut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e to DNA mutations, cancer cells ignore the chemical signals that start and stop the cell cyc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animations of cancer cells dividing: click on pictur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e to DNA mutations, cancer cells ignore the chemical signals that start and stop the cell cyc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animations of cancer cells dividing: click on pictur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78107-68CC-4E68-9281-4DDF89A6B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1701D-1698-4CD6-9977-DB2E94FD6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62C9F-1DBB-475A-973F-D9230C1C5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DC115-230C-4CD8-B532-14E8DBF9A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B4FC0-8128-4972-9C3F-1C731EA5F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B4B95-0AD4-48ED-8C7B-4D343E985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65524-F921-48D4-B3BB-7C5915208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25E60-6EFF-4D94-9774-B168C2F13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C767E-B130-446B-8D49-462CCD966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A5CC0-BD6F-419F-B32E-68F4CCD87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38397-A56C-437D-995F-946DF4B0D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510EE-5C53-4955-A4CB-612B2D35A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1A9C8-5293-4438-AF66-E3D81DBCCE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80"/>
                </a:solidFill>
                <a:latin typeface="Arial"/>
              </a:rPr>
              <a:t>The Cell Cycle and Canc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523880"/>
            <a:ext cx="403848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3" descr="cycle"/>
          <p:cNvPicPr/>
          <p:nvPr/>
        </p:nvPicPr>
        <p:blipFill>
          <a:blip r:embed="rId1"/>
          <a:stretch/>
        </p:blipFill>
        <p:spPr>
          <a:xfrm>
            <a:off x="609480" y="1981080"/>
            <a:ext cx="3619800" cy="36007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5" descr="5"/>
          <p:cNvPicPr/>
          <p:nvPr/>
        </p:nvPicPr>
        <p:blipFill>
          <a:blip r:embed="rId2"/>
          <a:stretch/>
        </p:blipFill>
        <p:spPr>
          <a:xfrm>
            <a:off x="5181480" y="1752480"/>
            <a:ext cx="2819520" cy="19764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7" descr="18"/>
          <p:cNvPicPr/>
          <p:nvPr/>
        </p:nvPicPr>
        <p:blipFill>
          <a:blip r:embed="rId3"/>
          <a:stretch/>
        </p:blipFill>
        <p:spPr>
          <a:xfrm>
            <a:off x="5867280" y="3962520"/>
            <a:ext cx="2667240" cy="1866960"/>
          </a:xfrm>
          <a:prstGeom prst="rect">
            <a:avLst/>
          </a:prstGeom>
          <a:ln w="0">
            <a:noFill/>
          </a:ln>
        </p:spPr>
      </p:pic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e to DNA mutations, cancer cells cannot communicate with neighboring cells. Cells continue to grow and form tumo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3429000" y="6019920"/>
            <a:ext cx="2682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cancer cells dividing: click on picture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8" descr=""/>
          <p:cNvPicPr/>
          <p:nvPr/>
        </p:nvPicPr>
        <p:blipFill>
          <a:blip r:embed="rId1"/>
          <a:stretch/>
        </p:blipFill>
        <p:spPr>
          <a:xfrm>
            <a:off x="2390760" y="1795320"/>
            <a:ext cx="4362480" cy="326736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9"/>
          <p:cNvSpPr/>
          <p:nvPr/>
        </p:nvSpPr>
        <p:spPr>
          <a:xfrm>
            <a:off x="3946680" y="5141880"/>
            <a:ext cx="1616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0"/>
          <p:cNvSpPr/>
          <p:nvPr/>
        </p:nvSpPr>
        <p:spPr>
          <a:xfrm>
            <a:off x="3352680" y="5105520"/>
            <a:ext cx="214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kin canc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0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89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Normal Cell Divi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333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DNA is replicated proper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2. Chemical signals start and stop the cell cyc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3. Cells communicate with each other  so they don’t become overcrow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Cancer Ce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333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Mutations occur in the DNA when it is replica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2. Chemical signals that start and stop the cell cycle are igno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3. Cells do not communicate with each other and tumors 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0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13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2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2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2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2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2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2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2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20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20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20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20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2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2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2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2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2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20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2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2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20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2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20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4"/>
          <p:cNvSpPr/>
          <p:nvPr/>
        </p:nvSpPr>
        <p:spPr>
          <a:xfrm>
            <a:off x="304920" y="380880"/>
            <a:ext cx="8458200" cy="24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Treating Canc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cer treatments include drugs that can stop cancer cells from divid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5" descr="cycle"/>
          <p:cNvPicPr/>
          <p:nvPr/>
        </p:nvPicPr>
        <p:blipFill>
          <a:blip r:embed="rId1"/>
          <a:stretch/>
        </p:blipFill>
        <p:spPr>
          <a:xfrm>
            <a:off x="2743200" y="2743200"/>
            <a:ext cx="3809880" cy="3789360"/>
          </a:xfrm>
          <a:prstGeom prst="rect">
            <a:avLst/>
          </a:prstGeom>
          <a:ln w="0">
            <a:noFill/>
          </a:ln>
        </p:spPr>
      </p:pic>
      <p:sp>
        <p:nvSpPr>
          <p:cNvPr id="1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nodeType="clickEffect" fill="hold">
                      <p:stCondLst>
                        <p:cond delay="0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83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Stages of the Cell Cy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6" descr="cell"/>
          <p:cNvPicPr/>
          <p:nvPr/>
        </p:nvPicPr>
        <p:blipFill>
          <a:blip r:embed="rId1"/>
          <a:stretch/>
        </p:blipFill>
        <p:spPr>
          <a:xfrm>
            <a:off x="1676520" y="1600200"/>
            <a:ext cx="3467160" cy="3162240"/>
          </a:xfrm>
          <a:prstGeom prst="rect">
            <a:avLst/>
          </a:prstGeom>
          <a:ln w="0">
            <a:noFill/>
          </a:ln>
        </p:spPr>
      </p:pic>
      <p:sp>
        <p:nvSpPr>
          <p:cNvPr id="58" name="Text Box 10"/>
          <p:cNvSpPr/>
          <p:nvPr/>
        </p:nvSpPr>
        <p:spPr>
          <a:xfrm>
            <a:off x="5325120" y="4952880"/>
            <a:ext cx="3472560" cy="12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Click on picture for cell cycle animation 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 go to www.cancerquest.or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Use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lt-tab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keys to go between webs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ower point presentation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Click on blank space to proceed to next slide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are several factors that regulate the cell cycle and assure a cell divides correct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Arial"/>
              </a:rPr>
              <a:t>1.Before a cell divides, the DNA is checked   to make sure it has replicated correctly. (If DNA does not copy itself correctly, a gene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mutation</a:t>
            </a:r>
            <a:r>
              <a:rPr b="0" lang="en-US" sz="2800" spc="-1" strike="noStrike">
                <a:solidFill>
                  <a:srgbClr val="3333ff"/>
                </a:solidFill>
                <a:latin typeface="Arial"/>
              </a:rPr>
              <a:t> occur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6" descr=""/>
          <p:cNvPicPr/>
          <p:nvPr/>
        </p:nvPicPr>
        <p:blipFill>
          <a:blip r:embed="rId1"/>
          <a:stretch/>
        </p:blipFill>
        <p:spPr>
          <a:xfrm>
            <a:off x="5410080" y="2895480"/>
            <a:ext cx="3124440" cy="2030400"/>
          </a:xfrm>
          <a:prstGeom prst="rect">
            <a:avLst/>
          </a:prstGeom>
          <a:ln w="0">
            <a:noFill/>
          </a:ln>
        </p:spPr>
      </p:pic>
      <p:sp>
        <p:nvSpPr>
          <p:cNvPr id="64" name="Text Box 7"/>
          <p:cNvSpPr/>
          <p:nvPr/>
        </p:nvSpPr>
        <p:spPr>
          <a:xfrm>
            <a:off x="5775480" y="5751360"/>
            <a:ext cx="2606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8"/>
          <p:cNvSpPr/>
          <p:nvPr/>
        </p:nvSpPr>
        <p:spPr>
          <a:xfrm>
            <a:off x="5867280" y="60199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NA replication animation:click on DNA pi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0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" dur="10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 Chemical Signals tell a cell when to start and stop dividing.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6" descr=""/>
          <p:cNvPicPr/>
          <p:nvPr/>
        </p:nvPicPr>
        <p:blipFill>
          <a:blip r:embed="rId1"/>
          <a:stretch/>
        </p:blipFill>
        <p:spPr>
          <a:xfrm>
            <a:off x="1523880" y="2209680"/>
            <a:ext cx="2436840" cy="3443400"/>
          </a:xfrm>
          <a:prstGeom prst="rect">
            <a:avLst/>
          </a:prstGeom>
          <a:ln w="0">
            <a:noFill/>
          </a:ln>
        </p:spPr>
      </p:pic>
      <p:sp>
        <p:nvSpPr>
          <p:cNvPr id="69" name="Text Box 4"/>
          <p:cNvSpPr/>
          <p:nvPr/>
        </p:nvSpPr>
        <p:spPr>
          <a:xfrm>
            <a:off x="3505320" y="5791320"/>
            <a:ext cx="3047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Target cells animation: click on go sig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8" descr=""/>
          <p:cNvPicPr/>
          <p:nvPr/>
        </p:nvPicPr>
        <p:blipFill>
          <a:blip r:embed="rId2"/>
          <a:stretch/>
        </p:blipFill>
        <p:spPr>
          <a:xfrm>
            <a:off x="5194440" y="2286000"/>
            <a:ext cx="2317680" cy="3276720"/>
          </a:xfrm>
          <a:prstGeom prst="rect">
            <a:avLst/>
          </a:prstGeom>
          <a:ln w="0">
            <a:noFill/>
          </a:ln>
        </p:spPr>
      </p:pic>
      <p:sp>
        <p:nvSpPr>
          <p:cNvPr id="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ighboring cells communicate with dividing cells to regulate their growth als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6"/>
          <p:cNvSpPr/>
          <p:nvPr/>
        </p:nvSpPr>
        <p:spPr>
          <a:xfrm>
            <a:off x="2346480" y="5943600"/>
            <a:ext cx="455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Normal contact inhibition animation: click on petri dish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7" descr=""/>
          <p:cNvPicPr/>
          <p:nvPr/>
        </p:nvPicPr>
        <p:blipFill>
          <a:blip r:embed="rId1"/>
          <a:stretch/>
        </p:blipFill>
        <p:spPr>
          <a:xfrm>
            <a:off x="3048120" y="2286000"/>
            <a:ext cx="2857320" cy="2685960"/>
          </a:xfrm>
          <a:prstGeom prst="rect">
            <a:avLst/>
          </a:prstGeom>
          <a:ln w="0">
            <a:noFill/>
          </a:ln>
        </p:spPr>
      </p:pic>
      <p:sp>
        <p:nvSpPr>
          <p:cNvPr id="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0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Canc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a 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disease of the cell cyc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 Some of the body’s 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cell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divide uncontrollabl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tumor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orm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umors in Li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umor in Col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7" descr="Liver_cancer_nodular_hodgkins_metast_liver_cancer"/>
          <p:cNvPicPr/>
          <p:nvPr/>
        </p:nvPicPr>
        <p:blipFill>
          <a:blip r:embed="rId1"/>
          <a:stretch/>
        </p:blipFill>
        <p:spPr>
          <a:xfrm>
            <a:off x="990720" y="3581280"/>
            <a:ext cx="3009960" cy="26575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9" descr="19222"/>
          <p:cNvPicPr/>
          <p:nvPr/>
        </p:nvPicPr>
        <p:blipFill>
          <a:blip r:embed="rId2"/>
          <a:stretch/>
        </p:blipFill>
        <p:spPr>
          <a:xfrm>
            <a:off x="4876920" y="3200400"/>
            <a:ext cx="3809880" cy="3048120"/>
          </a:xfrm>
          <a:prstGeom prst="rect">
            <a:avLst/>
          </a:prstGeom>
          <a:ln w="0">
            <a:noFill/>
          </a:ln>
        </p:spPr>
      </p:pic>
      <p:sp>
        <p:nvSpPr>
          <p:cNvPr id="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0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2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10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NA mutations disrupt the cell cyc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1920" y="1523880"/>
            <a:ext cx="434340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055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3333ff"/>
                </a:solidFill>
                <a:latin typeface="Arial"/>
              </a:rPr>
              <a:t>Mutations may be caused by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ff"/>
                </a:solidFill>
                <a:latin typeface="Arial"/>
              </a:rPr>
              <a:t>    </a:t>
            </a:r>
            <a:r>
              <a:rPr b="0" lang="en-US" sz="2600" spc="-1" strike="noStrike">
                <a:solidFill>
                  <a:srgbClr val="3333ff"/>
                </a:solidFill>
                <a:latin typeface="Arial"/>
              </a:rPr>
              <a:t>1. radi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ff"/>
                </a:solidFill>
                <a:latin typeface="Arial"/>
              </a:rPr>
              <a:t>    </a:t>
            </a:r>
            <a:r>
              <a:rPr b="0" lang="en-US" sz="2600" spc="-1" strike="noStrike">
                <a:solidFill>
                  <a:srgbClr val="3333ff"/>
                </a:solidFill>
                <a:latin typeface="Arial"/>
              </a:rPr>
              <a:t>2. smok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ff"/>
                </a:solidFill>
                <a:latin typeface="Arial"/>
              </a:rPr>
              <a:t>    </a:t>
            </a:r>
            <a:r>
              <a:rPr b="0" lang="en-US" sz="2600" spc="-1" strike="noStrike">
                <a:solidFill>
                  <a:srgbClr val="3333ff"/>
                </a:solidFill>
                <a:latin typeface="Arial"/>
              </a:rPr>
              <a:t>3. Polluta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ff"/>
                </a:solidFill>
                <a:latin typeface="Arial"/>
              </a:rPr>
              <a:t>    </a:t>
            </a:r>
            <a:r>
              <a:rPr b="0" lang="en-US" sz="2600" spc="-1" strike="noStrike">
                <a:solidFill>
                  <a:srgbClr val="3333ff"/>
                </a:solidFill>
                <a:latin typeface="Arial"/>
              </a:rPr>
              <a:t>4. chemicals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ff"/>
                </a:solidFill>
                <a:latin typeface="Arial"/>
              </a:rPr>
              <a:t>    </a:t>
            </a:r>
            <a:r>
              <a:rPr b="0" lang="en-US" sz="2600" spc="-1" strike="noStrike">
                <a:solidFill>
                  <a:srgbClr val="3333ff"/>
                </a:solidFill>
                <a:latin typeface="Arial"/>
              </a:rPr>
              <a:t>5. viru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ff"/>
                </a:solidFill>
                <a:latin typeface="Arial"/>
              </a:rPr>
              <a:t> 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5" descr="dna-mutation"/>
          <p:cNvPicPr/>
          <p:nvPr/>
        </p:nvPicPr>
        <p:blipFill>
          <a:blip r:embed="rId1"/>
          <a:stretch/>
        </p:blipFill>
        <p:spPr>
          <a:xfrm>
            <a:off x="152280" y="2514600"/>
            <a:ext cx="4953240" cy="2433600"/>
          </a:xfrm>
          <a:prstGeom prst="rect">
            <a:avLst/>
          </a:prstGeom>
          <a:ln w="0">
            <a:noFill/>
          </a:ln>
        </p:spPr>
      </p:pic>
      <p:sp>
        <p:nvSpPr>
          <p:cNvPr id="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0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6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1" dur="1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6" dur="10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1" dur="100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6" dur="1000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1" dur="1000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6" dur="1000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le normal cells will stop dividing if there is a mutation in the DNA, cancer cells will continue to divide with mu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6" descr="norm_cancer"/>
          <p:cNvPicPr/>
          <p:nvPr/>
        </p:nvPicPr>
        <p:blipFill>
          <a:blip r:embed="rId1"/>
          <a:stretch/>
        </p:blipFill>
        <p:spPr>
          <a:xfrm>
            <a:off x="5410080" y="1752480"/>
            <a:ext cx="2552760" cy="15526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8" descr="Understanding Cancer"/>
          <p:cNvPicPr/>
          <p:nvPr/>
        </p:nvPicPr>
        <p:blipFill>
          <a:blip r:embed="rId2"/>
          <a:stretch/>
        </p:blipFill>
        <p:spPr>
          <a:xfrm>
            <a:off x="1143000" y="1828800"/>
            <a:ext cx="2857680" cy="42768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0" descr="getImage"/>
          <p:cNvPicPr/>
          <p:nvPr/>
        </p:nvPicPr>
        <p:blipFill>
          <a:blip r:embed="rId3"/>
          <a:stretch/>
        </p:blipFill>
        <p:spPr>
          <a:xfrm>
            <a:off x="4952880" y="3581280"/>
            <a:ext cx="3724560" cy="2428920"/>
          </a:xfrm>
          <a:prstGeom prst="rect">
            <a:avLst/>
          </a:prstGeom>
          <a:ln w="0">
            <a:noFill/>
          </a:ln>
        </p:spPr>
      </p:pic>
      <p:sp>
        <p:nvSpPr>
          <p:cNvPr id="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0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3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63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68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e to DNA mutations, cancer cells ignore the chemical signals that start and stop the cell cyc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1583280" y="5638680"/>
            <a:ext cx="439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 animations of cancer cells dividing: click on pictur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5" descr=""/>
          <p:cNvPicPr/>
          <p:nvPr/>
        </p:nvPicPr>
        <p:blipFill>
          <a:blip r:embed="rId1"/>
          <a:stretch/>
        </p:blipFill>
        <p:spPr>
          <a:xfrm>
            <a:off x="2209680" y="2209680"/>
            <a:ext cx="4038840" cy="2719440"/>
          </a:xfrm>
          <a:prstGeom prst="rect">
            <a:avLst/>
          </a:prstGeom>
          <a:ln w="0">
            <a:noFill/>
          </a:ln>
        </p:spPr>
      </p:pic>
      <p:sp>
        <p:nvSpPr>
          <p:cNvPr id="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0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2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29T13:24:33Z</dcterms:created>
  <dc:creator>Tim Lally</dc:creator>
  <dc:description/>
  <dc:language>en-US</dc:language>
  <cp:lastModifiedBy>LEGION2</cp:lastModifiedBy>
  <dcterms:modified xsi:type="dcterms:W3CDTF">2016-01-14T11:27:30Z</dcterms:modified>
  <cp:revision>81</cp:revision>
  <dc:subject/>
  <dc:title>The Cell Cycle and Cancer</dc:title>
</cp:coreProperties>
</file>