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280F-1CA9-4C2A-B2BF-36A4059A4C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797-DD1E-49AF-BB2D-94ABF129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7CC-F316-40AA-9898-9C71DB45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FBE-D4AF-45E3-8445-059EC213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F9C-6738-4999-866A-E185119B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B9FA-59DB-453A-9C6E-B2A2ABE5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5530-4E0D-41B0-9075-95617CA7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ADFF-A038-42AC-8EAF-155F98E5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F89B-FEF3-4DB7-B37B-C9148795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7227-50CB-469E-AE89-61388931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9585-649B-4BAB-85A5-7A1E0938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7F4B-B1EE-4F82-917A-1575A5D8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10B-DA2C-4C9E-A034-CC3BD3C6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0433-7E0B-4A7C-8707-960C2FC7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3022-2DB6-4FAE-BE3A-283BE69B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2EA5-2818-424A-BA46-D9E53E0D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24EE-25FC-4D6C-AC28-6D533352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310D-817B-40BB-8868-F9E34428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4B0-06A8-479C-8872-F11837A9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136-40E3-4CDA-AB5A-F15CC19A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269-85D0-4369-91D2-808B8815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0C0-88E8-4FBB-98A5-01C507D1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FA2-5FA4-42EA-AF9B-603C83BC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C66-7BE0-43EC-9461-F80C7359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846-20A6-4DAE-AF00-406B11F7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B690-C1C5-442A-A652-5240E0197E2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832E-28AF-4463-A651-EF21FE89023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20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c00"/>
                </a:solidFill>
                <a:latin typeface="Times New Roman"/>
              </a:rPr>
              <a:t>Thalidomide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if this was you – how would your life be different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Victim%208"/>
          <p:cNvPicPr/>
          <p:nvPr/>
        </p:nvPicPr>
        <p:blipFill>
          <a:blip r:embed="rId1"/>
          <a:stretch/>
        </p:blipFill>
        <p:spPr>
          <a:xfrm>
            <a:off x="684360" y="249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thali"/>
          <p:cNvPicPr/>
          <p:nvPr/>
        </p:nvPicPr>
        <p:blipFill>
          <a:blip r:embed="rId2"/>
          <a:stretch/>
        </p:blipFill>
        <p:spPr>
          <a:xfrm>
            <a:off x="5181480" y="1905120"/>
            <a:ext cx="298152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Picture 3" descr="b1a thalidomide-boy-deformed-"/>
          <p:cNvPicPr/>
          <p:nvPr/>
        </p:nvPicPr>
        <p:blipFill>
          <a:blip r:embed="rId1"/>
          <a:stretch/>
        </p:blipFill>
        <p:spPr>
          <a:xfrm>
            <a:off x="2362320" y="990720"/>
            <a:ext cx="4800600" cy="476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0" name="Picture 3" descr="b1a thalidomidechildren300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41734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y did this happe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Thalidomide today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ly the drug was banned internationally for the  treatment of morning sick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But it has now been reintroduced as a treatment for lepro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 – bacterial infection of the skin and nerves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leper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leprosy"/>
          <p:cNvPicPr/>
          <p:nvPr/>
        </p:nvPicPr>
        <p:blipFill>
          <a:blip r:embed="rId1"/>
          <a:stretch/>
        </p:blipFill>
        <p:spPr>
          <a:xfrm>
            <a:off x="1600200" y="1905120"/>
            <a:ext cx="6477120" cy="43099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ke key notes on what we have discussed on this drug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 u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t discovered to hel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ide effects of untested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s it now used f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alidomide – the sleeping pil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b1a thalid pills"/>
          <p:cNvPicPr/>
          <p:nvPr/>
        </p:nvPicPr>
        <p:blipFill>
          <a:blip r:embed="rId1"/>
          <a:stretch/>
        </p:blipFill>
        <p:spPr>
          <a:xfrm>
            <a:off x="533520" y="1600200"/>
            <a:ext cx="3047760" cy="403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b1a 20Sleep%20Big"/>
          <p:cNvPicPr/>
          <p:nvPr/>
        </p:nvPicPr>
        <p:blipFill>
          <a:blip r:embed="rId2"/>
          <a:stretch/>
        </p:blipFill>
        <p:spPr>
          <a:xfrm>
            <a:off x="4191120" y="2133720"/>
            <a:ext cx="4343400" cy="28843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Thalidomide was first synthesized in West Germany in 1953 by Chemie Grünenthal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It was hailed as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wonder drug"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that provided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safe, sound sleep".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5" descr="b1a thalid pills"/>
          <p:cNvPicPr/>
          <p:nvPr/>
        </p:nvPicPr>
        <p:blipFill>
          <a:blip r:embed="rId1"/>
          <a:stretch/>
        </p:blipFill>
        <p:spPr>
          <a:xfrm>
            <a:off x="5580000" y="1916280"/>
            <a:ext cx="2195640" cy="290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24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cc"/>
                </a:solidFill>
                <a:latin typeface="Arial"/>
              </a:rPr>
              <a:t>However the drug was also found to cure morning sickness in pregnant wome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28" descr="morning sick"/>
          <p:cNvPicPr/>
          <p:nvPr/>
        </p:nvPicPr>
        <p:blipFill>
          <a:blip r:embed="rId1"/>
          <a:stretch/>
        </p:blipFill>
        <p:spPr>
          <a:xfrm>
            <a:off x="2819520" y="1981080"/>
            <a:ext cx="334152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Nausea vomiting in pregnancy NVP – 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GB" sz="36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 trimester ...(1/3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2060640"/>
            <a:ext cx="6781680" cy="4417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oetal development -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ultrasound-Jan22"/>
          <p:cNvPicPr/>
          <p:nvPr/>
        </p:nvPicPr>
        <p:blipFill>
          <a:blip r:embed="rId1"/>
          <a:stretch/>
        </p:blipFill>
        <p:spPr>
          <a:xfrm>
            <a:off x="1042920" y="1341360"/>
            <a:ext cx="6626160" cy="3743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Nausea vomiting in pregnancy NVP – 1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trimester (1/3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1197000"/>
            <a:ext cx="6781680" cy="3456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411280" y="1557360"/>
            <a:ext cx="1224000" cy="433440"/>
          </a:xfrm>
          <a:prstGeom prst="leftRightArrow">
            <a:avLst>
              <a:gd name="adj1" fmla="val 50000"/>
              <a:gd name="adj2" fmla="val 56217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Side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unfortunately molecules of the thalidomide chemical crossed the placenta and disrupt the growth patterns of the growing foe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fetus"/>
          <p:cNvPicPr/>
          <p:nvPr/>
        </p:nvPicPr>
        <p:blipFill>
          <a:blip r:embed="rId1"/>
          <a:stretch/>
        </p:blipFill>
        <p:spPr>
          <a:xfrm>
            <a:off x="2340000" y="3284640"/>
            <a:ext cx="4344840" cy="3267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3" descr="b1a thalidomide"/>
          <p:cNvPicPr/>
          <p:nvPr/>
        </p:nvPicPr>
        <p:blipFill>
          <a:blip r:embed="rId1"/>
          <a:stretch/>
        </p:blipFill>
        <p:spPr>
          <a:xfrm>
            <a:off x="5105520" y="2133720"/>
            <a:ext cx="352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b1a thalidomide2"/>
          <p:cNvPicPr/>
          <p:nvPr/>
        </p:nvPicPr>
        <p:blipFill>
          <a:blip r:embed="rId2"/>
          <a:stretch/>
        </p:blipFill>
        <p:spPr>
          <a:xfrm>
            <a:off x="304920" y="2057400"/>
            <a:ext cx="288432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0:58:53Z</dcterms:created>
  <dc:creator>R_Goldthorp</dc:creator>
  <dc:description/>
  <dc:language>en-US</dc:language>
  <cp:lastModifiedBy>LEGION2</cp:lastModifiedBy>
  <dcterms:modified xsi:type="dcterms:W3CDTF">2016-01-14T11:24:15Z</dcterms:modified>
  <cp:revision>13</cp:revision>
  <dc:subject/>
  <dc:title>Thalidomide</dc:title>
</cp:coreProperties>
</file>