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6C29-1E29-4E8B-8B8F-2B4BFA72FA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8C4-19F7-49A8-81F5-C0727034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9FB-621D-4E11-9C43-41D99682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973-511B-46FB-9207-F8408E83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268-50EA-4429-A383-BA68E027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6A45-1FC1-420E-8D1C-8A637CD4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73DC-0CC4-456A-A0F7-459BCA7F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7DDE-359D-4106-8F90-DC278EBD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E9B1-3C0C-48B4-93D1-6276A173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1334-4E6F-4CC0-9BBB-4A436B81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A213-CE1E-43B8-A470-67A4BB73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1B75-E5D9-426A-97CF-5AB95E1E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0A9-9C6B-436F-8A09-FCE9B667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9135-034B-4948-91E9-AC03E270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3D90-0D38-4D17-9F8C-8B16A9AC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6B69-A334-400F-8FAE-B6D4EADC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FD7B-871F-42D9-8F80-0C403B98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30C3-9503-45D5-B417-48E3135B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472-AC01-4866-8D7A-3112C8B1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29A-D623-445A-B54A-11454BC7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935-0754-4D11-9BC4-528C5CB0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89F-FA45-4B62-A224-BD27AE78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24C-0EB9-40BA-B792-91474012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638-E7B4-411C-8CB1-46E1483A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CF5-43BF-43C0-8AB6-E2B36A4A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D025-6D04-4044-86F0-192C227C628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9593-1342-4D63-8145-FFE915C29222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206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cc00"/>
                </a:solidFill>
                <a:latin typeface="Times New Roman"/>
              </a:rPr>
              <a:t>Thalidomide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if this was you – how would your life be different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3" descr="Victim%208"/>
          <p:cNvPicPr/>
          <p:nvPr/>
        </p:nvPicPr>
        <p:blipFill>
          <a:blip r:embed="rId1"/>
          <a:stretch/>
        </p:blipFill>
        <p:spPr>
          <a:xfrm>
            <a:off x="684360" y="2492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thali"/>
          <p:cNvPicPr/>
          <p:nvPr/>
        </p:nvPicPr>
        <p:blipFill>
          <a:blip r:embed="rId2"/>
          <a:stretch/>
        </p:blipFill>
        <p:spPr>
          <a:xfrm>
            <a:off x="5181480" y="1905120"/>
            <a:ext cx="2981520" cy="396216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7" name="Picture 3" descr="b1a thalidomide-boy-deformed-"/>
          <p:cNvPicPr/>
          <p:nvPr/>
        </p:nvPicPr>
        <p:blipFill>
          <a:blip r:embed="rId1"/>
          <a:stretch/>
        </p:blipFill>
        <p:spPr>
          <a:xfrm>
            <a:off x="2362320" y="990720"/>
            <a:ext cx="4800600" cy="476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0" name="Picture 3" descr="b1a thalidomidechildren300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41734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Why did this happe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Times New Roman"/>
              </a:rPr>
              <a:t>Thalidomide today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ly the drug was banned internationally for the  treatment of morning sickn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But it has now been reintroduced as a treatment for lepro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 – bacterial infection of the skin and nerves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Picture 6" descr="leper"/>
          <p:cNvPicPr/>
          <p:nvPr/>
        </p:nvPicPr>
        <p:blipFill>
          <a:blip r:embed="rId1"/>
          <a:stretch/>
        </p:blipFill>
        <p:spPr>
          <a:xfrm>
            <a:off x="685800" y="278136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leprosy"/>
          <p:cNvPicPr/>
          <p:nvPr/>
        </p:nvPicPr>
        <p:blipFill>
          <a:blip r:embed="rId1"/>
          <a:stretch/>
        </p:blipFill>
        <p:spPr>
          <a:xfrm>
            <a:off x="1600200" y="1905120"/>
            <a:ext cx="6477120" cy="43099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ke key notes on what we have discussed on this drug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 us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t discovered to hel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ide effects of untested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s it now used f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alidomide – the sleeping pil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b1a thalid pills"/>
          <p:cNvPicPr/>
          <p:nvPr/>
        </p:nvPicPr>
        <p:blipFill>
          <a:blip r:embed="rId1"/>
          <a:stretch/>
        </p:blipFill>
        <p:spPr>
          <a:xfrm>
            <a:off x="533520" y="1600200"/>
            <a:ext cx="3047760" cy="403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b1a 20Sleep%20Big"/>
          <p:cNvPicPr/>
          <p:nvPr/>
        </p:nvPicPr>
        <p:blipFill>
          <a:blip r:embed="rId2"/>
          <a:stretch/>
        </p:blipFill>
        <p:spPr>
          <a:xfrm>
            <a:off x="4191120" y="2133720"/>
            <a:ext cx="4343400" cy="28843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Thalidomide was first synthesized in West Germany in 1953 by Chemie Grünenthal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It was hailed as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wonder drug"</a:t>
            </a: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 that provided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safe, sound sleep".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5" descr="b1a thalid pills"/>
          <p:cNvPicPr/>
          <p:nvPr/>
        </p:nvPicPr>
        <p:blipFill>
          <a:blip r:embed="rId1"/>
          <a:stretch/>
        </p:blipFill>
        <p:spPr>
          <a:xfrm>
            <a:off x="5580000" y="1916280"/>
            <a:ext cx="2195640" cy="290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424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cc"/>
                </a:solidFill>
                <a:latin typeface="Arial"/>
              </a:rPr>
              <a:t>However the drug was also found to cure morning sickness in pregnant women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1028" descr="morning sick"/>
          <p:cNvPicPr/>
          <p:nvPr/>
        </p:nvPicPr>
        <p:blipFill>
          <a:blip r:embed="rId1"/>
          <a:stretch/>
        </p:blipFill>
        <p:spPr>
          <a:xfrm>
            <a:off x="2819520" y="1981080"/>
            <a:ext cx="3341520" cy="4496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Nausea vomiting in pregnancy NVP – 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GB" sz="36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 trimester ...(1/3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2060640"/>
            <a:ext cx="6781680" cy="4417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oetal development -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Picture 4" descr="ultrasound-Jan22"/>
          <p:cNvPicPr/>
          <p:nvPr/>
        </p:nvPicPr>
        <p:blipFill>
          <a:blip r:embed="rId1"/>
          <a:stretch/>
        </p:blipFill>
        <p:spPr>
          <a:xfrm>
            <a:off x="1042920" y="1341360"/>
            <a:ext cx="6626160" cy="3743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Nausea vomiting in pregnancy NVP – 1</a:t>
            </a:r>
            <a:r>
              <a:rPr b="0" lang="en-GB" sz="2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 trimester (1/3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1197000"/>
            <a:ext cx="6781680" cy="3456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2411280" y="1557360"/>
            <a:ext cx="1224000" cy="433440"/>
          </a:xfrm>
          <a:prstGeom prst="leftRightArrow">
            <a:avLst>
              <a:gd name="adj1" fmla="val 50000"/>
              <a:gd name="adj2" fmla="val 56217"/>
            </a:avLst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Side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unfortunately molecules of the thalidomide chemical crossed the placenta and disrupt the growth patterns of the growing foet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fetus"/>
          <p:cNvPicPr/>
          <p:nvPr/>
        </p:nvPicPr>
        <p:blipFill>
          <a:blip r:embed="rId1"/>
          <a:stretch/>
        </p:blipFill>
        <p:spPr>
          <a:xfrm>
            <a:off x="2340000" y="3284640"/>
            <a:ext cx="4344840" cy="3267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8" name="Picture 3" descr="b1a thalidomide"/>
          <p:cNvPicPr/>
          <p:nvPr/>
        </p:nvPicPr>
        <p:blipFill>
          <a:blip r:embed="rId1"/>
          <a:stretch/>
        </p:blipFill>
        <p:spPr>
          <a:xfrm>
            <a:off x="5105520" y="2133720"/>
            <a:ext cx="352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b1a thalidomide2"/>
          <p:cNvPicPr/>
          <p:nvPr/>
        </p:nvPicPr>
        <p:blipFill>
          <a:blip r:embed="rId2"/>
          <a:stretch/>
        </p:blipFill>
        <p:spPr>
          <a:xfrm>
            <a:off x="304920" y="2057400"/>
            <a:ext cx="288432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0:58:53Z</dcterms:created>
  <dc:creator>R_Goldthorp</dc:creator>
  <dc:description/>
  <dc:language>en-US</dc:language>
  <cp:lastModifiedBy>LEGION2</cp:lastModifiedBy>
  <dcterms:modified xsi:type="dcterms:W3CDTF">2016-01-14T11:24:15Z</dcterms:modified>
  <cp:revision>13</cp:revision>
  <dc:subject/>
  <dc:title>Thalidomide</dc:title>
</cp:coreProperties>
</file>