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whoosh.wav" ContentType="audio/x-wav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D8F0-A4DB-407C-9DA7-12FF20235A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alidom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this was you – how would your life be differen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was you – how would your life be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y did this happ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id this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lidomide toda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ly the drug was banned internationally for the  treatment of morning sickn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ut it has now been reintroduced as a treatment for lepros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 the drug was banned internationally for the  treatment of morning s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has now been reintroduced as a treatment for lepro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prosy – bacterial infection of the skin and nerves ending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fects the hands, feet and features of the fa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osy – bacterial infection of the skin and nerves e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s the hands, feet and features of the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epros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o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 key notes on what we have discussed on this drug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 u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t discovered to hel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de effects of untested u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it now used f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key notes on what we have discussed on this dru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t discovered to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 effects of untested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it now us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alidomide – the sleeping pil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– the sleeping p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lidomide was first synthesized in West Germany in 1953 by Chemie Grünenth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was hailed as a "wonder drug" that provided a "safe, sound sleep"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was first synthesized in West Germany in 1953 by Chemie Grünenth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hailed as a "wonder drug" that provided a "safe, sound sleep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ever the drug was also found to cure morning sickness in pregnant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 the drug was also found to cure morning sickness in pregnant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usea vomiting in pregnancy NVP –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st trimester ...(1/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 vomiting in pregnancy NVP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rimester ...(1/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etal development 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etal development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usea vomiting in pregnancy NVP – 1st trimester (1/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do you think most women would be inclined to take this drug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 vomiting in pregnancy NVP – 1st trimester (1/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o you think most women would be inclined to take this dru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de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fortunately molecules of the thalidomide chemical crossed the placenta and disrupt the growth patterns of the growing foet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 molecules of the thalidomide chemical crossed the placenta and disrupt the growth patterns of the growing fo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CF2D-8D1B-4C6E-B734-660C57D4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28E6-F4A5-4BA2-8623-E94376AB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74EC-298E-4829-BF25-9322AC0E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2D1-0560-4A91-BB5B-7FE9CCFF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EA22-0DF6-439B-A9E4-51B956E1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DF9C-4ECC-4248-958E-B788AE30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2DEB-E71C-412B-9E2C-6EBAD822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33E9-BB07-4309-97AA-C07893AA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7115-D32F-4CDF-9229-88C1458A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F5D0-5693-4079-BAB4-A159004C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8E74-B628-4968-8E4E-F1607198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BA9-BA78-4905-9AFF-862B76E4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D7EB-28A1-4479-AD8C-5C596D16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ECC6-606A-4CCC-827F-3B493593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8641-CA5F-48C4-B27F-E348D9DC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AA61-2644-4BF3-9C93-62E2D2F5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D17F-0C35-499C-ACF5-5A49534E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B666-8D9B-4C11-B743-B692015E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78B-5CC2-4173-92FC-B2BC6FCE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8F74-8923-47FC-AAB5-8ABB7B3A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49D4-5987-4FB0-9444-45F4ADD6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180-E857-4A52-8BD2-A9770C4B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2B29-9F1E-4BB8-81DD-EAAD49EA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E8E-9A0E-4A3C-8E7A-F03CCA9C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C251-A26E-4436-9FD4-2A9AF89D6D6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FC67-CC68-4C22-B99F-612BA69B6A5A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206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cc00"/>
                </a:solidFill>
                <a:latin typeface="Times New Roman"/>
              </a:rPr>
              <a:t>Thalidomide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if this was you – how would your life be different?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Picture 3" descr="Victim%208"/>
          <p:cNvPicPr/>
          <p:nvPr/>
        </p:nvPicPr>
        <p:blipFill>
          <a:blip r:embed="rId1"/>
          <a:stretch/>
        </p:blipFill>
        <p:spPr>
          <a:xfrm>
            <a:off x="684360" y="2492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thali"/>
          <p:cNvPicPr/>
          <p:nvPr/>
        </p:nvPicPr>
        <p:blipFill>
          <a:blip r:embed="rId2"/>
          <a:stretch/>
        </p:blipFill>
        <p:spPr>
          <a:xfrm>
            <a:off x="5181480" y="1905120"/>
            <a:ext cx="2981520" cy="396216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7" name="Picture 3" descr="b1a thalidomide-boy-deformed-"/>
          <p:cNvPicPr/>
          <p:nvPr/>
        </p:nvPicPr>
        <p:blipFill>
          <a:blip r:embed="rId1"/>
          <a:stretch/>
        </p:blipFill>
        <p:spPr>
          <a:xfrm>
            <a:off x="2362320" y="990720"/>
            <a:ext cx="4800600" cy="4767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0" name="Picture 3" descr="b1a thalidomidechildren300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417348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Why did this happen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00"/>
                </a:solidFill>
                <a:latin typeface="Times New Roman"/>
              </a:rPr>
              <a:t>Thalidomide today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Initially the drug was banned internationally for the  treatment of morning sickn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But it has now been reintroduced as a treatment for lepros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Leprosy – bacterial infection of the skin and nerves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Affects the hands, feet and features of the fac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Picture 6" descr="leper"/>
          <p:cNvPicPr/>
          <p:nvPr/>
        </p:nvPicPr>
        <p:blipFill>
          <a:blip r:embed="rId1"/>
          <a:stretch/>
        </p:blipFill>
        <p:spPr>
          <a:xfrm>
            <a:off x="685800" y="2781360"/>
            <a:ext cx="3809880" cy="25146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Lepros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leprosy"/>
          <p:cNvPicPr/>
          <p:nvPr/>
        </p:nvPicPr>
        <p:blipFill>
          <a:blip r:embed="rId1"/>
          <a:stretch/>
        </p:blipFill>
        <p:spPr>
          <a:xfrm>
            <a:off x="1600200" y="1905120"/>
            <a:ext cx="6477120" cy="43099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Make key notes on what we have discussed on this drug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Initial us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hat it discovered to hel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ide effects of untested 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hat is it now used f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alidomide – the sleeping pil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Picture 6" descr="b1a thalid pills"/>
          <p:cNvPicPr/>
          <p:nvPr/>
        </p:nvPicPr>
        <p:blipFill>
          <a:blip r:embed="rId1"/>
          <a:stretch/>
        </p:blipFill>
        <p:spPr>
          <a:xfrm>
            <a:off x="533520" y="1600200"/>
            <a:ext cx="3047760" cy="4038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b1a 20Sleep%20Big"/>
          <p:cNvPicPr/>
          <p:nvPr/>
        </p:nvPicPr>
        <p:blipFill>
          <a:blip r:embed="rId2"/>
          <a:stretch/>
        </p:blipFill>
        <p:spPr>
          <a:xfrm>
            <a:off x="4191120" y="2133720"/>
            <a:ext cx="4343400" cy="28843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Thalidomide was first synthesized in West Germany in 1953 by Chemie Grünenthal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It was hailed as a </a:t>
            </a:r>
            <a:r>
              <a:rPr b="1" i="1" lang="en-GB" sz="3200" spc="-1" strike="noStrike">
                <a:solidFill>
                  <a:srgbClr val="ffffcc"/>
                </a:solidFill>
                <a:latin typeface="Verdana"/>
              </a:rPr>
              <a:t>"wonder drug"</a:t>
            </a: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 that provided a </a:t>
            </a:r>
            <a:r>
              <a:rPr b="1" i="1" lang="en-GB" sz="3200" spc="-1" strike="noStrike">
                <a:solidFill>
                  <a:srgbClr val="ffffcc"/>
                </a:solidFill>
                <a:latin typeface="Verdana"/>
              </a:rPr>
              <a:t>"safe, sound sleep".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5" descr="b1a thalid pills"/>
          <p:cNvPicPr/>
          <p:nvPr/>
        </p:nvPicPr>
        <p:blipFill>
          <a:blip r:embed="rId1"/>
          <a:stretch/>
        </p:blipFill>
        <p:spPr>
          <a:xfrm>
            <a:off x="5580000" y="1916280"/>
            <a:ext cx="2195640" cy="2908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424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cc"/>
                </a:solidFill>
                <a:latin typeface="Arial"/>
              </a:rPr>
              <a:t>However the drug was also found to cure morning sickness in pregnant women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Picture 1028" descr="morning sick"/>
          <p:cNvPicPr/>
          <p:nvPr/>
        </p:nvPicPr>
        <p:blipFill>
          <a:blip r:embed="rId1"/>
          <a:stretch/>
        </p:blipFill>
        <p:spPr>
          <a:xfrm>
            <a:off x="2819520" y="1981080"/>
            <a:ext cx="3341520" cy="4496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Nausea vomiting in pregnancy NVP – </a:t>
            </a: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GB" sz="36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 trimester ...(1/3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Picture 4" descr="morning sick -graph"/>
          <p:cNvPicPr/>
          <p:nvPr/>
        </p:nvPicPr>
        <p:blipFill>
          <a:blip r:embed="rId1"/>
          <a:stretch/>
        </p:blipFill>
        <p:spPr>
          <a:xfrm>
            <a:off x="1219320" y="2060640"/>
            <a:ext cx="6781680" cy="44179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oetal development -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5157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Picture 4" descr="ultrasound-Jan22"/>
          <p:cNvPicPr/>
          <p:nvPr/>
        </p:nvPicPr>
        <p:blipFill>
          <a:blip r:embed="rId1"/>
          <a:stretch/>
        </p:blipFill>
        <p:spPr>
          <a:xfrm>
            <a:off x="1042920" y="1341360"/>
            <a:ext cx="6626160" cy="3743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Nausea vomiting in pregnancy NVP – 1</a:t>
            </a:r>
            <a:r>
              <a:rPr b="0" lang="en-GB" sz="2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 trimester (1/3)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5157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en do you think most women would be inclined to take this drug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4" descr="morning sick -graph"/>
          <p:cNvPicPr/>
          <p:nvPr/>
        </p:nvPicPr>
        <p:blipFill>
          <a:blip r:embed="rId1"/>
          <a:stretch/>
        </p:blipFill>
        <p:spPr>
          <a:xfrm>
            <a:off x="1219320" y="1197000"/>
            <a:ext cx="6781680" cy="3456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/>
          <p:cNvSpPr/>
          <p:nvPr/>
        </p:nvSpPr>
        <p:spPr>
          <a:xfrm>
            <a:off x="2411280" y="1557360"/>
            <a:ext cx="1224000" cy="433440"/>
          </a:xfrm>
          <a:prstGeom prst="leftRightArrow">
            <a:avLst>
              <a:gd name="adj1" fmla="val 50000"/>
              <a:gd name="adj2" fmla="val 56217"/>
            </a:avLst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Side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unfortunately molecules of the thalidomide chemical crossed the placenta and disrupt the growth patterns of the growing foet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fetus"/>
          <p:cNvPicPr/>
          <p:nvPr/>
        </p:nvPicPr>
        <p:blipFill>
          <a:blip r:embed="rId1"/>
          <a:stretch/>
        </p:blipFill>
        <p:spPr>
          <a:xfrm>
            <a:off x="2340000" y="3284640"/>
            <a:ext cx="4344840" cy="3267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8" name="Picture 3" descr="b1a thalidomide"/>
          <p:cNvPicPr/>
          <p:nvPr/>
        </p:nvPicPr>
        <p:blipFill>
          <a:blip r:embed="rId1"/>
          <a:stretch/>
        </p:blipFill>
        <p:spPr>
          <a:xfrm>
            <a:off x="5105520" y="2133720"/>
            <a:ext cx="3528720" cy="4343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b1a thalidomide2"/>
          <p:cNvPicPr/>
          <p:nvPr/>
        </p:nvPicPr>
        <p:blipFill>
          <a:blip r:embed="rId2"/>
          <a:stretch/>
        </p:blipFill>
        <p:spPr>
          <a:xfrm>
            <a:off x="304920" y="2057400"/>
            <a:ext cx="288432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10:58:53Z</dcterms:created>
  <dc:creator>R_Goldthorp</dc:creator>
  <dc:description/>
  <dc:language>en-US</dc:language>
  <cp:lastModifiedBy>LEGION2</cp:lastModifiedBy>
  <dcterms:modified xsi:type="dcterms:W3CDTF">2016-01-14T11:24:15Z</dcterms:modified>
  <cp:revision>13</cp:revision>
  <dc:subject/>
  <dc:title>Thalidomide</dc:title>
</cp:coreProperties>
</file>