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7162-76F7-4F23-94F1-D0F3048AA6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was you – how would your life be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this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he drug was banned internationally for the  treatment of morning s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has now been reintroduced as a treatment for 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 – bacterial infection of the skin and nerves e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the hands, feet and features of the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o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key notes on what we have discussed on this dru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discovered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 of unteste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 now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– the sleeping p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idomide was first synthesized in West Germany in 1953 by Chemie Grünenth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hailed as a "wonder drug" that provided a "safe, sound sleep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drug was also found to cure morning sickness in pregnant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rimester ...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etal development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 vomiting in pregnancy NVP – 1st trimester (1/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o you think most women would be inclined to take this dru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 molecules of the thalidomide chemical crossed the placenta and disrupt the growth patterns of the growing fo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E18-2F67-4304-9D43-D2007FC7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82C-07C2-4063-8BD0-1451FA75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ECA-917B-4DB9-A1D7-FED1028A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E4A-2BE2-4BB0-95A9-05B3EAA0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E3A5-1F4C-40C0-922B-72E3AC59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5BBB-590A-44AA-8BB1-875AEBD0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19A6-38B0-4151-84A4-8A30CD6B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1C8A-97A8-4C84-AFD7-070EC12F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DC03-E0A5-46BB-BEEC-9B0D05CC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2414-3141-4B44-AC0E-A2DAC577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FBF-B6DF-45F9-A465-FCE56292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AAD-5C2A-4B38-8CCC-693EC90F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E0CB-48D5-471C-9129-47A9B77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036C-817E-43DA-8DA8-A82D2132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0B7A-2FE5-4050-BA86-67399126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5DDB-DB6D-4120-ACBB-8D0C4095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37B1-7814-4F90-A46F-BC6F4EE6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E0C-F648-4E66-95AB-DE048C69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96B-005E-429C-8A63-FE4A569A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2B5-195A-46D9-B6AB-BC3C11A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03D-6762-45FE-97A8-11B4018A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8C1-EBAF-4954-AB3C-173A10A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81C-6711-4F5B-9136-E50DA429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9C3-EB52-4A09-9B04-E518416D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C06E-3259-453C-BEFA-174BE16D73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F134-FCF8-4424-8731-12C37E53EE3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0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imes New Roman"/>
              </a:rPr>
              <a:t>Thalidomide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GB" sz="4000" spc="-1" strike="noStrike">
                <a:solidFill>
                  <a:srgbClr val="ffcc00"/>
                </a:solidFill>
                <a:latin typeface="Times New Roman"/>
              </a:rPr>
              <a:t>if this was you – how would your life be different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3" descr="Victim%208"/>
          <p:cNvPicPr/>
          <p:nvPr/>
        </p:nvPicPr>
        <p:blipFill>
          <a:blip r:embed="rId1"/>
          <a:stretch/>
        </p:blipFill>
        <p:spPr>
          <a:xfrm>
            <a:off x="684360" y="2492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thali"/>
          <p:cNvPicPr/>
          <p:nvPr/>
        </p:nvPicPr>
        <p:blipFill>
          <a:blip r:embed="rId2"/>
          <a:stretch/>
        </p:blipFill>
        <p:spPr>
          <a:xfrm>
            <a:off x="5181480" y="1905120"/>
            <a:ext cx="2981520" cy="39621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7" name="Picture 3" descr="b1a thalidomide-boy-deformed-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76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0" name="Picture 3" descr="b1a thalidomidechildren300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1734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id this happen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Simple - the drug was not trialled or tested for this use on pregnant wom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Times New Roman"/>
              </a:rPr>
              <a:t>Thalidomide today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ly the drug was banned internationally for the  treatment of morning sick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But it has now been reintroduced as a treatment for lepro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 – bacterial infection of the skin and nerves endin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Affects the hands, feet and features of the fa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leper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Lepros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leprosy"/>
          <p:cNvPicPr/>
          <p:nvPr/>
        </p:nvPicPr>
        <p:blipFill>
          <a:blip r:embed="rId1"/>
          <a:stretch/>
        </p:blipFill>
        <p:spPr>
          <a:xfrm>
            <a:off x="1600200" y="1905120"/>
            <a:ext cx="6477120" cy="43099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ke key notes on what we have discussed on this drug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Initial u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t discovered to hel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de effects of untested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hat is it now used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alidomide – the sleeping pil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b1a thalid pills"/>
          <p:cNvPicPr/>
          <p:nvPr/>
        </p:nvPicPr>
        <p:blipFill>
          <a:blip r:embed="rId1"/>
          <a:stretch/>
        </p:blipFill>
        <p:spPr>
          <a:xfrm>
            <a:off x="533520" y="1600200"/>
            <a:ext cx="3047760" cy="40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b1a 20Sleep%20Big"/>
          <p:cNvPicPr/>
          <p:nvPr/>
        </p:nvPicPr>
        <p:blipFill>
          <a:blip r:embed="rId2"/>
          <a:stretch/>
        </p:blipFill>
        <p:spPr>
          <a:xfrm>
            <a:off x="4191120" y="2133720"/>
            <a:ext cx="4343400" cy="28843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Thalidomide was first synthesized in West Germany in 1953 by Chemie Grünenth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It was hailed as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wonder drug"</a:t>
            </a:r>
            <a:r>
              <a:rPr b="0" lang="en-GB" sz="3200" spc="-1" strike="noStrike">
                <a:solidFill>
                  <a:srgbClr val="ffffcc"/>
                </a:solidFill>
                <a:latin typeface="Verdana"/>
              </a:rPr>
              <a:t> that provided a </a:t>
            </a:r>
            <a:r>
              <a:rPr b="1" i="1" lang="en-GB" sz="3200" spc="-1" strike="noStrike">
                <a:solidFill>
                  <a:srgbClr val="ffffcc"/>
                </a:solidFill>
                <a:latin typeface="Verdana"/>
              </a:rPr>
              <a:t>"safe, sound sleep"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5" descr="b1a thalid pills"/>
          <p:cNvPicPr/>
          <p:nvPr/>
        </p:nvPicPr>
        <p:blipFill>
          <a:blip r:embed="rId1"/>
          <a:stretch/>
        </p:blipFill>
        <p:spPr>
          <a:xfrm>
            <a:off x="5580000" y="1916280"/>
            <a:ext cx="2195640" cy="290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24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owever the drug was also found to cure morning sickness in pregnant women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28" descr="morning sick"/>
          <p:cNvPicPr/>
          <p:nvPr/>
        </p:nvPicPr>
        <p:blipFill>
          <a:blip r:embed="rId1"/>
          <a:stretch/>
        </p:blipFill>
        <p:spPr>
          <a:xfrm>
            <a:off x="2819520" y="1981080"/>
            <a:ext cx="3341520" cy="4496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Nausea vomiting in pregnancy NVP – </a:t>
            </a:r>
            <a:br>
              <a:rPr sz="3600"/>
            </a:b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GB" sz="36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 trimester ...(1/3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2060640"/>
            <a:ext cx="6781680" cy="4417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oetal development -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first few weeks are a key period – any problems now will accumulate in the fu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4" descr="ultrasound-Jan22"/>
          <p:cNvPicPr/>
          <p:nvPr/>
        </p:nvPicPr>
        <p:blipFill>
          <a:blip r:embed="rId1"/>
          <a:stretch/>
        </p:blipFill>
        <p:spPr>
          <a:xfrm>
            <a:off x="1042920" y="1341360"/>
            <a:ext cx="6626160" cy="3743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Nausea vomiting in pregnancy NVP – 1</a:t>
            </a:r>
            <a:r>
              <a:rPr b="0" lang="en-GB" sz="2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ffcc00"/>
                </a:solidFill>
                <a:latin typeface="Times New Roman"/>
              </a:rPr>
              <a:t> trimester (1/3)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5157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do you think most women would be inclined to take this drug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morning sick -graph"/>
          <p:cNvPicPr/>
          <p:nvPr/>
        </p:nvPicPr>
        <p:blipFill>
          <a:blip r:embed="rId1"/>
          <a:stretch/>
        </p:blipFill>
        <p:spPr>
          <a:xfrm>
            <a:off x="1219320" y="1197000"/>
            <a:ext cx="6781680" cy="3456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411280" y="1557360"/>
            <a:ext cx="1224000" cy="433440"/>
          </a:xfrm>
          <a:prstGeom prst="leftRightArrow">
            <a:avLst>
              <a:gd name="adj1" fmla="val 50000"/>
              <a:gd name="adj2" fmla="val 56217"/>
            </a:avLst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ide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fortunately molecules of the thalidomide chemical crossed the placenta and disrupt the growth patterns of the growing foe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fetus"/>
          <p:cNvPicPr/>
          <p:nvPr/>
        </p:nvPicPr>
        <p:blipFill>
          <a:blip r:embed="rId1"/>
          <a:stretch/>
        </p:blipFill>
        <p:spPr>
          <a:xfrm>
            <a:off x="2340000" y="3284640"/>
            <a:ext cx="4344840" cy="3267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imes New Roman"/>
              </a:rPr>
              <a:t>Effect =  catastrophic deformations of the baby– best seen as limb abnormalities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3" descr="b1a thalidomide"/>
          <p:cNvPicPr/>
          <p:nvPr/>
        </p:nvPicPr>
        <p:blipFill>
          <a:blip r:embed="rId1"/>
          <a:stretch/>
        </p:blipFill>
        <p:spPr>
          <a:xfrm>
            <a:off x="5105520" y="2133720"/>
            <a:ext cx="352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b1a thalidomide2"/>
          <p:cNvPicPr/>
          <p:nvPr/>
        </p:nvPicPr>
        <p:blipFill>
          <a:blip r:embed="rId2"/>
          <a:stretch/>
        </p:blipFill>
        <p:spPr>
          <a:xfrm>
            <a:off x="304920" y="2057400"/>
            <a:ext cx="288432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0:58:53Z</dcterms:created>
  <dc:creator>R_Goldthorp</dc:creator>
  <dc:description/>
  <dc:language>en-US</dc:language>
  <cp:lastModifiedBy>LEGION2</cp:lastModifiedBy>
  <dcterms:modified xsi:type="dcterms:W3CDTF">2016-01-14T11:24:15Z</dcterms:modified>
  <cp:revision>13</cp:revision>
  <dc:subject/>
  <dc:title>Thalidomide</dc:title>
</cp:coreProperties>
</file>