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whoosh.wav" ContentType="audio/x-wav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B47BA-5137-444C-9122-FCC36B82BBF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Thalidomid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lidom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f this was you – how would your life be different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is was you – how would your life be differ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y did this happen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imple - the drug was not trialled or tested for this use on pregnant wome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id this happ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- the drug was not trialled or tested for this use on pregnant wo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alidomide toda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itially the drug was banned internationally for the  treatment of morning sicknes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ut it has now been reintroduced as a treatment for lepros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lidomide to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lly the drug was banned internationally for the  treatment of morning sick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it has now been reintroduced as a treatment for lepros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prosy – bacterial infection of the skin and nerves ending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ffects the hands, feet and features of the fac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prosy – bacterial infection of the skin and nerves end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fects the hands, feet and features of the 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Lepros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pros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ke key notes on what we have discussed on this drug</a:t>
            </a:r>
            <a:br>
              <a:rPr sz="1200"/>
            </a:b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itial us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t discovered to help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ide effects of untested us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it now used fo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key notes on what we have discussed on this drug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l u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t discovered to he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de effects of untested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it now used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Thalidomide – the sleeping pil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lidomide – the sleeping p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alidomide was first synthesized in West Germany in 1953 by Chemie Grünentha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t was hailed as a "wonder drug" that provided a "safe, sound sleep"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lidomide was first synthesized in West Germany in 1953 by Chemie Grünenth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was hailed as a "wonder drug" that provided a "safe, sound sleep"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ever the drug was also found to cure morning sickness in pregnant wome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 the drug was also found to cure morning sickness in pregnant wo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ausea vomiting in pregnancy NVP – 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st trimester ...(1/3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usea vomiting in pregnancy NVP –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rimester ...(1/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etal development -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first few weeks are a key period – any problems now will accumulate in the futur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etal development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rst few weeks are a key period – any problems now will accumulate in the fu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ausea vomiting in pregnancy NVP – 1st trimester (1/3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do you think most women would be inclined to take this drug?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usea vomiting in pregnancy NVP – 1st trimester (1/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do you think most women would be inclined to take this drug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ide effec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nfortunately molecules of the thalidomide chemical crossed the placenta and disrupt the growth patterns of the growing foetu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de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 molecules of the thalidomide chemical crossed the placenta and disrupt the growth patterns of the growing foe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ffect =  catastrophic deformations of the baby– best seen as limb abnormalities.</a:t>
            </a:r>
            <a:br>
              <a:rPr sz="1200"/>
            </a:b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 =  catastrophic deformations of the baby– best seen as limb abnormalities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3BE8-10AA-4846-88AC-3CC71C379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6076-1753-41E6-BD37-4B92B899A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127F-9FDE-4005-9ABB-78FE3F741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0343-9C79-491B-89E6-192F53DAC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6F0AF-1C5C-4CDE-AEA7-227EA8BB5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A3115-E9F0-46E3-8F2D-71E656A00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9445E-47C6-4F25-A25E-27AC0426D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4B189-7809-4809-A6E0-CCD643D2D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007B5-6DE9-480A-85F0-99155E304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41F91-A21A-42E9-932E-A4D0ED680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DDF9A-3190-43A2-B463-2663883E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1921-D7EC-4500-AB21-C3DC50F73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F9ACF-29CB-45B2-8C6F-6DCC7580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A17A4-4391-4270-BA87-7391210E4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D064A-8C5E-40CC-B30A-8AD09BC8E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188EF-9641-446A-99F3-9244B34DD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410CC-DA52-4534-B193-6B9540609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C027-B12C-47C8-BED6-15A455E4B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7F75-15CB-4365-876A-40BEB766B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6BA2-D942-49A0-970B-5549A6D7F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6C32-5478-49E1-A902-A2DA0EE0B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4387-AD79-4C96-BCD9-75E15A628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FAE5-73A2-487C-A1EA-BA4740290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213F-5CDF-4626-B691-A1C525D6A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Rectangle 1027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Freeform 1028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Freeform 1029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Freeform 1030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Freeform 1031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Freeform 1032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Freeform 1033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Freeform 1034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2C3CA-2813-47EE-AA76-DF962EE84D8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026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Rectangle 1027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Freeform 1028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Freeform 1029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Freeform 1030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Freeform 1031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Freeform 1032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Freeform 1033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Freeform 1034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06AA7-98D9-4880-8D80-3D812F69464F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82060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cc00"/>
                </a:solidFill>
                <a:latin typeface="Times New Roman"/>
              </a:rPr>
              <a:t>Thalidomide</a:t>
            </a:r>
            <a:endParaRPr b="0" lang="en-US" sz="6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00"/>
                </a:solidFill>
                <a:latin typeface="Times New Roman"/>
              </a:rPr>
              <a:t>…</a:t>
            </a:r>
            <a:r>
              <a:rPr b="0" lang="en-GB" sz="4000" spc="-1" strike="noStrike">
                <a:solidFill>
                  <a:srgbClr val="ffcc00"/>
                </a:solidFill>
                <a:latin typeface="Times New Roman"/>
              </a:rPr>
              <a:t>if this was you – how would your life be different?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3" name="Picture 3" descr="Victim%208"/>
          <p:cNvPicPr/>
          <p:nvPr/>
        </p:nvPicPr>
        <p:blipFill>
          <a:blip r:embed="rId1"/>
          <a:stretch/>
        </p:blipFill>
        <p:spPr>
          <a:xfrm>
            <a:off x="684360" y="2492280"/>
            <a:ext cx="4343400" cy="3257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thali"/>
          <p:cNvPicPr/>
          <p:nvPr/>
        </p:nvPicPr>
        <p:blipFill>
          <a:blip r:embed="rId2"/>
          <a:stretch/>
        </p:blipFill>
        <p:spPr>
          <a:xfrm>
            <a:off x="5181480" y="1905120"/>
            <a:ext cx="2981520" cy="396216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59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47" name="Picture 3" descr="b1a thalidomide-boy-deformed-"/>
          <p:cNvPicPr/>
          <p:nvPr/>
        </p:nvPicPr>
        <p:blipFill>
          <a:blip r:embed="rId1"/>
          <a:stretch/>
        </p:blipFill>
        <p:spPr>
          <a:xfrm>
            <a:off x="2362320" y="990720"/>
            <a:ext cx="4800600" cy="476712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0659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50" name="Picture 3" descr="b1a thalidomidechildren300"/>
          <p:cNvPicPr/>
          <p:nvPr/>
        </p:nvPicPr>
        <p:blipFill>
          <a:blip r:embed="rId1"/>
          <a:stretch/>
        </p:blipFill>
        <p:spPr>
          <a:xfrm>
            <a:off x="1676520" y="1295280"/>
            <a:ext cx="5790960" cy="417348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Why did this happen?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Simple - the drug was not trialled or tested for this use on pregnant wome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cc00"/>
                </a:solidFill>
                <a:latin typeface="Times New Roman"/>
              </a:rPr>
              <a:t>Thalidomide today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5280" y="1981080"/>
            <a:ext cx="8353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Initially the drug was banned internationally for the  treatment of morning sicknes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But it has now been reintroduced as a treatment for lepros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Leprosy – bacterial infection of the skin and nerves ending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72428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cc"/>
                </a:solidFill>
                <a:latin typeface="Times New Roman"/>
              </a:rPr>
              <a:t>Affects the hands, feet and features of the fac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0" name="Picture 6" descr="leper"/>
          <p:cNvPicPr/>
          <p:nvPr/>
        </p:nvPicPr>
        <p:blipFill>
          <a:blip r:embed="rId1"/>
          <a:stretch/>
        </p:blipFill>
        <p:spPr>
          <a:xfrm>
            <a:off x="685800" y="2781360"/>
            <a:ext cx="3809880" cy="251460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Lepros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4" name="Picture 5" descr="leprosy"/>
          <p:cNvPicPr/>
          <p:nvPr/>
        </p:nvPicPr>
        <p:blipFill>
          <a:blip r:embed="rId1"/>
          <a:stretch/>
        </p:blipFill>
        <p:spPr>
          <a:xfrm>
            <a:off x="1600200" y="1905120"/>
            <a:ext cx="6477120" cy="430992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00"/>
                </a:solidFill>
                <a:latin typeface="Arial"/>
              </a:rPr>
              <a:t>Make key notes on what we have discussed on this drug</a:t>
            </a:r>
            <a:br>
              <a:rPr sz="4000"/>
            </a:b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Initial use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What it discovered to help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Side effects of untested u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What is it now used fo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Thalidomide – the sleeping pill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11" name="Picture 6" descr="b1a thalid pills"/>
          <p:cNvPicPr/>
          <p:nvPr/>
        </p:nvPicPr>
        <p:blipFill>
          <a:blip r:embed="rId1"/>
          <a:stretch/>
        </p:blipFill>
        <p:spPr>
          <a:xfrm>
            <a:off x="533520" y="1600200"/>
            <a:ext cx="3047760" cy="40384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b1a 20Sleep%20Big"/>
          <p:cNvPicPr/>
          <p:nvPr/>
        </p:nvPicPr>
        <p:blipFill>
          <a:blip r:embed="rId2"/>
          <a:stretch/>
        </p:blipFill>
        <p:spPr>
          <a:xfrm>
            <a:off x="4191120" y="2133720"/>
            <a:ext cx="4343400" cy="288432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250560" y="620640"/>
            <a:ext cx="889308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Verdana"/>
              </a:rPr>
              <a:t>Thalidomide was first synthesized in West Germany in 1953 by Chemie Grünenthal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Verdana"/>
              </a:rPr>
              <a:t>It was hailed as a </a:t>
            </a:r>
            <a:r>
              <a:rPr b="1" i="1" lang="en-GB" sz="3200" spc="-1" strike="noStrike">
                <a:solidFill>
                  <a:srgbClr val="ffffcc"/>
                </a:solidFill>
                <a:latin typeface="Verdana"/>
              </a:rPr>
              <a:t>"wonder drug"</a:t>
            </a:r>
            <a:r>
              <a:rPr b="0" lang="en-GB" sz="3200" spc="-1" strike="noStrike">
                <a:solidFill>
                  <a:srgbClr val="ffffcc"/>
                </a:solidFill>
                <a:latin typeface="Verdana"/>
              </a:rPr>
              <a:t> that provided a </a:t>
            </a:r>
            <a:r>
              <a:rPr b="1" i="1" lang="en-GB" sz="3200" spc="-1" strike="noStrike">
                <a:solidFill>
                  <a:srgbClr val="ffffcc"/>
                </a:solidFill>
                <a:latin typeface="Verdana"/>
              </a:rPr>
              <a:t>"safe, sound sleep".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5" name="Picture 5" descr="b1a thalid pills"/>
          <p:cNvPicPr/>
          <p:nvPr/>
        </p:nvPicPr>
        <p:blipFill>
          <a:blip r:embed="rId1"/>
          <a:stretch/>
        </p:blipFill>
        <p:spPr>
          <a:xfrm>
            <a:off x="5580000" y="1916280"/>
            <a:ext cx="2195640" cy="290808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4247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cc"/>
                </a:solidFill>
                <a:latin typeface="Arial"/>
              </a:rPr>
              <a:t>However the drug was also found to cure morning sickness in pregnant women</a:t>
            </a:r>
            <a:endParaRPr b="0" lang="en-US" sz="3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8" name="Picture 1028" descr="morning sick"/>
          <p:cNvPicPr/>
          <p:nvPr/>
        </p:nvPicPr>
        <p:blipFill>
          <a:blip r:embed="rId1"/>
          <a:stretch/>
        </p:blipFill>
        <p:spPr>
          <a:xfrm>
            <a:off x="2819520" y="1981080"/>
            <a:ext cx="3341520" cy="449604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49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Times New Roman"/>
              </a:rPr>
              <a:t>Nausea vomiting in pregnancy NVP – </a:t>
            </a:r>
            <a:br>
              <a:rPr sz="3600"/>
            </a:br>
            <a:r>
              <a:rPr b="0" lang="en-GB" sz="3600" spc="-1" strike="noStrike">
                <a:solidFill>
                  <a:srgbClr val="ffcc00"/>
                </a:solidFill>
                <a:latin typeface="Times New Roman"/>
              </a:rPr>
              <a:t>1</a:t>
            </a:r>
            <a:r>
              <a:rPr b="0" lang="en-GB" sz="3600" spc="-1" strike="noStrike" baseline="30000">
                <a:solidFill>
                  <a:srgbClr val="ffcc00"/>
                </a:solidFill>
                <a:latin typeface="Times New Roman"/>
              </a:rPr>
              <a:t>st</a:t>
            </a:r>
            <a:r>
              <a:rPr b="0" lang="en-GB" sz="3600" spc="-1" strike="noStrike">
                <a:solidFill>
                  <a:srgbClr val="ffcc00"/>
                </a:solidFill>
                <a:latin typeface="Times New Roman"/>
              </a:rPr>
              <a:t> trimester ...(1/3)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2" name="Picture 4" descr="morning sick -graph"/>
          <p:cNvPicPr/>
          <p:nvPr/>
        </p:nvPicPr>
        <p:blipFill>
          <a:blip r:embed="rId1"/>
          <a:stretch/>
        </p:blipFill>
        <p:spPr>
          <a:xfrm>
            <a:off x="1219320" y="2060640"/>
            <a:ext cx="6781680" cy="441792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Foetal development -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5157360"/>
            <a:ext cx="77724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 first few weeks are a key period – any problems now will accumulate in the futu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6" name="Picture 4" descr="ultrasound-Jan22"/>
          <p:cNvPicPr/>
          <p:nvPr/>
        </p:nvPicPr>
        <p:blipFill>
          <a:blip r:embed="rId1"/>
          <a:stretch/>
        </p:blipFill>
        <p:spPr>
          <a:xfrm>
            <a:off x="1042920" y="1341360"/>
            <a:ext cx="6626160" cy="374328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Nausea vomiting in pregnancy NVP – 1</a:t>
            </a:r>
            <a:r>
              <a:rPr b="0" lang="en-GB" sz="2400" spc="-1" strike="noStrike" baseline="30000">
                <a:solidFill>
                  <a:srgbClr val="ffcc00"/>
                </a:solidFill>
                <a:latin typeface="Times New Roman"/>
              </a:rPr>
              <a:t>st</a:t>
            </a: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 trimester (1/3)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4360" y="5157360"/>
            <a:ext cx="77724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When do you think most women would be inclined to take this drug?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0" name="Picture 4" descr="morning sick -graph"/>
          <p:cNvPicPr/>
          <p:nvPr/>
        </p:nvPicPr>
        <p:blipFill>
          <a:blip r:embed="rId1"/>
          <a:stretch/>
        </p:blipFill>
        <p:spPr>
          <a:xfrm>
            <a:off x="1219320" y="1197000"/>
            <a:ext cx="6781680" cy="3456000"/>
          </a:xfrm>
          <a:prstGeom prst="rect">
            <a:avLst/>
          </a:prstGeom>
          <a:ln w="0">
            <a:noFill/>
          </a:ln>
        </p:spPr>
      </p:pic>
      <p:sp>
        <p:nvSpPr>
          <p:cNvPr id="131" name="AutoShape 5"/>
          <p:cNvSpPr/>
          <p:nvPr/>
        </p:nvSpPr>
        <p:spPr>
          <a:xfrm>
            <a:off x="2411280" y="1557360"/>
            <a:ext cx="1224000" cy="433440"/>
          </a:xfrm>
          <a:prstGeom prst="leftRightArrow">
            <a:avLst>
              <a:gd name="adj1" fmla="val 50000"/>
              <a:gd name="adj2" fmla="val 56217"/>
            </a:avLst>
          </a:prstGeom>
          <a:solidFill>
            <a:srgbClr val="ff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Side effec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3640" y="160020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unfortunately molecules of the thalidomide chemical crossed the placenta and disrupt the growth patterns of the growing foetu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5" name="Picture 4" descr="fetus"/>
          <p:cNvPicPr/>
          <p:nvPr/>
        </p:nvPicPr>
        <p:blipFill>
          <a:blip r:embed="rId1"/>
          <a:stretch/>
        </p:blipFill>
        <p:spPr>
          <a:xfrm>
            <a:off x="2340000" y="3284640"/>
            <a:ext cx="4344840" cy="326700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1440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Times New Roman"/>
              </a:rPr>
              <a:t>Effect =  catastrophic deformations of the baby– best seen as limb abnormalities.</a:t>
            </a:r>
            <a:br>
              <a:rPr sz="3600"/>
            </a:b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38" name="Picture 3" descr="b1a thalidomide"/>
          <p:cNvPicPr/>
          <p:nvPr/>
        </p:nvPicPr>
        <p:blipFill>
          <a:blip r:embed="rId1"/>
          <a:stretch/>
        </p:blipFill>
        <p:spPr>
          <a:xfrm>
            <a:off x="5105520" y="2133720"/>
            <a:ext cx="3528720" cy="43434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b1a thalidomide2"/>
          <p:cNvPicPr/>
          <p:nvPr/>
        </p:nvPicPr>
        <p:blipFill>
          <a:blip r:embed="rId2"/>
          <a:stretch/>
        </p:blipFill>
        <p:spPr>
          <a:xfrm>
            <a:off x="304920" y="2057400"/>
            <a:ext cx="2884320" cy="441972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2T10:58:53Z</dcterms:created>
  <dc:creator>R_Goldthorp</dc:creator>
  <dc:description/>
  <dc:language>en-US</dc:language>
  <cp:lastModifiedBy>LEGION2</cp:lastModifiedBy>
  <dcterms:modified xsi:type="dcterms:W3CDTF">2016-01-14T11:24:15Z</dcterms:modified>
  <cp:revision>13</cp:revision>
  <dc:subject/>
  <dc:title>Thalidomide</dc:title>
</cp:coreProperties>
</file>