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03D3-E52F-4DD3-BD14-4A2DFD6219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st Yea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Yea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teeth does a lion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teeth does a lion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teeth do we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teeth do we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 different types of to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e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different teeth have different job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 different types of to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e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different teeth have different job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cutting teeth used for cutting and biting off pieces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cutting teeth used for cutting and biting off pieces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long and sharp teeth that are used to hold and tear at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long and sharp teeth that are used to hold and tear at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teeth are used to crush and grind soft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teeth are used to crush and grind soft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teeth are used for chewing and grinding hard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teeth are used for chewing and grinding hard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 and Animal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animals have different sets of teeth depending on the type of food that they 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se the wor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rbiv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mniv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rniv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 and Animal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animals have different sets of teeth depending on the type of food that they 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se the wor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rbiv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mniv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rniv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think a herbivore will a different set of teeth compared to a carnivo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s of teeth does an ominovore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think a herbivore will a different set of teeth compared to a carnivo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s of teeth does an ominovore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teeth does a sheep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teeth does a sheep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8ECA-134B-44FD-A634-0CE605629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6220-C84C-4C58-AF5C-40AE1678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C255-3E5B-4208-8D90-CF59875E5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EC76-C4A7-44A3-AD80-4A0D0122D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B80F-8663-40B8-B8F4-3414A436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DAE4-F634-4D53-9C89-9B05054A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934A-80D3-45AD-A8AC-0B890F73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DAFC-D0C4-4D0F-A010-D172FDFE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AFCF-E8DD-4948-959C-48192C03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509D-AFFF-4D52-A959-63D9E875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A3F7-0996-452D-9103-85FD496B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A9A0-AA6D-4B7D-9D21-0C6D0FC1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D257-F7DA-4289-99A4-1A403EBC2C3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Year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30021334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91840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kind of teeth does a lion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teethandeating_p4_1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41292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lionsku"/>
          <p:cNvPicPr/>
          <p:nvPr/>
        </p:nvPicPr>
        <p:blipFill>
          <a:blip r:embed="rId1"/>
          <a:stretch/>
        </p:blipFill>
        <p:spPr>
          <a:xfrm>
            <a:off x="1692360" y="0"/>
            <a:ext cx="584208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kind of teeth do we ha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teeth"/>
          <p:cNvPicPr/>
          <p:nvPr/>
        </p:nvPicPr>
        <p:blipFill>
          <a:blip r:embed="rId1"/>
          <a:stretch/>
        </p:blipFill>
        <p:spPr>
          <a:xfrm>
            <a:off x="1547640" y="1268280"/>
            <a:ext cx="6480360" cy="529452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istockphoto_534073_skull_teeth_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are 4 different types of to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incis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can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premol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mol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different teeth have different job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c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ar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utting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eth used for cutting and biting off pieces of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Incisor%20Cases2"/>
          <p:cNvPicPr/>
          <p:nvPr/>
        </p:nvPicPr>
        <p:blipFill>
          <a:blip r:embed="rId1"/>
          <a:stretch/>
        </p:blipFill>
        <p:spPr>
          <a:xfrm>
            <a:off x="539640" y="2832120"/>
            <a:ext cx="3816360" cy="3627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180px-06-10-06rightcentralincisor"/>
          <p:cNvPicPr/>
          <p:nvPr/>
        </p:nvPicPr>
        <p:blipFill>
          <a:blip r:embed="rId2"/>
          <a:stretch/>
        </p:blipFill>
        <p:spPr>
          <a:xfrm>
            <a:off x="5219640" y="2852640"/>
            <a:ext cx="2705040" cy="34560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n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are long and sharp teeth that are used 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ea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t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Podge_2"/>
          <p:cNvPicPr/>
          <p:nvPr/>
        </p:nvPicPr>
        <p:blipFill>
          <a:blip r:embed="rId1"/>
          <a:stretch/>
        </p:blipFill>
        <p:spPr>
          <a:xfrm>
            <a:off x="250920" y="2997360"/>
            <a:ext cx="4324320" cy="3600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lion_rctb-6394_blog"/>
          <p:cNvPicPr/>
          <p:nvPr/>
        </p:nvPicPr>
        <p:blipFill>
          <a:blip r:embed="rId2"/>
          <a:srcRect l="31499" t="6478" r="12997" b="17156"/>
          <a:stretch/>
        </p:blipFill>
        <p:spPr>
          <a:xfrm>
            <a:off x="5796000" y="2421000"/>
            <a:ext cx="3024000" cy="424800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emol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teeth are used 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ush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ri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oft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Bear_agingfig1_17927_7"/>
          <p:cNvPicPr/>
          <p:nvPr/>
        </p:nvPicPr>
        <p:blipFill>
          <a:blip r:embed="rId1"/>
          <a:stretch/>
        </p:blipFill>
        <p:spPr>
          <a:xfrm>
            <a:off x="0" y="2781360"/>
            <a:ext cx="5076720" cy="3701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premolar"/>
          <p:cNvPicPr/>
          <p:nvPr/>
        </p:nvPicPr>
        <p:blipFill>
          <a:blip r:embed="rId2"/>
          <a:stretch/>
        </p:blipFill>
        <p:spPr>
          <a:xfrm>
            <a:off x="5292720" y="2781360"/>
            <a:ext cx="3330720" cy="352728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l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teeth are used for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ew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rinding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rd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Acid%20Erosion%20-%20normal%20molar"/>
          <p:cNvPicPr/>
          <p:nvPr/>
        </p:nvPicPr>
        <p:blipFill>
          <a:blip r:embed="rId1"/>
          <a:stretch/>
        </p:blipFill>
        <p:spPr>
          <a:xfrm>
            <a:off x="250920" y="2924280"/>
            <a:ext cx="3529080" cy="3443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PADEN015"/>
          <p:cNvPicPr/>
          <p:nvPr/>
        </p:nvPicPr>
        <p:blipFill>
          <a:blip r:embed="rId2"/>
          <a:stretch/>
        </p:blipFill>
        <p:spPr>
          <a:xfrm>
            <a:off x="4140360" y="2924280"/>
            <a:ext cx="4762440" cy="340020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eth and Animal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fferent animals have different sets of teeth depending on the type of food that they 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vise the w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herbiv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omniv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carniv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ink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think a herbivore will a different set of teeth compared to a carnivo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types of teeth does an ominovore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kind of teeth does a sheep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teethandeating_p4_2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409572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2:27:33Z</dcterms:created>
  <dc:creator>CEC</dc:creator>
  <dc:description/>
  <dc:language>en-US</dc:language>
  <cp:lastModifiedBy>LEGION2</cp:lastModifiedBy>
  <dcterms:modified xsi:type="dcterms:W3CDTF">2016-01-14T11:21:38Z</dcterms:modified>
  <cp:revision>7</cp:revision>
  <dc:subject/>
  <dc:title>Teeth</dc:title>
</cp:coreProperties>
</file>