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7889-976A-498F-B145-2FA843E69B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st Yea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utting teeth used for cutting and biting off pieces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utting teeth used for cutting and biting off pieces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long and sharp teeth that are used to hold and tear a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long and sharp teeth that are used to hold and tear a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to crush and grind sof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to crush and grind sof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for chewing and grinding har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for chewing and grinding har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E61-A9CB-42EE-9869-5257EBEF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FF5-13B1-490B-87E2-6DCC8956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B1D1-763D-42D6-81F1-016F2A7A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EE5-AEF4-457F-94E9-46E90C82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340-6213-40FB-BFE2-C23DA2A0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064-4B65-4641-BC84-CA06D1F2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6B0-E192-4FC0-9A42-47A8BCF1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7A03-AFCF-46CA-8D51-51092D9D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418-DC72-4F3F-9A1F-288AA5F6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4633-57D4-479F-A103-5693ECA3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425-790F-4455-9707-B5B456A0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C98E-F39A-43C7-88A8-A7F80EEC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6998-3766-432E-91E3-28357C894C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30021334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9184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teethandeating_p4_1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129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lionsku"/>
          <p:cNvPicPr/>
          <p:nvPr/>
        </p:nvPicPr>
        <p:blipFill>
          <a:blip r:embed="rId1"/>
          <a:stretch/>
        </p:blipFill>
        <p:spPr>
          <a:xfrm>
            <a:off x="1692360" y="0"/>
            <a:ext cx="58420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teeth"/>
          <p:cNvPicPr/>
          <p:nvPr/>
        </p:nvPicPr>
        <p:blipFill>
          <a:blip r:embed="rId1"/>
          <a:stretch/>
        </p:blipFill>
        <p:spPr>
          <a:xfrm>
            <a:off x="1547640" y="1268280"/>
            <a:ext cx="6480360" cy="52945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istockphoto_534073_skull_teeth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utt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eth used for cutting and biting off pieces of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Incisor%20Cases2"/>
          <p:cNvPicPr/>
          <p:nvPr/>
        </p:nvPicPr>
        <p:blipFill>
          <a:blip r:embed="rId1"/>
          <a:stretch/>
        </p:blipFill>
        <p:spPr>
          <a:xfrm>
            <a:off x="539640" y="2832120"/>
            <a:ext cx="3816360" cy="362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80px-06-10-06rightcentralincisor"/>
          <p:cNvPicPr/>
          <p:nvPr/>
        </p:nvPicPr>
        <p:blipFill>
          <a:blip r:embed="rId2"/>
          <a:stretch/>
        </p:blipFill>
        <p:spPr>
          <a:xfrm>
            <a:off x="5219640" y="2852640"/>
            <a:ext cx="2705040" cy="3456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long and sharp teeth that are used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a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odge_2"/>
          <p:cNvPicPr/>
          <p:nvPr/>
        </p:nvPicPr>
        <p:blipFill>
          <a:blip r:embed="rId1"/>
          <a:stretch/>
        </p:blipFill>
        <p:spPr>
          <a:xfrm>
            <a:off x="250920" y="2997360"/>
            <a:ext cx="4324320" cy="360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lion_rctb-6394_blog"/>
          <p:cNvPicPr/>
          <p:nvPr/>
        </p:nvPicPr>
        <p:blipFill>
          <a:blip r:embed="rId2"/>
          <a:srcRect l="31499" t="6478" r="12997" b="17156"/>
          <a:stretch/>
        </p:blipFill>
        <p:spPr>
          <a:xfrm>
            <a:off x="5796000" y="2421000"/>
            <a:ext cx="3024000" cy="42480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teeth are used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us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i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f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Bear_agingfig1_17927_7"/>
          <p:cNvPicPr/>
          <p:nvPr/>
        </p:nvPicPr>
        <p:blipFill>
          <a:blip r:embed="rId1"/>
          <a:stretch/>
        </p:blipFill>
        <p:spPr>
          <a:xfrm>
            <a:off x="0" y="2781360"/>
            <a:ext cx="5076720" cy="370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premolar"/>
          <p:cNvPicPr/>
          <p:nvPr/>
        </p:nvPicPr>
        <p:blipFill>
          <a:blip r:embed="rId2"/>
          <a:stretch/>
        </p:blipFill>
        <p:spPr>
          <a:xfrm>
            <a:off x="5292720" y="2781360"/>
            <a:ext cx="3330720" cy="35272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teeth are used fo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ew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ind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r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cid%20Erosion%20-%20normal%20molar"/>
          <p:cNvPicPr/>
          <p:nvPr/>
        </p:nvPicPr>
        <p:blipFill>
          <a:blip r:embed="rId1"/>
          <a:stretch/>
        </p:blipFill>
        <p:spPr>
          <a:xfrm>
            <a:off x="250920" y="2924280"/>
            <a:ext cx="3529080" cy="3443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PADEN015"/>
          <p:cNvPicPr/>
          <p:nvPr/>
        </p:nvPicPr>
        <p:blipFill>
          <a:blip r:embed="rId2"/>
          <a:stretch/>
        </p:blipFill>
        <p:spPr>
          <a:xfrm>
            <a:off x="4140360" y="2924280"/>
            <a:ext cx="4762440" cy="3400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teethandeating_p4_2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0957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27:33Z</dcterms:created>
  <dc:creator>CEC</dc:creator>
  <dc:description/>
  <dc:language>en-US</dc:language>
  <cp:lastModifiedBy>LEGION2</cp:lastModifiedBy>
  <dcterms:modified xsi:type="dcterms:W3CDTF">2016-01-14T11:21:38Z</dcterms:modified>
  <cp:revision>7</cp:revision>
  <dc:subject/>
  <dc:title>Teeth</dc:title>
</cp:coreProperties>
</file>