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4D0C-7874-4BE2-B0E6-E9998CF9C7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Ye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cutting teeth used for cutting and biting off pieces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long and sharp teeth that are used to hold and tear a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to crush and grind soft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teeth are used for chewing and grinding hard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1F7-769B-45AF-90A2-45EF19C11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9C2-D18B-4B01-BC47-FC10302E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CDE-DD71-479B-A179-4A7997A8A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72D-3C3F-4946-A103-FC190AC1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66A-D6A1-422A-8F0C-E0B3EB32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CDA-8835-41EC-8A60-1EF0D811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1922-8825-49CC-9417-09BAAA61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D1F-40E9-41D2-B84C-86996541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9A7-C896-4C72-86AA-ABD4BF82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990E-7AC0-4C32-B594-5756BB1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59E4-84D9-4B40-8354-46C12BFE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A35-3B69-48A2-9CEC-AAE72A8E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1507-79FF-4604-9C1C-B770CB51AB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Yea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002133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9184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lio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teethandeating_p4_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29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lionsku"/>
          <p:cNvPicPr/>
          <p:nvPr/>
        </p:nvPicPr>
        <p:blipFill>
          <a:blip r:embed="rId1"/>
          <a:stretch/>
        </p:blipFill>
        <p:spPr>
          <a:xfrm>
            <a:off x="1692360" y="0"/>
            <a:ext cx="58420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kind of teeth do we ha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eeth"/>
          <p:cNvPicPr/>
          <p:nvPr/>
        </p:nvPicPr>
        <p:blipFill>
          <a:blip r:embed="rId1"/>
          <a:stretch/>
        </p:blipFill>
        <p:spPr>
          <a:xfrm>
            <a:off x="1547640" y="1268280"/>
            <a:ext cx="6480360" cy="529452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istockphoto_534073_skull_teeth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4 different types of 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inc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n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pre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mol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different teeth have different job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tt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eth used for cutting and biting off pieces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cisor%20Cases2"/>
          <p:cNvPicPr/>
          <p:nvPr/>
        </p:nvPicPr>
        <p:blipFill>
          <a:blip r:embed="rId1"/>
          <a:stretch/>
        </p:blipFill>
        <p:spPr>
          <a:xfrm>
            <a:off x="539640" y="2832120"/>
            <a:ext cx="3816360" cy="362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80px-06-10-06rightcentralincisor"/>
          <p:cNvPicPr/>
          <p:nvPr/>
        </p:nvPicPr>
        <p:blipFill>
          <a:blip r:embed="rId2"/>
          <a:stretch/>
        </p:blipFill>
        <p:spPr>
          <a:xfrm>
            <a:off x="5219640" y="2852640"/>
            <a:ext cx="2705040" cy="3456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n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long and sharp teeth that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ea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dge_2"/>
          <p:cNvPicPr/>
          <p:nvPr/>
        </p:nvPicPr>
        <p:blipFill>
          <a:blip r:embed="rId1"/>
          <a:stretch/>
        </p:blipFill>
        <p:spPr>
          <a:xfrm>
            <a:off x="250920" y="2997360"/>
            <a:ext cx="4324320" cy="3600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lion_rctb-6394_blog"/>
          <p:cNvPicPr/>
          <p:nvPr/>
        </p:nvPicPr>
        <p:blipFill>
          <a:blip r:embed="rId2"/>
          <a:srcRect l="31499" t="6478" r="12997" b="17156"/>
          <a:stretch/>
        </p:blipFill>
        <p:spPr>
          <a:xfrm>
            <a:off x="5796000" y="2421000"/>
            <a:ext cx="3024000" cy="424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us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ft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ear_agingfig1_17927_7"/>
          <p:cNvPicPr/>
          <p:nvPr/>
        </p:nvPicPr>
        <p:blipFill>
          <a:blip r:embed="rId1"/>
          <a:stretch/>
        </p:blipFill>
        <p:spPr>
          <a:xfrm>
            <a:off x="0" y="2781360"/>
            <a:ext cx="5076720" cy="3701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premolar"/>
          <p:cNvPicPr/>
          <p:nvPr/>
        </p:nvPicPr>
        <p:blipFill>
          <a:blip r:embed="rId2"/>
          <a:stretch/>
        </p:blipFill>
        <p:spPr>
          <a:xfrm>
            <a:off x="5292720" y="2781360"/>
            <a:ext cx="3330720" cy="352728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teeth are used for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w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rindin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rd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cid%20Erosion%20-%20normal%20molar"/>
          <p:cNvPicPr/>
          <p:nvPr/>
        </p:nvPicPr>
        <p:blipFill>
          <a:blip r:embed="rId1"/>
          <a:stretch/>
        </p:blipFill>
        <p:spPr>
          <a:xfrm>
            <a:off x="250920" y="2924280"/>
            <a:ext cx="3529080" cy="34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ADEN015"/>
          <p:cNvPicPr/>
          <p:nvPr/>
        </p:nvPicPr>
        <p:blipFill>
          <a:blip r:embed="rId2"/>
          <a:stretch/>
        </p:blipFill>
        <p:spPr>
          <a:xfrm>
            <a:off x="4140360" y="2924280"/>
            <a:ext cx="4762440" cy="3400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eth and Anima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fferent animals have different sets of teeth depending on the type of food that they 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 the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herb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om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carniv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think a herbivore will a different set of teeth compared to a carniv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types of teeth does an ominovore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kind of teeth does a sheep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eethandeating_p4_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0957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2:27:33Z</dcterms:created>
  <dc:creator>CEC</dc:creator>
  <dc:description/>
  <dc:language>en-US</dc:language>
  <cp:lastModifiedBy>LEGION2</cp:lastModifiedBy>
  <dcterms:modified xsi:type="dcterms:W3CDTF">2016-01-14T11:21:38Z</dcterms:modified>
  <cp:revision>7</cp:revision>
  <dc:subject/>
  <dc:title>Teeth</dc:title>
</cp:coreProperties>
</file>