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568E-05F6-4FC3-838B-0B7215E0ED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is a disorder involving softening and weakening of the bones (of childr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used by lack of vitamin D, calcium or phosphate in your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prevent getting rick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 of a 20 month old boy with ri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 is a disease caused by a lack of protein in the di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adolescents require protein for growth and develop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s most commonly in areas of famine and limited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urv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F4A-15A5-4543-99E0-08FD9AD8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8C6-A5F2-4251-B5E7-85835351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523-7F03-4F27-A8AE-5569153A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9B1-0AB7-487D-895F-AA3F32A0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1E1-3B0D-44B5-A380-F4A4A484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D81-7668-4FF6-8CD3-4D3BF0D3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C2A-CFB6-491C-B1AA-C8ED3D6F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945-139A-4598-9931-82207203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C4C-4C05-426A-B3FF-35320622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CFD-10DA-45F5-92E4-EB465F0A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1A6-B461-4A96-8CFA-ED7A8B5F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835-7AB7-4444-BEB9-2FC39C9C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4A09-77C8-4C02-BD04-571C5C1D8C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Leg_deformit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achers.org/images/RicketsXR1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kets is a disorder involv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oft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aken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the bones (of childre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caused by lack of vitamin D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alcium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phosphate in your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Arial"/>
              </a:rPr>
              <a:t>What could we do to prevent getting ri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ickets – causes softening and weakening of b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eg_deformity.JPG (211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6480" y="160020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X-ray of a 20 month old boy with 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ice the bow shape of the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RicketsXR1.GIF (339673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5760" y="1600200"/>
            <a:ext cx="27748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 is a disease caused b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 lack of 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he di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ldren and adolescents requir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ote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rowth and 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ccurs most commonly in areas of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ami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mited food supp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WASHIORK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9563"/>
          <p:cNvPicPr/>
          <p:nvPr/>
        </p:nvPicPr>
        <p:blipFill>
          <a:blip r:embed="rId1"/>
          <a:stretch/>
        </p:blipFill>
        <p:spPr>
          <a:xfrm>
            <a:off x="2195640" y="2060640"/>
            <a:ext cx="460836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SCUR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 condition caused by lack of vitamin 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t causes weakness, gum disease and skin haemorrhages (bleeding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curvy is most frequently seen in older, malnourished adul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urvy - vitamin C deficienc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curvy corkscrew hairs"/>
          <p:cNvPicPr/>
          <p:nvPr/>
        </p:nvPicPr>
        <p:blipFill>
          <a:blip r:embed="rId1"/>
          <a:stretch/>
        </p:blipFill>
        <p:spPr>
          <a:xfrm>
            <a:off x="2627280" y="206064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example of the effect of scur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img0008"/>
          <p:cNvPicPr/>
          <p:nvPr/>
        </p:nvPicPr>
        <p:blipFill>
          <a:blip r:embed="rId1"/>
          <a:stretch/>
        </p:blipFill>
        <p:spPr>
          <a:xfrm>
            <a:off x="2700360" y="285264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curv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curvy, periungual hemorrhage"/>
          <p:cNvPicPr/>
          <p:nvPr/>
        </p:nvPicPr>
        <p:blipFill>
          <a:blip r:embed="rId1"/>
          <a:stretch/>
        </p:blipFill>
        <p:spPr>
          <a:xfrm>
            <a:off x="1258920" y="220500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7:24:38Z</dcterms:created>
  <dc:creator>10072162</dc:creator>
  <dc:description/>
  <dc:language>en-US</dc:language>
  <cp:lastModifiedBy>LEGION2</cp:lastModifiedBy>
  <dcterms:modified xsi:type="dcterms:W3CDTF">2016-01-14T11:16:37Z</dcterms:modified>
  <cp:revision>13</cp:revision>
  <dc:subject/>
  <dc:title>Scurvy</dc:title>
</cp:coreProperties>
</file>