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0B04D-459C-49B7-8736-BE43C1B4BB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kets is a disorder involving softening and weakening of the bones (of childre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caused by lack of vitamin D, calcium or phosphate in your di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uld we do to prevent getting ricke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kets is a disorder involving softening and weakening of the bones (of childre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caused by lack of vitamin D, calcium or phosphate in your di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uld we do to prevent getting ricke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kets – causes softening and weakening of b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kets – causes softening and weakening of b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-ray of a 20 month old boy with r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bow shape of the le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-ray of a 20 month old boy with r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bow shape of the le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WASHIORK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washiorkor is a disease caused by a lack of protein in the di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ren and adolescents require protein for growth and develop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occurs most commonly in areas of famine and limited food supp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WASHIORK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washiorkor is a disease caused by a lack of protein in the di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ren and adolescents require protein for growth and develop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occurs most commonly in areas of famine and limited food supp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WASHIORK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WASHIORK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URV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dition caused by lack of vitamin 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auses weakness, gum disease and skin haemorrhages (bleeding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urvy is most frequently seen in older, malnourished adul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URV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dition caused by lack of vitamin 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auses weakness, gum disease and skin haemorrhages (bleeding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urvy is most frequently seen in older, malnourished adul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urvy - vitamin C deficienc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urvy - vitamin C deficienc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example of the effect of scurv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example of the effect of scurv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urv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urv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D0F1-8D3F-4E58-A221-14F5A8B70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40E9-51F2-4C1D-9355-E3449EE88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0A3F-4E9C-4056-8247-3C3760A66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E176-CEA0-4310-90CE-2862C4187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4514-2224-4A72-8BAF-ACE3806B8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082F-9CAF-4371-B177-38984FCA1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AA77-2A32-4099-BEF7-D6E017E42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C1E8-1AF9-4C86-B625-A68C9EBA1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4218-D8DF-4147-AE2C-ED3EEE1D1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D214-7B64-43E3-BE0A-6EA9054F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997A-B10C-44B0-9B73-14AE8694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BA3C-731E-4DAA-B1CA-10EB94B2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72AD7-7A3F-4D18-AF86-EC6C6B5B70B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thachers.org/images/Leg_deformity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thachers.org/images/RicketsXR1.GIF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ck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ickets is a disorder involving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softeni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weakeni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of the bones (of childre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is caused by lack of vitamin D,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calcium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 phosphate in your die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99"/>
                </a:solidFill>
                <a:latin typeface="Arial"/>
              </a:rPr>
              <a:t>What could we do to prevent getting ricke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Rickets – causes softening and weakening of bon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Leg_deformity.JPG (21184 bytes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6480" y="1600200"/>
            <a:ext cx="3189240" cy="452592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X-ray of a 20 month old boy with rick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ice the bow shape of the le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RicketsXR1.GIF (339673 bytes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85760" y="1600200"/>
            <a:ext cx="2774880" cy="452592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WASHIORK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washiorkor is a disease caused by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a lack of protei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n the die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ildren and adolescents require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protein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growth and develop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occurs most commonly in areas of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famin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limited food suppl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WASHIORK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9563"/>
          <p:cNvPicPr/>
          <p:nvPr/>
        </p:nvPicPr>
        <p:blipFill>
          <a:blip r:embed="rId1"/>
          <a:stretch/>
        </p:blipFill>
        <p:spPr>
          <a:xfrm>
            <a:off x="2195640" y="2060640"/>
            <a:ext cx="4608360" cy="304776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Arial"/>
              </a:rPr>
              <a:t>SCUR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 condition caused by lack of vitamin 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t causes weakness, gum disease and skin haemorrhages (bleeding)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curvy is most frequently seen in older, malnourished adult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urvy - vitamin C deficiency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Scurvy corkscrew hairs"/>
          <p:cNvPicPr/>
          <p:nvPr/>
        </p:nvPicPr>
        <p:blipFill>
          <a:blip r:embed="rId1"/>
          <a:stretch/>
        </p:blipFill>
        <p:spPr>
          <a:xfrm>
            <a:off x="2627280" y="2060640"/>
            <a:ext cx="3889440" cy="352908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other example of the effect of scur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simg0008"/>
          <p:cNvPicPr/>
          <p:nvPr/>
        </p:nvPicPr>
        <p:blipFill>
          <a:blip r:embed="rId1"/>
          <a:stretch/>
        </p:blipFill>
        <p:spPr>
          <a:xfrm>
            <a:off x="2700360" y="2852640"/>
            <a:ext cx="3657600" cy="243864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Scurvy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Scurvy, periungual hemorrhage"/>
          <p:cNvPicPr/>
          <p:nvPr/>
        </p:nvPicPr>
        <p:blipFill>
          <a:blip r:embed="rId1"/>
          <a:stretch/>
        </p:blipFill>
        <p:spPr>
          <a:xfrm>
            <a:off x="1258920" y="2205000"/>
            <a:ext cx="6553080" cy="431964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7:24:38Z</dcterms:created>
  <dc:creator>10072162</dc:creator>
  <dc:description/>
  <dc:language>en-US</dc:language>
  <cp:lastModifiedBy>LEGION2</cp:lastModifiedBy>
  <dcterms:modified xsi:type="dcterms:W3CDTF">2016-01-14T11:16:37Z</dcterms:modified>
  <cp:revision>13</cp:revision>
  <dc:subject/>
  <dc:title>Scurvy</dc:title>
</cp:coreProperties>
</file>