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DA07-46F3-465D-8008-9F442BF7B6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4A8F-D71A-47EE-AD3F-26F8BBC5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6C3-17DB-45FB-A3D1-B456691B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B61-70F0-402E-AD70-50CC3BB4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B1E-6E7C-4D63-B818-6E513B70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A16-21D8-454F-A2F2-E93C4E2E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FFD-003C-4BE1-8020-04C1CA88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116-72B8-4836-9908-6919DE03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011-F594-4D66-B7B5-5D804224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1A6-CD7E-4AFE-AB22-568505A5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0E0-5F6C-4F43-A1D8-213794CF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87E-5860-4F52-82F5-1F2253E8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394-1C60-4D0C-9DA1-2E82BDBA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8E1C-C11C-46C3-B5A1-C79612D2AC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Leg_deformit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RicketsXR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kets is a disorder involv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oft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ak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the bones (of 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caused by lack of vitamin D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alcium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phosphate in your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"/>
              </a:rPr>
              <a:t>What could we do to prevent getting r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eg_deformity.JPG (211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6480" y="160020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X-ray of a 20 month old boy with 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icketsXR1.GIF (339673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5760" y="1600200"/>
            <a:ext cx="27748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 is a disease caused b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 lack of 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he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 and adolescents requir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te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rowth and 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ccurs most commonly in areas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am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mited food supp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9563"/>
          <p:cNvPicPr/>
          <p:nvPr/>
        </p:nvPicPr>
        <p:blipFill>
          <a:blip r:embed="rId1"/>
          <a:stretch/>
        </p:blipFill>
        <p:spPr>
          <a:xfrm>
            <a:off x="2195640" y="2060640"/>
            <a:ext cx="460836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SCUR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urvy corkscrew hairs"/>
          <p:cNvPicPr/>
          <p:nvPr/>
        </p:nvPicPr>
        <p:blipFill>
          <a:blip r:embed="rId1"/>
          <a:stretch/>
        </p:blipFill>
        <p:spPr>
          <a:xfrm>
            <a:off x="2627280" y="206064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img0008"/>
          <p:cNvPicPr/>
          <p:nvPr/>
        </p:nvPicPr>
        <p:blipFill>
          <a:blip r:embed="rId1"/>
          <a:stretch/>
        </p:blipFill>
        <p:spPr>
          <a:xfrm>
            <a:off x="2700360" y="285264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curv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curvy, periungual hemorrhage"/>
          <p:cNvPicPr/>
          <p:nvPr/>
        </p:nvPicPr>
        <p:blipFill>
          <a:blip r:embed="rId1"/>
          <a:stretch/>
        </p:blipFill>
        <p:spPr>
          <a:xfrm>
            <a:off x="1258920" y="220500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7:24:38Z</dcterms:created>
  <dc:creator>10072162</dc:creator>
  <dc:description/>
  <dc:language>en-US</dc:language>
  <cp:lastModifiedBy>LEGION2</cp:lastModifiedBy>
  <dcterms:modified xsi:type="dcterms:W3CDTF">2016-01-14T11:16:37Z</dcterms:modified>
  <cp:revision>13</cp:revision>
  <dc:subject/>
  <dc:title>Scurvy</dc:title>
</cp:coreProperties>
</file>