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5376-987B-4EF7-8A82-CF8E1885B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4AA-55E9-440B-B718-F78A5E34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D79-80D3-479C-B645-C58D3A79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22E-561A-4F58-9CEE-286BC9D3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1A0-6777-44EB-A4A3-19F8EB7E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2AF-D07D-4C4E-922D-B3471A8B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619-9E0A-4E47-BCEA-75CCEE0D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EF1-D65C-4310-AA62-EE448CA6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914-F9E0-4A9A-BDDD-7DE6673B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CE8-8738-4A09-B0B4-0EBECBFE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127-E587-4D6B-B242-EC05B775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B6E-08B3-471D-B4A9-BBF8BF41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D87-CED6-49F2-BBC9-CD31866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3712"/>
            </a:gs>
            <a:gs pos="100000">
              <a:srgbClr val="33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DEDB-4512-4921-9224-F48F19D308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komen.org/schizophreniaassociatedwithincreasedcancermortal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frequent diagnosis of patients 14-64 y/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ymptom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cess or distortion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e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hose where the patient thinks he is being followed or watched are common;  also the belief that people on TV, radio are directing special messages to him/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Hallucin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Distortions or exaggerations of perception in any of the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isorganized thinking/speech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Grossly disorganized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Catatonic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Other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osi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 diminution 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s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ffective flatte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log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verty of spe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v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xamples of Avolit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sorganized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gn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ype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n this module we will cov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aranoi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Hebephre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Catato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Residual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Schizoaffec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Disord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Undifferentiate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edic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s include atypicals: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ify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odon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zapi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erido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quel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prexa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Remember: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ff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ll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e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r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edication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such intolerable side effects that the patient will stop the dru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nder 14 y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Cancer Stud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komen.org/schizophreniaassociatedwithincreasedcancermorta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14-64 y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Schizoaffect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Sympto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NARSAD, The Mental Health Research Asso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John Grohol, PsychCentral, 08/07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schizophrenia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is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sorders that may appear like Schizophreni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6:06Z</dcterms:created>
  <dc:creator>ajjohnson</dc:creator>
  <dc:description/>
  <dc:language>en-US</dc:language>
  <cp:lastModifiedBy>LEGION2</cp:lastModifiedBy>
  <dcterms:modified xsi:type="dcterms:W3CDTF">2016-01-14T11:11:21Z</dcterms:modified>
  <cp:revision>24</cp:revision>
  <dc:subject/>
  <dc:title>SCHIZOPHRENIA</dc:title>
</cp:coreProperties>
</file>