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56A4-BA31-499B-BB40-7F9533D45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AB4-D2B2-483D-AAB3-4C784844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C1F-97F6-42EB-AECA-2851970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956-2152-4C9B-9133-14BC53F6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69A-D3E6-4DAF-8C14-086BE5B2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8DA-069F-43F6-9FB3-302EA5D1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9DD-F202-410A-A3EA-D52CC30D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17C-9AB5-4311-8833-E1BF4875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E8E-1314-451B-A33B-B6522E6B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38A-4DF6-444D-B8CD-794C5586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5A0-AA5A-4DB6-A1AE-AA93AA56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B25-96FD-42C1-B0BF-5D6186C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128-EAFA-4B11-ACB5-530E85EC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3712"/>
            </a:gs>
            <a:gs pos="100000">
              <a:srgbClr val="33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1E91-BBC5-403D-8A8C-450AB2BECF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komen.org/schizophreniaassociatedwithincreasedcancermortal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frequent diagnosis of patients 14-64 y/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ss or distortion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ose where the patient thinks he is being followed or watched are common;  also the belief that people on TV, radio are directing special messages to him/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Distortions or exaggerations of perception in any of the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isorganized thinking/speech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Grossly disorganized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Catatonic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Other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osi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 diminution 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s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ffective flatte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log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verty of spe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v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xamples of Avoli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sorganized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gn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n this module we will cov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aranoi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Hebephre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Catato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Residual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Schizoaffec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Dis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Undifferentiate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edic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s include atypicals: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ify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don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zapi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erido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quel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prexa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Remember: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ff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r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such intolerable side effects that the patient will stop the dru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nder 14 y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Cancer Stud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komen.org/schizophreniaassociatedwithincreasedcancermort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14-64 y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Schizoaffect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Sympto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NARSAD, The Mental Health Research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John Grohol, PsychCentral, 08/07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schizophrenia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is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sorders that may appear like Schizophren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6:06Z</dcterms:created>
  <dc:creator>ajjohnson</dc:creator>
  <dc:description/>
  <dc:language>en-US</dc:language>
  <cp:lastModifiedBy>LEGION2</cp:lastModifiedBy>
  <dcterms:modified xsi:type="dcterms:W3CDTF">2016-01-14T11:11:21Z</dcterms:modified>
  <cp:revision>24</cp:revision>
  <dc:subject/>
  <dc:title>SCHIZOPHRENIA</dc:title>
</cp:coreProperties>
</file>