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09D4-377F-4846-94F0-EB17009AC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17B-9F7F-436F-B00E-520D583C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1C5-224B-42C7-993B-D76911E4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0A8-0C84-4EC7-8FD3-F07F1717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A9F-36D1-4630-896E-68F5178C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314-9F2B-4C99-B9E2-91597AD9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A4C-D6EA-4EF4-BA5D-0C821589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CBE-72BA-451F-8FA5-DDB886ED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3F0-5249-45B7-83B5-538CCC20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412-89E7-47BF-9714-B4DAB436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782-003D-485F-A770-ED4F190C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418-96DA-4128-9242-23E19125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4BC-0CA8-4C9B-A7CD-27245139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3712"/>
            </a:gs>
            <a:gs pos="100000">
              <a:srgbClr val="33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9C08-4E5D-46ED-9C22-16A6312232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komen.org/schizophreniaassociatedwithincreasedcancermortal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frequent diagnosis of patients 14-64 y/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ss or distortion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ose where the patient thinks he is being followed or watched are common;  also the belief that people on TV, radio are directing special messages to him/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Distortions or exaggerations of perception in any of the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isorganized thinking/speech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Grossly disorganized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Catatonic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Other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osi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 diminution 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s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ffective flatte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log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verty of spe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v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xamples of Avoli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sorganized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gn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n this module we will cov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aranoi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Hebephre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Catato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Residual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Schizoaffec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Dis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Undifferentiate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edic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s include atypicals: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ify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odon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zapi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erido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quel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prexa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Remember: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ff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e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r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dicatio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such intolerable side effects that the patient will stop the dru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nder 14 y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Cancer Stud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komen.org/schizophreniaassociatedwithincreasedcancermort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14-64 y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Schizoaffect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Sympto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NARSAD, The Mental Health Research Asso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John Grohol, PsychCentral, 08/07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schizophrenia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is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sorders that may appear like Schizophreni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6:06Z</dcterms:created>
  <dc:creator>ajjohnson</dc:creator>
  <dc:description/>
  <dc:language>en-US</dc:language>
  <cp:lastModifiedBy>LEGION2</cp:lastModifiedBy>
  <dcterms:modified xsi:type="dcterms:W3CDTF">2016-01-14T11:11:21Z</dcterms:modified>
  <cp:revision>24</cp:revision>
  <dc:subject/>
  <dc:title>SCHIZOPHRENIA</dc:title>
</cp:coreProperties>
</file>