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347-6A6C-4F8A-B006-01D3B8E3B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ollute our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5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Liche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 are the crusty organisms that grow in places such as on rocks and bri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find them on gravestones and the side of tre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ange in colour from grey-green to orange and red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gas is produced when fuels like coal and oil are bur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chens are very sensitive to air pol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low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large variety of different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big and fluf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reas of high air pol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y limited variety of lich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chens tend to be small and cru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lichens as an indicato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you think an indicator species i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pollution – can you think of any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n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s many ways that human activity may disrupt the Carb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cycle diagram to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fossil fu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 are hydrocarbons, primarily coal, petroleum, fuel oil and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rmed from the fossilised remains of dead plants and animals by exposure to heat and pressure in the Earth's crust over hundreds of million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probl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rning of fossil fuels by humans is the largest source of emissions of carbon dioxide, which is one of the greenhouse gases that contributes to global war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 surface temperature of the Earth will rise i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at leas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58E-9110-421F-A5DE-49C4763A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19F-219F-4DAF-861A-512A940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AF6-F36C-4051-8E12-1D2B543A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309-DD61-461E-9093-10D4AFBA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DD6C2-A8AA-4809-9A99-53401453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71763-DAA7-4B79-9C3D-DA8B3FBF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57CC7-B58A-4C4D-A906-F2AAA44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A43C-EA10-48AE-B44A-1A6F4599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1C190-3D22-4FFF-A47E-F93395CD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18A38-4BFB-4217-8D31-44D255A8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6B62A-72D7-4272-AFC6-3124F3D4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C85-B770-4C34-AFA5-2BD1138B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1F474-A41F-4511-8847-8C9F429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D609C-055F-41EF-BC76-88E48D2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679BA-9F9B-4B6E-AF01-257BD60E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8F0FF-DDDF-4B7E-A91C-FC91B2E8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94E01-29B8-4E04-BE73-1332955A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A86-F5C4-44D5-86C0-986C3685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060-E272-44F0-841A-6356235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B3F-23D1-4A9E-8580-A5532A4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10C-BCAE-4A4A-8E18-DA0DB74E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929-66D6-4287-BD44-3D84E74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706-EAAF-4282-A090-5B6E242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51A-40E0-4C23-94D3-7684C38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902D-458D-4F1D-93DB-5963006C6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2ABE-1097-4A64-95DB-B6743BEDBF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tendringdc.gov.uk/NR/rdonlyres/51200D74-A40B-4104-AE7E-BD2FED5F6A0E/0/pollution.jpeg&amp;imgrefurl=http://www.tendringdc.gov.uk/TendringDC/Environment/EIR.htm&amp;h=475&amp;w=613&amp;sz=35&amp;hl=en&amp;start=3&amp;um=1&amp;tbnid=FPAQhREOEfwHhM:&amp;tbnh=105&amp;tbnw=136&amp;prev=/images%3Fq%3Dpollution%26svnum%3D10%26um%3D1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upload.wikimedia.org/wikipedia/commons/thumb/c/cf/Custer_lichen.jpg/800px-Custer_lichen.jpg&amp;imgrefurl=http://commons.wikimedia.org/wiki/Image:Custer_lichen.jpg&amp;h=600&amp;w=800&amp;sz=199&amp;hl=en&amp;start=18&amp;um=1&amp;tbnid=H-bzlkQ-8TNafM:&amp;tbnh=107&amp;tbnw=143&amp;prev=/images%3Fq%3Dlichen%26svnum%3D10%26um%3D1%26hl%3D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.uk/imgres?imgurl=http://www.milkmag.org/images/Burckhardt,%2520Lichen%2520Tree%25202.jpg&amp;imgrefurl=http://www.milkmag.org/burckhardt%2520page.htm&amp;h=338&amp;w=468&amp;sz=74&amp;hl=en&amp;start=3&amp;um=1&amp;tbnid=GGeHr_GQqKLF-M:&amp;tbnh=92&amp;tbnw=128&amp;prev=/images%3Fq%3Dlichen%26svnum%3D10%26um%3D1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.uk/imgres?imgurl=http://www.adventurist.net/trips/e-rock_04-2001/gallery_12-04/lichen-3.jpg&amp;imgrefurl=http://www.adventurist.net/trips/e-rock_04-2001/gallery_12-04/&amp;h=713&amp;w=950&amp;sz=163&amp;hl=en&amp;start=10&amp;um=1&amp;tbnid=ujSLeUgCAQl7RM:&amp;tbnh=111&amp;tbnw=148&amp;prev=/images%3Fq%3Dlichen%26svnum%3D10%26um%3D1%26hl%3Den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ntariowildflower.com/images/lichen_waxpaper.jpg&amp;imgrefurl=http://www.ontariowildflower.com/moss.htm&amp;h=352&amp;w=400&amp;sz=26&amp;hl=en&amp;start=31&amp;um=1&amp;tbnid=9rUGz2BQYXPyWM:&amp;tbnh=109&amp;tbnw=124&amp;prev=/images%3Fq%3Dlichen%26start%3D21%26ndsp%3D21%26svnum%3D10%26um%3D1%26hl%3Den%26sa%3DN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drocarbon" TargetMode="External"/><Relationship Id="rId2" Type="http://schemas.openxmlformats.org/officeDocument/2006/relationships/hyperlink" Target="http://en.wikipedia.org/wiki/Coal" TargetMode="External"/><Relationship Id="rId3" Type="http://schemas.openxmlformats.org/officeDocument/2006/relationships/hyperlink" Target="http://en.wikipedia.org/wiki/Petroleum" TargetMode="External"/><Relationship Id="rId4" Type="http://schemas.openxmlformats.org/officeDocument/2006/relationships/hyperlink" Target="http://en.wikipedia.org/wiki/Fuel_oil" TargetMode="External"/><Relationship Id="rId5" Type="http://schemas.openxmlformats.org/officeDocument/2006/relationships/hyperlink" Target="http://en.wikipedia.org/wiki/Natural_gas" TargetMode="External"/><Relationship Id="rId6" Type="http://schemas.openxmlformats.org/officeDocument/2006/relationships/hyperlink" Target="http://en.wikipedia.org/wiki/Fossil" TargetMode="External"/><Relationship Id="rId7" Type="http://schemas.openxmlformats.org/officeDocument/2006/relationships/hyperlink" Target="http://en.wikipedia.org/wiki/Earth" TargetMode="External"/><Relationship Id="rId8" Type="http://schemas.openxmlformats.org/officeDocument/2006/relationships/hyperlink" Target="http://en.wikipedia.org/wiki/Crust_%28geology%29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rbon_dioxide" TargetMode="External"/><Relationship Id="rId2" Type="http://schemas.openxmlformats.org/officeDocument/2006/relationships/hyperlink" Target="http://en.wikipedia.org/wiki/Greenhouse_gas" TargetMode="External"/><Relationship Id="rId3" Type="http://schemas.openxmlformats.org/officeDocument/2006/relationships/hyperlink" Target="http://en.wikipedia.org/wiki/Global_warming" TargetMode="External"/><Relationship Id="rId4" Type="http://schemas.openxmlformats.org/officeDocument/2006/relationships/hyperlink" Target="http://en.wikipedia.org/wiki/Average_surface_temperatur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.uk/imgres?imgurl=http://www.stuff.co.nz/images/316572.jpg&amp;imgrefurl=http://www.stuff.co.nz/4163340a34.html&amp;h=360&amp;w=300&amp;sz=35&amp;hl=en&amp;start=16&amp;um=1&amp;tbnid=xLXUThheT2RG0M:&amp;tbnh=121&amp;tbnw=101&amp;prev=/images%3Fq%3Dbike%26svnum%3D10%26um%3D1%26hl%3De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.uk/imgres?imgurl=http://www.lancashire.gov.uk/environment/waste/reduction/Images/Recycle.jpg&amp;imgrefurl=http://www.lancashire.gov.uk/environment/waste/reduction/recycle.asp&amp;h=792&amp;w=792&amp;sz=120&amp;hl=en&amp;start=2&amp;um=1&amp;tbnid=Ew1MOhxuV4IX2M:&amp;tbnh=143&amp;tbnw=143&amp;prev=/images%3Fq%3Drecycle%26svnum%3D10%26um%3D1%26hl%3De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.uk/imgres?imgurl=http://www.mytinyplot.co.uk/photos/compost.jpg&amp;imgrefurl=http://www.mytinyplot.co.uk/%3Fp%3D83&amp;h=306&amp;w=440&amp;sz=82&amp;hl=en&amp;start=15&amp;um=1&amp;tbnid=_VZ-O_yURrQ6TM:&amp;tbnh=88&amp;tbnw=127&amp;prev=/images%3Fq%3Dcompost%26svnum%3D10%26um%3D1%26hl%3Den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.uk/imgres?imgurl=http://www.edenslostandfound.org/home/images/photos/phtreeplanting.jpg&amp;imgrefurl=http://www.edenslostandfound.org/home/preview.php%3Fid%3D86&amp;h=387&amp;w=300&amp;sz=26&amp;hl=en&amp;start=5&amp;um=1&amp;tbnid=I0sqkBBIFYMPEM:&amp;tbnh=123&amp;tbnw=95&amp;prev=/images%3Fq%3Dplant%2Btrees%26svnum%3D10%26um%3D1%26hl%3Den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How do we pollute our environme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st 5 w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pollu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836640"/>
            <a:ext cx="158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Indicator speci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ing at Lichen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ich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the crusty organisms that grow in places such as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ro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bric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find them o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gravest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side of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re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range in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colou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rom grey-green to orange and r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800px-Custer_lich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33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Burckhardt,%2520Lichen%2520Tree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084640"/>
            <a:ext cx="2298600" cy="1652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ichen-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5013360"/>
            <a:ext cx="208944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Lich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ulphur dioxide 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produced when fuels like coal and oil are burne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lichens are very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sensi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air pollu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low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 large variety of different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big and fluff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areas of high air pollu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ry limited variety of lichen spe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lichens tend to be small and crus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an use lichens as an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indicator speci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Explain what you think an indicator species i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ichen_wax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187164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ichen2"/>
          <p:cNvPicPr/>
          <p:nvPr/>
        </p:nvPicPr>
        <p:blipFill>
          <a:blip r:embed="rId3"/>
          <a:stretch/>
        </p:blipFill>
        <p:spPr>
          <a:xfrm>
            <a:off x="7135920" y="4292640"/>
            <a:ext cx="200808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yellowLichen"/>
          <p:cNvPicPr/>
          <p:nvPr/>
        </p:nvPicPr>
        <p:blipFill>
          <a:blip r:embed="rId4"/>
          <a:stretch/>
        </p:blipFill>
        <p:spPr>
          <a:xfrm>
            <a:off x="7470720" y="0"/>
            <a:ext cx="1673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Ai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air-pollution-systems"/>
          <p:cNvPicPr/>
          <p:nvPr/>
        </p:nvPicPr>
        <p:blipFill>
          <a:blip r:embed="rId1"/>
          <a:stretch/>
        </p:blipFill>
        <p:spPr>
          <a:xfrm>
            <a:off x="2556000" y="2708280"/>
            <a:ext cx="374328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Water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Water pollution"/>
          <p:cNvPicPr/>
          <p:nvPr/>
        </p:nvPicPr>
        <p:blipFill>
          <a:blip r:embed="rId1"/>
          <a:stretch/>
        </p:blipFill>
        <p:spPr>
          <a:xfrm>
            <a:off x="611280" y="2349360"/>
            <a:ext cx="3682800" cy="27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pollution"/>
          <p:cNvPicPr/>
          <p:nvPr/>
        </p:nvPicPr>
        <p:blipFill>
          <a:blip r:embed="rId2"/>
          <a:stretch/>
        </p:blipFill>
        <p:spPr>
          <a:xfrm>
            <a:off x="4932360" y="1773360"/>
            <a:ext cx="2944800" cy="39700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Land pollution – can you think of any exampl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03-03-03"/>
          <p:cNvPicPr/>
          <p:nvPr/>
        </p:nvPicPr>
        <p:blipFill>
          <a:blip r:embed="rId1"/>
          <a:stretch/>
        </p:blipFill>
        <p:spPr>
          <a:xfrm>
            <a:off x="2340000" y="1628640"/>
            <a:ext cx="4381560" cy="42865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Impact on the Carbon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s many ways that human activity may disrupt the Carbon Cy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 your cycle diagram to help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iscu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are fossil fuel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sil fu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ydrocarb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rimarily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o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le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uel o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formed from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ossilised remai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dead plants and animals by exposure to heat and pressure in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Ear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's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cr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 hundreds of millions of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rning of fossil fuels by humans is the largest source of emissions of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carbon diox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s one of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greenhouse g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ontributes t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global warm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eans that th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urface temp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Earth will rise in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Fossil Fu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lobal_Carbon_Emission_by_Type"/>
          <p:cNvPicPr/>
          <p:nvPr/>
        </p:nvPicPr>
        <p:blipFill>
          <a:blip r:embed="rId1"/>
          <a:stretch/>
        </p:blipFill>
        <p:spPr>
          <a:xfrm>
            <a:off x="1042920" y="1746360"/>
            <a:ext cx="7056360" cy="5111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What can we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st at least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Mojave2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48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3165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844640"/>
            <a:ext cx="1803240" cy="216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Recycl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87640" y="4292640"/>
            <a:ext cx="1938240" cy="19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ompos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1440000"/>
            <a:ext cx="2665440" cy="184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phtreeplan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0920" y="2997360"/>
            <a:ext cx="228132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2:31:38Z</dcterms:created>
  <dc:creator>Jack Timmins</dc:creator>
  <dc:description/>
  <dc:language>en-US</dc:language>
  <cp:lastModifiedBy>LEGION2</cp:lastModifiedBy>
  <dcterms:modified xsi:type="dcterms:W3CDTF">2016-01-14T11:02:46Z</dcterms:modified>
  <cp:revision>8</cp:revision>
  <dc:subject/>
  <dc:title>How do we pollute our environment?</dc:title>
</cp:coreProperties>
</file>