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6B7C-E0F2-47BD-9D9A-7D1887877F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we pollute our environmen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5 way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pollute our 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5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cator specie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ing at Lichen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chens are the crusty organisms that grow in places such as on rocks and brick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can also find them on gravestones and the side of tre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range in colour from grey-green to orange and red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 spe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Lichen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hens are the crusty organisms that grow in places such as on rocks and bric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lso find them on gravestones and the side of tre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ange in colour from grey-green to orange and red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che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lphur dioxide gas is produced when fuels like coal and oil are burne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lichens are very sensitive to air pollu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reas of low air pollutio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 large variety of different lichen spec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ichens tend to be big and fluff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reas of high air pollutio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very limited variety of lichen spec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ichens tend to be small and crus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can use lichens as an indicator speci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in what you think an indicator species i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 dioxide gas is produced when fuels like coal and oil are bur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ichens are very sensitive to air pol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reas of low air pol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 large variety of different lich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chens tend to be big and fluf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reas of high air pol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ery limited variety of lich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chens tend to be small and cru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lichens as an indicator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you think an indicator species i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r pollution – can you think of any example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pollution – can you think of any examp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pollution – can you think of any example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pollution – can you think of any examp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nd pollution – can you think of any example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 pollution – can you think of any examp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act on the Carbon Cyc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as many ways that human activity may disrupt the Carbon Cyc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your cycle diagram to help yo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on the Carb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as many ways that human activity may disrupt the Carb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your cycle diagram to help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fossil fuel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ssil fuels are hydrocarbons, primarily coal, petroleum, fuel oil and ga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formed from the fossilised remains of dead plants and animals by exposure to heat and pressure in the Earth's crust over hundreds of millions of yea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fossil fue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 fuels are hydrocarbons, primarily coal, petroleum, fuel oil and g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ormed from the fossilised remains of dead plants and animals by exposure to heat and pressure in the Earth's crust over hundreds of millions of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’s the proble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urning of fossil fuels by humans is the largest source of emissions of carbon dioxide, which is one of the greenhouse gases that contributes to global warming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means that the surface temperature of the Earth will rise in respon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the probl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rning of fossil fuels by humans is the largest source of emissions of carbon dioxide, which is one of the greenhouse gases that contributes to global war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the surface temperature of the Earth will rise in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ssil Fue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ssil Fu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at least 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at least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BC00-EE29-41B6-818C-BA7965D83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2E6A-9B5F-4A0B-945E-4824A484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86B3-1F10-4AD8-A4CF-D42F88366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E94E-53B7-457A-BDDD-B415C920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FBE22-3113-47D1-B751-440B4327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3AD11-8558-4102-80C7-19639980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DBFB0-52F5-464F-BC27-7895D3D6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E5D84-54F9-4CAD-8547-A1591C62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BDDB5-6900-4B26-BCB5-F75AB387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792E6-8FD6-4594-A891-8884C8BE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A8205-2F4A-4B0E-9322-36CC5F2A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7637-CB2D-46E2-9016-D081413B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7C3AC-CED2-4C63-8D0E-30757168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8D405-36D4-42C6-BC9D-522A74D3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60714-53C2-442D-98C8-BCFF006D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FD36A-33C7-4164-AADF-87135DBD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28EE3-2BF2-4D43-A1D0-C47B54868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F5C2-40B9-4053-A34A-91F8C11C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56F6-78B3-408F-93D8-35632FDD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5E86-C135-4027-A0B4-E202FE72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2D7F-1BA6-4D9D-A481-875CF3A2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A1AA-464D-4266-A2CC-32582C1E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E719-E071-4B19-9D16-1FEF88F7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F624-A560-4DA0-A316-C82515D8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C251-45BF-490F-9B1F-FAFEB40E7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A6BA-EE44-4C60-B298-860E73AB74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tendringdc.gov.uk/NR/rdonlyres/51200D74-A40B-4104-AE7E-BD2FED5F6A0E/0/pollution.jpeg&amp;imgrefurl=http://www.tendringdc.gov.uk/TendringDC/Environment/EIR.htm&amp;h=475&amp;w=613&amp;sz=35&amp;hl=en&amp;start=3&amp;um=1&amp;tbnid=FPAQhREOEfwHhM:&amp;tbnh=105&amp;tbnw=136&amp;prev=/images%3Fq%3Dpollution%26svnum%3D10%26um%3D1%26hl%3D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upload.wikimedia.org/wikipedia/commons/thumb/c/cf/Custer_lichen.jpg/800px-Custer_lichen.jpg&amp;imgrefurl=http://commons.wikimedia.org/wiki/Image:Custer_lichen.jpg&amp;h=600&amp;w=800&amp;sz=199&amp;hl=en&amp;start=18&amp;um=1&amp;tbnid=H-bzlkQ-8TNafM:&amp;tbnh=107&amp;tbnw=143&amp;prev=/images%3Fq%3Dlichen%26svnum%3D10%26um%3D1%26hl%3Den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.uk/imgres?imgurl=http://www.milkmag.org/images/Burckhardt,%2520Lichen%2520Tree%25202.jpg&amp;imgrefurl=http://www.milkmag.org/burckhardt%2520page.htm&amp;h=338&amp;w=468&amp;sz=74&amp;hl=en&amp;start=3&amp;um=1&amp;tbnid=GGeHr_GQqKLF-M:&amp;tbnh=92&amp;tbnw=128&amp;prev=/images%3Fq%3Dlichen%26svnum%3D10%26um%3D1%26hl%3Den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co.uk/imgres?imgurl=http://www.adventurist.net/trips/e-rock_04-2001/gallery_12-04/lichen-3.jpg&amp;imgrefurl=http://www.adventurist.net/trips/e-rock_04-2001/gallery_12-04/&amp;h=713&amp;w=950&amp;sz=163&amp;hl=en&amp;start=10&amp;um=1&amp;tbnid=ujSLeUgCAQl7RM:&amp;tbnh=111&amp;tbnw=148&amp;prev=/images%3Fq%3Dlichen%26svnum%3D10%26um%3D1%26hl%3Den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ontariowildflower.com/images/lichen_waxpaper.jpg&amp;imgrefurl=http://www.ontariowildflower.com/moss.htm&amp;h=352&amp;w=400&amp;sz=26&amp;hl=en&amp;start=31&amp;um=1&amp;tbnid=9rUGz2BQYXPyWM:&amp;tbnh=109&amp;tbnw=124&amp;prev=/images%3Fq%3Dlichen%26start%3D21%26ndsp%3D21%26svnum%3D10%26um%3D1%26hl%3Den%26sa%3DN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ydrocarbon" TargetMode="External"/><Relationship Id="rId2" Type="http://schemas.openxmlformats.org/officeDocument/2006/relationships/hyperlink" Target="http://en.wikipedia.org/wiki/Coal" TargetMode="External"/><Relationship Id="rId3" Type="http://schemas.openxmlformats.org/officeDocument/2006/relationships/hyperlink" Target="http://en.wikipedia.org/wiki/Petroleum" TargetMode="External"/><Relationship Id="rId4" Type="http://schemas.openxmlformats.org/officeDocument/2006/relationships/hyperlink" Target="http://en.wikipedia.org/wiki/Fuel_oil" TargetMode="External"/><Relationship Id="rId5" Type="http://schemas.openxmlformats.org/officeDocument/2006/relationships/hyperlink" Target="http://en.wikipedia.org/wiki/Natural_gas" TargetMode="External"/><Relationship Id="rId6" Type="http://schemas.openxmlformats.org/officeDocument/2006/relationships/hyperlink" Target="http://en.wikipedia.org/wiki/Fossil" TargetMode="External"/><Relationship Id="rId7" Type="http://schemas.openxmlformats.org/officeDocument/2006/relationships/hyperlink" Target="http://en.wikipedia.org/wiki/Earth" TargetMode="External"/><Relationship Id="rId8" Type="http://schemas.openxmlformats.org/officeDocument/2006/relationships/hyperlink" Target="http://en.wikipedia.org/wiki/Crust_%28geology%29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arbon_dioxide" TargetMode="External"/><Relationship Id="rId2" Type="http://schemas.openxmlformats.org/officeDocument/2006/relationships/hyperlink" Target="http://en.wikipedia.org/wiki/Greenhouse_gas" TargetMode="External"/><Relationship Id="rId3" Type="http://schemas.openxmlformats.org/officeDocument/2006/relationships/hyperlink" Target="http://en.wikipedia.org/wiki/Global_warming" TargetMode="External"/><Relationship Id="rId4" Type="http://schemas.openxmlformats.org/officeDocument/2006/relationships/hyperlink" Target="http://en.wikipedia.org/wiki/Average_surface_temperature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google.co.uk/imgres?imgurl=http://www.stuff.co.nz/images/316572.jpg&amp;imgrefurl=http://www.stuff.co.nz/4163340a34.html&amp;h=360&amp;w=300&amp;sz=35&amp;hl=en&amp;start=16&amp;um=1&amp;tbnid=xLXUThheT2RG0M:&amp;tbnh=121&amp;tbnw=101&amp;prev=/images%3Fq%3Dbike%26svnum%3D10%26um%3D1%26hl%3Den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ages.google.co.uk/imgres?imgurl=http://www.lancashire.gov.uk/environment/waste/reduction/Images/Recycle.jpg&amp;imgrefurl=http://www.lancashire.gov.uk/environment/waste/reduction/recycle.asp&amp;h=792&amp;w=792&amp;sz=120&amp;hl=en&amp;start=2&amp;um=1&amp;tbnid=Ew1MOhxuV4IX2M:&amp;tbnh=143&amp;tbnw=143&amp;prev=/images%3Fq%3Drecycle%26svnum%3D10%26um%3D1%26hl%3Den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images.google.co.uk/imgres?imgurl=http://www.mytinyplot.co.uk/photos/compost.jpg&amp;imgrefurl=http://www.mytinyplot.co.uk/%3Fp%3D83&amp;h=306&amp;w=440&amp;sz=82&amp;hl=en&amp;start=15&amp;um=1&amp;tbnid=_VZ-O_yURrQ6TM:&amp;tbnh=88&amp;tbnw=127&amp;prev=/images%3Fq%3Dcompost%26svnum%3D10%26um%3D1%26hl%3Den" TargetMode="External"/><Relationship Id="rId7" Type="http://schemas.openxmlformats.org/officeDocument/2006/relationships/image" Target="../media/image11.jpeg"/><Relationship Id="rId8" Type="http://schemas.openxmlformats.org/officeDocument/2006/relationships/hyperlink" Target="http://images.google.co.uk/imgres?imgurl=http://www.edenslostandfound.org/home/images/photos/phtreeplanting.jpg&amp;imgrefurl=http://www.edenslostandfound.org/home/preview.php%3Fid%3D86&amp;h=387&amp;w=300&amp;sz=26&amp;hl=en&amp;start=5&amp;um=1&amp;tbnid=I0sqkBBIFYMPEM:&amp;tbnh=123&amp;tbnw=95&amp;prev=/images%3Fq%3Dplant%2Btrees%26svnum%3D10%26um%3D1%26hl%3Den" TargetMode="External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How do we pollute our environment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List 5 way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pollu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836640"/>
            <a:ext cx="1584000" cy="12240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Indicator specie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king at Lichen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Liche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re the crusty organisms that grow in places such as on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rock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brick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can also find them on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graveston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the side of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tre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range in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colou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rom grey-green to orange and red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800px-Custer_lich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33336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Burckhardt,%2520Lichen%2520Tree%252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56360" y="5084640"/>
            <a:ext cx="2298600" cy="1652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lichen-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050920" y="5013360"/>
            <a:ext cx="2089440" cy="156672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Liche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Sulphur dioxide ga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s produced when fuels like coal and oil are burne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me lichens are very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sensitiv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to air pollu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areas of low air pollutio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a large variety of different lichen spec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lichens tend to be big and fluff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areas of high air pollutio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very limited variety of lichen spec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lichens tend to be small and crus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 can use lichens as an </a:t>
            </a: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indicator speci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Explain what you think an indicator species is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lichen_waxpap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0"/>
            <a:ext cx="1871640" cy="1644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lichen2"/>
          <p:cNvPicPr/>
          <p:nvPr/>
        </p:nvPicPr>
        <p:blipFill>
          <a:blip r:embed="rId3"/>
          <a:stretch/>
        </p:blipFill>
        <p:spPr>
          <a:xfrm>
            <a:off x="7135920" y="4292640"/>
            <a:ext cx="2008080" cy="2565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yellowLichen"/>
          <p:cNvPicPr/>
          <p:nvPr/>
        </p:nvPicPr>
        <p:blipFill>
          <a:blip r:embed="rId4"/>
          <a:stretch/>
        </p:blipFill>
        <p:spPr>
          <a:xfrm>
            <a:off x="7470720" y="0"/>
            <a:ext cx="1673280" cy="17002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Air pollution – can you think of any exampl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7" descr="air-pollution-systems"/>
          <p:cNvPicPr/>
          <p:nvPr/>
        </p:nvPicPr>
        <p:blipFill>
          <a:blip r:embed="rId1"/>
          <a:stretch/>
        </p:blipFill>
        <p:spPr>
          <a:xfrm>
            <a:off x="2556000" y="2708280"/>
            <a:ext cx="3743280" cy="32385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Water pollution – can you think of any exampl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5" descr="Water pollution"/>
          <p:cNvPicPr/>
          <p:nvPr/>
        </p:nvPicPr>
        <p:blipFill>
          <a:blip r:embed="rId1"/>
          <a:stretch/>
        </p:blipFill>
        <p:spPr>
          <a:xfrm>
            <a:off x="611280" y="2349360"/>
            <a:ext cx="3682800" cy="2762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pollution"/>
          <p:cNvPicPr/>
          <p:nvPr/>
        </p:nvPicPr>
        <p:blipFill>
          <a:blip r:embed="rId2"/>
          <a:stretch/>
        </p:blipFill>
        <p:spPr>
          <a:xfrm>
            <a:off x="4932360" y="1773360"/>
            <a:ext cx="2944800" cy="39700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Land pollution – can you think of any exampl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03-03-03"/>
          <p:cNvPicPr/>
          <p:nvPr/>
        </p:nvPicPr>
        <p:blipFill>
          <a:blip r:embed="rId1"/>
          <a:stretch/>
        </p:blipFill>
        <p:spPr>
          <a:xfrm>
            <a:off x="2340000" y="1628640"/>
            <a:ext cx="4381560" cy="42865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Impact on the Carbon Cyc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ist as many ways that human activity may disrupt the Carbon Cy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Use your cycle diagram to help 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Discu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What are fossil fuel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ssil fue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hydrocarb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primarily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co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petroleu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fuel oi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ga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formed from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fossilised remai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dead plants and animals by exposure to heat and pressure in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Ear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's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cru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ver hundreds of millions of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What’s the problem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urning of fossil fuels by humans is the largest source of emissions of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carbon dioxid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which is one of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greenhouse gas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at contributes to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global warm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means that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surface temperatu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the Earth will rise in respon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Fossil Fue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Global_Carbon_Emission_by_Type"/>
          <p:cNvPicPr/>
          <p:nvPr/>
        </p:nvPicPr>
        <p:blipFill>
          <a:blip r:embed="rId1"/>
          <a:stretch/>
        </p:blipFill>
        <p:spPr>
          <a:xfrm>
            <a:off x="1042920" y="1746360"/>
            <a:ext cx="7056360" cy="51116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What can we do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ist at least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Mojave2"/>
          <p:cNvPicPr/>
          <p:nvPr/>
        </p:nvPicPr>
        <p:blipFill>
          <a:blip r:embed="rId1"/>
          <a:stretch/>
        </p:blipFill>
        <p:spPr>
          <a:xfrm>
            <a:off x="5292720" y="3645000"/>
            <a:ext cx="3311640" cy="2489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3165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1844640"/>
            <a:ext cx="1803240" cy="2160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Recycl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87640" y="4292640"/>
            <a:ext cx="1938240" cy="1938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compost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67280" y="1440000"/>
            <a:ext cx="2665440" cy="1847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phtreeplanti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50920" y="2997360"/>
            <a:ext cx="2281320" cy="29527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12:31:38Z</dcterms:created>
  <dc:creator>Jack Timmins</dc:creator>
  <dc:description/>
  <dc:language>en-US</dc:language>
  <cp:lastModifiedBy>LEGION2</cp:lastModifiedBy>
  <dcterms:modified xsi:type="dcterms:W3CDTF">2016-01-14T11:02:46Z</dcterms:modified>
  <cp:revision>8</cp:revision>
  <dc:subject/>
  <dc:title>How do we pollute our environment?</dc:title>
</cp:coreProperties>
</file>