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42A9-0C05-4B7C-854F-443BD673F9F5}" type="slidenum">
              <a:rPr b="0" lang="uk-UA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al Requirement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 SG Bhuvan kum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utritional Requirement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by  SG Bhuvan kumar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ine is require for proper formation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e and enamel on the teeth and prevents  dental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ine present in the soil get dissolved in the ground water and is major sources for fluorine for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osis  is a disease caused due to excess fluorine  in wa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people affected with fluorosis the teeth become yellow and bone deformations are see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y can’t stand erect and walk proper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LUORINE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luorine is require for proper formation of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Bone and enamel on the teeth and prevents  dental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ri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luorine present in the soil get dissolved in the ground water and is major sources for fluorine for the bod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luorosis  is a disease caused due to excess fluorine  in water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n people affected with fluorosis the teeth become yellow and bone deformations are seen. 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 they can’t stand erect and walk properl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is the major element required for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forms about 1.5 to 2% of the body weight in an adu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quired for the formation of bones, teeth, coagulation of blood, for muscle contraction, for  production of milk in lactating fema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require about 400 – 500 mg. of calcium per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LCIU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lcium is the major element required for the bod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forms about 1.5 to 2% of the body weight in an adult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required for the formation of bones, teeth, coagulation of blood, for muscle contraction, for  production of milk in lactating femal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We require about 400 – 500 mg. of calcium per da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 is major element used in the formation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emoglob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60-70% of iron in the body is present in bloo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iron causes anaem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:  The best sources of iron are liver, eggs, meat, fish, cereals, nuts, green leafy vegetables and dried fruits, oat, me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major component in haemoglobin and it helps to carry O2 from lungs to the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present in proteins involved in electron transport and respi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RON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ron is major element used in the formation of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Haemoglobin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About 60-70% of iron in the body is present in blood. 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Deficiency of iron causes anaemia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urce:  The best sources of iron are liver, eggs, meat, fish, cereals, nuts, green leafy vegetables and dried fruits, oat, meal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the major component in haemoglobin and it helps to carry O2 from lungs to the cell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also present in proteins involved in electron transport and respiration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the most essential constituent of lif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90% of water is present in protoplas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available to the body through three sources-drinking water, water stored in food and metabolic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WATER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Water is the most essential constituent of life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About 90% of water is present in protoplasm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Water is available to the body through three sources-drinking water, water stored in food and metabolic water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al Requir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 means either preparation of food or Supply of nutrients for the release of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 substances required for the production of energy, for the growth and for body building are called Nutr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curement of nutrients is called Nutr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portant nutrients required for the body are carbohydrates, fats,  proteins , vitamins and 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nutrients like carbohydrates, proteins, fats and mineral like sodium are required in large quantities and they are known as Macro-nutri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nutrients like vitamins and minerals like iron, zinc molybdenum etc are required in very minute doses, (even in micrograms), are known as micro-nutri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utritional Requirement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utrition means either preparation of food or Supply of nutrients for the release of energ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chemical substances required for the production of energy, for the growth and for body building are called Nutrient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procurement of nutrients is called Nutrition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important nutrients required for the body are carbohydrates, fats,  proteins , vitamins and mineral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me nutrients like carbohydrates, proteins, fats and mineral like sodium are required in large quantities and they are known as Macro-nutrien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me nutrients like vitamins and minerals like iron, zinc molybdenum etc are required in very minute doses, (even in micrograms), are known as micro-nutrien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hydrates are a group of compounds with Carbon, Hydrogen and Oxyg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ified into two groups – Simple Carbohydrates and Complex Carbohydr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Carbohydrates are sugars like Glucose, Fructose etc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Carbohydrates  are Sucrose, Maltose, Lactose etc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ulose is present in plant cells and it is not digested in the human digestive syst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no nutritive value  in man but the presence of cellulose in food helps to avoi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ip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ess glucose is converted in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essential amino acid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ycogen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gram of Carbohydrates gives 4 kilo calorie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RBOHYDRATES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rbohydrates are a group of compounds with Carbon, Hydrogen and Oxygen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y are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lassified into two groups – Simple Carbohydrates and Complex Carbohydrat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imple Carbohydrates are sugars like Glucose, Fructose etc.,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omplex Carbohydrates  are Sucrose, Maltose, Lactose etc.,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ellulose is present in plant cells and it is not digested in the human digestive system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has no nutritive value  in man but the presence of cellulose in food helps to avoid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onstipation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cess glucose is converted into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on-essential amino acids,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glycogen and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One gram of Carbohydrates gives 4 kilo calories of energy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ycogen  is called Animal St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tose  is called Milk su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rose  is called cane sug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rts persons take glucose to get instant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eat only rice, only carbohydrates are supplied to the body and body building material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roteins) will be defici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eat only proteins, body will be built up but for daily metabolic activities, energy will not be suppli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nce for healthy growth, all type of nutrients are required for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having all the nutrients in required quantity for the body is called Balanced di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Glycogen  is called Animal Starch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Lactose  is called Milk sugar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ucrose  is called cane sugar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ports persons take glucose to get instant energy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f we eat only rice, only carbohydrates are supplied to the body and body building materials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(proteins) will be deficient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f we eat only proteins, body will be built up but for daily metabolic activities, energy will not be supplied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Hence for healthy growth, all type of nutrients are required for the bod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ood having all the nutrients in required quantity for the body is called Balanced diet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are body building substances with Carbon, Hydrogen, Oxygen, Nitrogen. and  Sulphur in small amou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have 24 types of amino acids, out of these 20 are present in most of the 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our requirement, amino acids are classified in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ential amino acids   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essential amino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essential amino acids are Isoleucine, Leucine, Lysine  etc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Non-essential amino acids are Alanine, Arginine,  Aspartic acid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idine is the essential amino acid only for infants but not for ad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 are body building substances with Carbon, Hydrogen, Oxygen, Nitrogen. and  Sulphur in small amoun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 have 24 types of amino acids, out of these 20 are present in most of the protein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Based on our requirement, amino acids are classified into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ssential amino acids    and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on-essential amino acid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amples of essential amino acids are Isoleucine, Leucine, Lysine  etc.,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amples of Non-essential amino acids are Alanine, Arginine,  Aspartic acid etc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Histidine is the essential amino acid only for infants but not for adul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teins from animal sources like Milk, Meat, Eggs, Fish etc., are rich sources of proteins and are called as Biologically complete prote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from vegetable sources like Pulses, Beans, Legumes etc, contain less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ount of amino acids when compared to animal sources. Hence they are called as Biologically incomplete prote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 of 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are used in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ous metabolic pathways as enzy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coordination as hormo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buil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air and maintenance of tiss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tenance of osmotic press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duction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proteins from animal sources like Milk, Meat, Eggs, Fish etc., are rich sources of proteins and are called as Biologically complete protein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 from vegetable sources like Pulses, Beans, Legumes etc, contain lesser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amount of amino acids when compared to animal sources. Hence they are called as Biologically incomplete protein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unction of protein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 are used in -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various metabolic pathways as enzym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hemical coordination as hormon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body building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repair and maintenance of tissu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maintenance of osmotic pressure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production of energy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 are the organic compounds with Carbon, Hydrogen and Oxygen and are made up  of fatty acids and Glycer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ty acids are divided into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ated fatty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aturated fatty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tty acids required for our body and not present in our body are called a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ential fatty acid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- Linoleic acid, Linolenic ac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 are present in both plant and animal foods like Milk, Ghee, Butter, Cheese, Egg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tc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 sources are usually in the form of Oils like Groundnut oil, Mustard, Sesame, Coconut, Palm etc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 are solids at 20oC. Liquid fats are called oi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easy to store fats in the body as fats are insoluble in water and can be easily stored in soli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 are the organic compounds with Carbon, Hydrogen and Oxygen and are made up  of fatty acids and Glycerol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ty acids are divided into:-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aturated fatty acid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Unsaturated fatty acid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fatty acids required for our body and not present in our body are called as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ssential fatty acids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:- Linoleic acid, Linolenic acid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 are present in both plant and animal foods like Milk, Ghee, Butter, Cheese, Eggs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tc.,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lant sources are usually in the form of Oils like Groundnut oil, Mustard, Sesame, Coconut, Palm etc.,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 are solids at 20oC. Liquid fats are called oils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easy to store fats in the body as fats are insoluble in water and can be easily stored in solid form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sterol is saturated fatty acid.  Whe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es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sterol is consumed, it is deposited along the walls of the arteries and interferes with the blood flow. This may lead to Heart attac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naspathi is prepared by converting unsaturated fatty acids present in vegetable oils to  saturated fatty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gram of fats yield 9.45 Kilo calorie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ts under the skin helps in preserving the body 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 are used in the body to generate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quired for the formation of membranes in all the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wth and development will not be normal if the required amounts of unsaturated fatty acids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not provided in the di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holesterol is saturated fatty acid.  When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cess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holesterol is consumed, it is deposited along the walls of the arteries and interferes with the blood flow. This may lead to Heart attack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Vanaspathi is prepared by converting unsaturated fatty acids present in vegetable oils to  saturated fatty acid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UNCTION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One gram of fats yield 9.45 Kilo calories of energy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fats under the skin helps in preserving the body heat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 are used in the body to generate energ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required for the formation of membranes in all the cell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Growth and development will not be normal if the required amounts of unsaturated fatty acids are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 not provided in the diet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ions maintain the osmotic balance in the body and also for  the activity of the nervous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 ion s maintian  salts in plas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tasium maintains salts in cytoplasm of a c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D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dine is component of thyroxine, a hormone of thyroid gland, iodine is required fo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duction of thyroid horm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iodine results in Hypothyroidism and enlargement of the thyroid gland  (a condition is known as goiter) and reduction in metabolic rate and physical grow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prevent the Iodine deficiency, now-a-days iodine is added to the common   salt   (Iodised sal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ly iodine is found 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 and sea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MINERAL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DIUM :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dium ions maintain the osmotic balance in the body and also for  the activity of the nervous system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dium  ion s maintian  salts in plasma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ottasium maintains salts in cytoplasm of a cell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ODINE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odine is component of thyroxine, a hormone of thyroid gland, iodine is required for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production of thyroid hormone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Deficiency of iodine results in Hypothyroidism and enlargement of the thyroid gland  (a condition is known as goiter) and reduction in metabolic rate and physical growth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o prevent the Iodine deficiency, now-a-days iodine is added to the common   salt   (Iodised salt)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aturally iodine is found in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vegetables and sea food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850A-304C-4863-B2B7-FCFF55CB1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D925-8598-4EBA-8E66-C8D807A1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7BE1-150F-4E6A-ACF3-4945E5831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0E17-6236-42A0-816A-B62FCBA31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6F76E-AB3A-4480-B790-047AD6668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FA382-F2AB-4786-B50A-6565F990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90198-A26B-4BFF-9B3C-1C20A644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04D31-AB64-4781-AF9C-3D76714C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30D5C-E6DF-498B-AF89-3B59FE3A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37D43-C4CA-4F50-82D9-3ADF8A05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BB2BC5-967A-4D01-A863-4032840F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275E-FBBF-485B-9B83-05C48ACE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21C1E-9072-41C2-9DF5-D6BBC998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C3725B-82BF-4447-9BD8-D7B6A60D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FB605-3F5B-4493-8385-721B8974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ACE06-9081-4185-956B-614A662D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2828B-3991-4974-91BE-06DC19C66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39A91E-DDD9-4D04-893C-CB5913B6B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9FCD62-8250-4D25-BD8F-630C76D9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2A30FF-B1BD-4B6F-80D5-211C0A8C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8209C2-A284-4881-A855-BAD9113E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4F3906-C498-44FC-8A76-3F422A8B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AF31-F49F-48FA-B3DB-0C245BC6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CB4C50-1DF1-40FA-A27F-8E2931B6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36EBBA-A504-48A6-B1BE-CAE216AE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0305C3-80C8-4C26-97A3-2CE46EF3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B9D7AD-9FD3-4DD3-83FC-902F87EB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919014-1BBC-426D-9BBD-259D7F0F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146FC0-93B8-4EDC-9657-B230DEA4E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B14E07-D8E4-430C-899C-4A8D6339A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BE6B-4006-4916-A2C0-C1DA59C8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362B-A224-4126-8463-39CA3249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E1B9-9788-4BD6-8BEB-FCDBE01C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5858-D131-4CEC-94C4-F5D4A759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6456-FD8B-4431-9FFE-5EBFF279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6B9B-3D8B-4144-A233-F766C21E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101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101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6618-1926-483A-A2E4-EE0E8059BA0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708A-287D-474E-B851-DE7AF5D26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8C71-66A6-4523-B060-1A1F02C69B19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F5A3-D516-4A8B-B757-74399675D4E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3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4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6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7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B2BB-4363-4B98-9D03-F10A47960159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C5C5-F8CD-4FCD-959D-20004D46561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1207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Nutritional Requirements</a:t>
            </a:r>
            <a:br>
              <a:rPr sz="4400"/>
            </a:br>
            <a:br>
              <a:rPr sz="4400"/>
            </a:br>
            <a:r>
              <a:rPr b="0" lang="en-US" sz="1800" spc="-1" strike="noStrike">
                <a:solidFill>
                  <a:srgbClr val="000099"/>
                </a:solidFill>
                <a:latin typeface="Bookman Old Style"/>
              </a:rPr>
              <a:t>by  SG Bhuvan kumar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19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28240" y="0"/>
            <a:ext cx="5638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Century Schoolbook"/>
              </a:rPr>
              <a:t>FLUOR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Fluorine is require for proper formation of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Bone</a:t>
            </a: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and</a:t>
            </a: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enamel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on the teeth and prevents  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dental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caries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Fluorine present in the soil get dissolved in the ground water and is major sources for fluorine for the bod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Fluorosis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 is a disease caused due to </a:t>
            </a: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excess 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fluorine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 in water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In people affected with fluorosis the teeth become yellow and bone deformations are seen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So they can’t stand erect and walk properl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3" descr="fluorosis3.jpg"/>
          <p:cNvPicPr/>
          <p:nvPr/>
        </p:nvPicPr>
        <p:blipFill>
          <a:blip r:embed="rId1"/>
          <a:stretch/>
        </p:blipFill>
        <p:spPr>
          <a:xfrm>
            <a:off x="6324480" y="2514600"/>
            <a:ext cx="1452600" cy="2743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fluorosis.jpg"/>
          <p:cNvPicPr/>
          <p:nvPr/>
        </p:nvPicPr>
        <p:blipFill>
          <a:blip r:embed="rId2"/>
          <a:stretch/>
        </p:blipFill>
        <p:spPr>
          <a:xfrm>
            <a:off x="7010280" y="5430960"/>
            <a:ext cx="1447920" cy="1350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Photo_774.jpg"/>
          <p:cNvPicPr/>
          <p:nvPr/>
        </p:nvPicPr>
        <p:blipFill>
          <a:blip r:embed="rId3"/>
          <a:stretch/>
        </p:blipFill>
        <p:spPr>
          <a:xfrm>
            <a:off x="5943600" y="533520"/>
            <a:ext cx="2722680" cy="17478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CALC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Calcium is the major element required for the bod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It forms about 1.5 to 2% of the body weight in an adu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It is required for the formation of bones, teeth, coagulation of blood, for muscle contraction, for  production of milk in lactating fem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We require about 400 – 500 mg. of calcium per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6840" y="3808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IR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ron is major element used in the formation o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Haemoglobi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About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60-70%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of iron in the body is present in blood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Deficiency of iron causes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anaemia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Source: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 The best sources of iron are liver, eggs, meat, fish, cereals, nuts, green leafy vegetables and dried fruits, oat, me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t is the major component in haemoglobin and it helps to carry O</a:t>
            </a:r>
            <a:r>
              <a:rPr b="0" lang="en-US" sz="2400" spc="-1" strike="noStrike" baseline="-25000">
                <a:solidFill>
                  <a:srgbClr val="00206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from lungs to the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t is also present in proteins involved in electron transport and respir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32440" indent="-267120">
              <a:lnSpc>
                <a:spcPct val="100000"/>
              </a:lnSpc>
              <a:spcBef>
                <a:spcPts val="400"/>
              </a:spcBef>
              <a:buClr>
                <a:srgbClr val="bdcae9"/>
              </a:buClr>
              <a:buSzPct val="68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4" descr="sicklrbc.jpg"/>
          <p:cNvPicPr/>
          <p:nvPr/>
        </p:nvPicPr>
        <p:blipFill>
          <a:blip r:embed="rId1"/>
          <a:stretch/>
        </p:blipFill>
        <p:spPr>
          <a:xfrm>
            <a:off x="5029200" y="4952880"/>
            <a:ext cx="2514600" cy="17035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6840" y="609120"/>
            <a:ext cx="74674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Water is the most essential constituent of lif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About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90%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of water is present in protoplas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Water is available to the body through three sources-drinking water, water stored in food and metabolic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3" descr="water2.jpg"/>
          <p:cNvPicPr/>
          <p:nvPr/>
        </p:nvPicPr>
        <p:blipFill>
          <a:blip r:embed="rId1"/>
          <a:stretch/>
        </p:blipFill>
        <p:spPr>
          <a:xfrm>
            <a:off x="3429000" y="3809880"/>
            <a:ext cx="3352680" cy="26830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541440" y="456840"/>
            <a:ext cx="80611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3"/>
                </a:solidFill>
                <a:uFillTx/>
                <a:latin typeface="Century Schoolbook"/>
              </a:rPr>
              <a:t>Nutritional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Nutrition means either preparation of food or Supply of nutrients for the release of energ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The chemical substances required for the production of energy, for the growth and for body building are called </a:t>
            </a:r>
            <a:r>
              <a:rPr b="1" i="1" lang="en-US" sz="1400" spc="-1" strike="noStrike">
                <a:solidFill>
                  <a:srgbClr val="000073"/>
                </a:solidFill>
                <a:latin typeface="Century Schoolbook"/>
              </a:rPr>
              <a:t>Nutri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The procurement of </a:t>
            </a:r>
            <a:r>
              <a:rPr b="1" i="1" lang="en-US" sz="1400" spc="-1" strike="noStrike">
                <a:solidFill>
                  <a:srgbClr val="000073"/>
                </a:solidFill>
                <a:latin typeface="Century Schoolbook"/>
              </a:rPr>
              <a:t>nutrients</a:t>
            </a: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 is called </a:t>
            </a:r>
            <a:r>
              <a:rPr b="1" i="1" lang="en-US" sz="1400" spc="-1" strike="noStrike" u="sng">
                <a:solidFill>
                  <a:srgbClr val="000073"/>
                </a:solidFill>
                <a:uFillTx/>
                <a:latin typeface="Century Schoolbook"/>
              </a:rPr>
              <a:t>Nutri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entury Schoolbook"/>
              </a:rPr>
              <a:t>The important nutrients required for the body are </a:t>
            </a:r>
            <a:r>
              <a:rPr b="1" i="1" lang="en-US" sz="1400" spc="-1" strike="noStrike">
                <a:solidFill>
                  <a:srgbClr val="ff0000"/>
                </a:solidFill>
                <a:latin typeface="Century Schoolbook"/>
              </a:rPr>
              <a:t>carbohydrates</a:t>
            </a:r>
            <a:r>
              <a:rPr b="1" lang="en-US" sz="1400" spc="-1" strike="noStrike">
                <a:solidFill>
                  <a:srgbClr val="ff0000"/>
                </a:solidFill>
                <a:latin typeface="Century Schoolbook"/>
              </a:rPr>
              <a:t>, </a:t>
            </a:r>
            <a:r>
              <a:rPr b="1" i="1" lang="en-US" sz="1400" spc="-1" strike="noStrike">
                <a:solidFill>
                  <a:srgbClr val="ff0000"/>
                </a:solidFill>
                <a:latin typeface="Century Schoolbook"/>
              </a:rPr>
              <a:t>fats</a:t>
            </a:r>
            <a:r>
              <a:rPr b="1" lang="en-US" sz="1400" spc="-1" strike="noStrike">
                <a:solidFill>
                  <a:srgbClr val="ff0000"/>
                </a:solidFill>
                <a:latin typeface="Century Schoolbook"/>
              </a:rPr>
              <a:t>,  </a:t>
            </a:r>
            <a:r>
              <a:rPr b="1" i="1" lang="en-US" sz="1400" spc="-1" strike="noStrike">
                <a:solidFill>
                  <a:srgbClr val="ff0000"/>
                </a:solidFill>
                <a:latin typeface="Century Schoolbook"/>
              </a:rPr>
              <a:t>proteins</a:t>
            </a:r>
            <a:r>
              <a:rPr b="1" lang="en-US" sz="1400" spc="-1" strike="noStrike">
                <a:solidFill>
                  <a:srgbClr val="ff0000"/>
                </a:solidFill>
                <a:latin typeface="Century Schoolbook"/>
              </a:rPr>
              <a:t> , vitamins and </a:t>
            </a:r>
            <a:r>
              <a:rPr b="1" i="1" lang="en-US" sz="1400" spc="-1" strike="noStrike">
                <a:solidFill>
                  <a:srgbClr val="ff0000"/>
                </a:solidFill>
                <a:latin typeface="Century Schoolbook"/>
              </a:rPr>
              <a:t>minera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Some nutrients like carbohydrates, proteins, fats and mineral like sodium are required in large quantities and they are known as </a:t>
            </a:r>
            <a:r>
              <a:rPr b="1" i="1" lang="en-US" sz="1400" spc="-1" strike="noStrike">
                <a:solidFill>
                  <a:srgbClr val="000073"/>
                </a:solidFill>
                <a:latin typeface="Century Schoolbook"/>
              </a:rPr>
              <a:t>Macro-nutrients</a:t>
            </a: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Some nutrients like vitamins and minerals like iron, zinc molybdenum etc are required in very minute doses, (even in micrograms), are known as micro-nutri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6840" y="304920"/>
            <a:ext cx="746748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CARBOHYDRAT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arbohydrates are a group of compounds with Carbon, Hydrogen and Oxygen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They are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lassified into two groups – </a:t>
            </a:r>
            <a:r>
              <a:rPr b="1" i="1" lang="en-US" sz="2200" spc="-1" strike="noStrike">
                <a:solidFill>
                  <a:srgbClr val="002060"/>
                </a:solidFill>
                <a:latin typeface="Arial"/>
              </a:rPr>
              <a:t>Simple Carbohydrates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and </a:t>
            </a:r>
            <a:r>
              <a:rPr b="1" i="1" lang="en-US" sz="2200" spc="-1" strike="noStrike">
                <a:solidFill>
                  <a:srgbClr val="002060"/>
                </a:solidFill>
                <a:latin typeface="Arial"/>
              </a:rPr>
              <a:t>Complex Carbohydrates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Simple Carbohydrates are sugars like Glucose, Fructose etc.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omplex Carbohydrates  are Sucrose, Maltose, Lactose etc.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ellulose is present in plant cells and it is not digested in the human digestive system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It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has no nutritive value  in man but the presence of cellulose in food helps to avoid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onstipa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Excess </a:t>
            </a:r>
            <a:r>
              <a:rPr b="0" lang="en-US" sz="2200" spc="-1" strike="noStrike" u="sng">
                <a:solidFill>
                  <a:srgbClr val="002060"/>
                </a:solidFill>
                <a:uFillTx/>
                <a:latin typeface="Arial"/>
              </a:rPr>
              <a:t>glucose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is converted into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Arial"/>
              </a:rPr>
              <a:t>non-essential amino acids,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Arial"/>
              </a:rPr>
              <a:t>glycogen and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Arial"/>
              </a:rPr>
              <a:t>Fats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One gram of Carbohydrates gives 4 kilo calories of ener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6840" y="456840"/>
            <a:ext cx="746748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Glycogen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is called Animal St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Lactose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is called Milk su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Sucrose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is called cane sug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Sports persons take glucose to get instant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f we eat only rice, only carbohydrates are supplied to the body and body building materials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(proteins) will be defici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f we eat only proteins, body will be built up but for daily metabolic activities, energy will not be suppli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Hence for healthy growth, all type of nutrients are required for the bod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Food having all the nutrients in required quantity for the body is called </a:t>
            </a:r>
            <a:r>
              <a:rPr b="1" i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Balanced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 </a:t>
            </a:r>
            <a:r>
              <a:rPr b="1" i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diet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6840" y="0"/>
            <a:ext cx="7467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2060"/>
                </a:solidFill>
                <a:uFillTx/>
                <a:latin typeface="Century Schoolbook"/>
              </a:rPr>
              <a:t>PROTEIN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Proteins are body building substances with Carbon, Hydrogen, Oxygen, Nitrogen. and  Sulphur in small amount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Proteins have 24 types of amino acids, out of these 20 are present in most of the protei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Based on our requirement, amino acids are classified into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05040" indent="-180360">
              <a:lnSpc>
                <a:spcPct val="10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Essential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amino acids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   a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05040" indent="-180360">
              <a:lnSpc>
                <a:spcPct val="10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Non-essential amino aci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Century Schoolbook"/>
              </a:rPr>
              <a:t>Examples of essential amino acids are Isoleucine, Leucine, Lysine  etc.,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Examples of Non-essential amino acids are Alanine, Arginine,  Aspartic acid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Histidine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is the essential amino acid only for infants but not for adul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6840" y="228600"/>
            <a:ext cx="7467480" cy="62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The proteins from animal sources like 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Milk, Meat, Eggs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, Fish etc., are rich sources of proteins and are called as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Biologically complete protei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Proteins from vegetable sources like 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Pulses, Beans, Legumes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etc, contain lesser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amount of amino acids when compared to animal sources. Hence they are called as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Biologically incomplete protei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Function of prote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Proteins are used in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various metabolic pathways as enzym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Chemical coordination as horm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body buil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repair and maintenance of tissu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maintenance of osmot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the production of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80880" y="228600"/>
            <a:ext cx="74678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2060"/>
                </a:solidFill>
                <a:uFillTx/>
                <a:latin typeface="Arial"/>
              </a:rPr>
              <a:t>FA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Fats are the organic compounds with Carbon, Hydrogen and Oxygen and are made up  of fatty acids and Glycero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Fatty acids are divided into: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lnSpc>
                <a:spcPct val="9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Saturated fatty aci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lnSpc>
                <a:spcPct val="9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Unsaturated fatty aci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The fatty acids required for our body and not present in our body are called as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E</a:t>
            </a:r>
            <a:r>
              <a:rPr b="1" i="1" lang="en-US" sz="2200" spc="-1" strike="noStrike">
                <a:solidFill>
                  <a:srgbClr val="002060"/>
                </a:solidFill>
                <a:latin typeface="Arial"/>
              </a:rPr>
              <a:t>ssential fatty acids.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Ex:- Linoleic acid, Linolenic aci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Fats are present in both plant and animal foods like Milk, Ghee, Butter, Cheese, Eggs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etc.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Plant sources are usually in the form of Oils like Groundnut oil, Mustard, Sesame, Coconut, Palm etc.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Fats are solids at 20</a:t>
            </a:r>
            <a:r>
              <a:rPr b="0" lang="en-US" sz="2200" spc="-1" strike="noStrike" baseline="30000">
                <a:solidFill>
                  <a:srgbClr val="00206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. Liquid fats are called oil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It is easy to store fats in the body as fats are insoluble in water and can be easily stored in solid for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6840" y="380520"/>
            <a:ext cx="74674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Cholesterol is saturated fatty acid.  When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excess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cholesterol is consumed, it is deposited along the walls of the arteries and interferes with the blood flow. This may lead to </a:t>
            </a:r>
            <a:r>
              <a:rPr b="1" i="1" lang="en-US" sz="2000" spc="-1" strike="noStrike">
                <a:solidFill>
                  <a:srgbClr val="002060"/>
                </a:solidFill>
                <a:latin typeface="Century Schoolbook"/>
              </a:rPr>
              <a:t>Heart atta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Vanaspathi is prepared by converting unsaturated fatty acids present in vegetable oils to  saturated fatty aci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2060"/>
                </a:solidFill>
                <a:uFillTx/>
                <a:latin typeface="Century Schoolbook"/>
              </a:rPr>
              <a:t>FUNCTION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One gram of fats yield 9.45 Kilo calories of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The fats under the skin helps in preserving the body he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Fats are used in the body to generate energ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t is required for the formation of membranes in all the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Growth and development will not be normal if the required amounts of unsaturated fatty acids are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not provided in the d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-360"/>
            <a:ext cx="8153280" cy="64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MINER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SODIUM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Sodium ions maintain the osmotic balance in the body and also for  the activity of the nervous syst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Sodium  ion s maintian  salts in plas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Pottasium maintains salts in cytoplasm of a c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Century Schoolbook"/>
              </a:rPr>
              <a:t>IOD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Iodine is component of thyroxine, a hormone of thyroid gland, iodine is required for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the production of thyroid hormo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Deficiency of iodine results in </a:t>
            </a:r>
            <a:r>
              <a:rPr b="0" lang="en-US" sz="2000" spc="-1" strike="noStrike" u="sng">
                <a:solidFill>
                  <a:srgbClr val="002060"/>
                </a:solidFill>
                <a:uFillTx/>
                <a:latin typeface="Century Schoolbook"/>
              </a:rPr>
              <a:t>Hypothyroidism and enlargement of the thyroid gland 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(a condition is known as goiter) and reduction in metabolic rate and physical growt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To prevent the Iodine deficiency, now-a-days iodine is added to the common   salt   (Iodised salt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Naturally iodine is found 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vegetables and sea f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3" descr="dewey18.jpg"/>
          <p:cNvPicPr/>
          <p:nvPr/>
        </p:nvPicPr>
        <p:blipFill>
          <a:blip r:embed="rId1"/>
          <a:stretch/>
        </p:blipFill>
        <p:spPr>
          <a:xfrm>
            <a:off x="4114800" y="5029200"/>
            <a:ext cx="1393920" cy="1414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goitre.jpg"/>
          <p:cNvPicPr/>
          <p:nvPr/>
        </p:nvPicPr>
        <p:blipFill>
          <a:blip r:embed="rId2"/>
          <a:stretch/>
        </p:blipFill>
        <p:spPr>
          <a:xfrm>
            <a:off x="5715000" y="4933800"/>
            <a:ext cx="2260440" cy="154332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8:37:21Z</dcterms:created>
  <dc:creator>Masum</dc:creator>
  <dc:description/>
  <dc:language>en-US</dc:language>
  <cp:lastModifiedBy>LEGION2</cp:lastModifiedBy>
  <dcterms:modified xsi:type="dcterms:W3CDTF">2016-01-14T11:00:13Z</dcterms:modified>
  <cp:revision>66</cp:revision>
  <dc:subject/>
  <dc:title>Slide 1</dc:title>
</cp:coreProperties>
</file>