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8665-77B3-418A-BDE6-05828C7AD5DB}" type="slidenum"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 SG Bhuvan ku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y  SG Bhuvan kum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is require for proper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can’t stand erect and walk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is require for proper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i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 they can’t stand erect and walk properl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is the major element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orms about 1.5 to 2% of the body weight in an adu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require about 400 – 500 mg. of calcium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 is the major element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forms about 1.5 to 2% of the body weight in an adul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e require about 400 – 500 mg. of calcium per da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 is major element used in the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emoglob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60-70% of iron in the body is present in bloo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ron causes anae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 is major element used in the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emoglobi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60-70% of iron in the body is present in blood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ron causes anaemi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the most essential constituent of li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90% of water is present in protopla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the most essential constituent of life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90% of water is present in protoplas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urement of nutrients is called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curement of nutrients is called Nutriti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arbohydrates are sugars like Glucose, Fructose 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Carbohydrates  are Sucrose, Maltose, Lactose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ip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glucose is convert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Carbohydrates gives 4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y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imple Carbohydrates are sugars like Glucose, Fructose 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mplex Carbohydrates  are Sucrose, Maltose, Lactose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nstip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glucose is convert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Carbohydrates gives 4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 is called Animal St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tose  is called Milk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rose  is called cane su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persons take glucose to get instan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eins) will be defici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 is called Animal Starch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Lactose  is called Milk sug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ucrose  is called cane suga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ports persons take glucose to get instant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(proteins) will be deficient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our requirement, amino acids are classifi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amino acids   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ased on our requirement, amino acids are classifi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amino acids   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used in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ous metabolic pathways as enzy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ordination as horm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buil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air and maintenance of t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enance of osmotic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 of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used in 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rious metabolic pathways as enzym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emical coordination as hormon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dy building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repair and maintenance of tissu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aintenance of osmotic pressur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s are divided into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fatty aci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- Linoleic acid, Linolenic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solids at 20oC. Liquid fats are called o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ty acids are divided into: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Un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fatty acid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:- Linoleic acid, Linolenic aci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solids at 20oC. Liquid fats are called oil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saturated fatty acid.  Whe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fats yield 9.45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s under the skin helps in preserving the body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used in the body to generat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membranes in all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not provided in the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saturated fatty acid.  When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fats yield 9.45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s under the skin helps in preserving the body hea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used in the body to generate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membranes in all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not provided in the diet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 ion s maintian  salts in plas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tasium maintains salts in cytoplasm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thyroid horm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iodine is found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 and sea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: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 ion s maintian  salts in plasm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ottasium maintains salts in cytoplasm of a cel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thyroid hormon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aturally iodine is found in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egetables and sea foo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619-8E30-4FC4-BBA1-E90700EF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D15-0F22-48E8-A592-1CAA878D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20C-4F95-4353-B326-2E13D038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158B-846A-4F8D-A92C-DB96E2D0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8A4A7-BA99-4C2C-97A0-7835F996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85045-47BA-4F1D-BB26-F0D4BA70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21FED-A018-47AB-A1E5-C024854A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6D62C-4966-46E5-BE1A-2B6E8269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34DA0-A708-4273-8497-576C8F2A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8465A-8C85-4DF8-8451-2A5A5261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A859B-4045-45A3-9EA4-AF0BADE7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CC45-6E1A-42F3-A7CE-1F5807F7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83A40-24EE-4477-BA82-D9A4A762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D457E-E578-451B-A62D-92B921FE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E6D9A-0B67-4FAB-B908-3650C396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0634E-E48A-4B90-8866-AC08C23A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2521D-A393-4752-BD1D-217EB192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BEF38-3F35-4C07-BA2A-6E250EEB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2D568A-8A2F-477F-807E-188D2B0A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2F8F7-642D-429C-8B03-4437C984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4929D-62D3-43E3-BF27-65A3043C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54A245-D00D-407D-87B3-21411DCB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27B-126A-4BD8-9A01-11F93D6C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01B27-F99A-4C87-A492-BB45EBEF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DBFE4-88E1-4ABC-9B95-0E48E3F3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69572-A004-45A8-940F-60C18110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FE5DB-F3F6-4BB3-A729-A624B4AA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40C12-0164-46A6-8955-3E455832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7B89A-3C72-4457-AFA7-F6C1C92D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61D1F-AFDE-4C76-B918-1D35884D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D12-A6A0-4210-87F2-BB99D24C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E55-5638-4DA5-942C-99AD0EB2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B7D-5330-42E7-8568-223F1916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FF60-BFB6-4624-85B1-88FD9F46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AF4-8B2A-4132-A224-E3E8CA9A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97F5-858B-4264-918A-B3E95564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D4E6-0E9F-4488-81D6-78F3D25EDF3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700C-8A8F-4726-A509-68298CA6C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077D-3897-4B4A-947C-9ACDEDEF4ECC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A4CA-3969-48D8-B32F-88D5653E0B3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E218-BF96-4D4A-B9CD-12C799AE622C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42D2-CA16-488C-85AA-CC3BCEEA6D5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1207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Nutritional Requirements</a:t>
            </a:r>
            <a:br>
              <a:rPr sz="4400"/>
            </a:br>
            <a:br>
              <a:rPr sz="4400"/>
            </a:br>
            <a:r>
              <a:rPr b="0" lang="en-US" sz="1800" spc="-1" strike="noStrike">
                <a:solidFill>
                  <a:srgbClr val="000099"/>
                </a:solidFill>
                <a:latin typeface="Bookman Old Style"/>
              </a:rPr>
              <a:t>by  SG Bhuvan kumar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28240" y="0"/>
            <a:ext cx="5638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FLUO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is require for proper formation 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Bone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and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name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on the teeth and prevents 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dent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carie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Fluorosi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s a disease caused due to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fluorine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n wat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So they can’t stand erect and walk proper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fluorosis3.jpg"/>
          <p:cNvPicPr/>
          <p:nvPr/>
        </p:nvPicPr>
        <p:blipFill>
          <a:blip r:embed="rId1"/>
          <a:stretch/>
        </p:blipFill>
        <p:spPr>
          <a:xfrm>
            <a:off x="6324480" y="2514600"/>
            <a:ext cx="1452600" cy="274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fluorosis.jpg"/>
          <p:cNvPicPr/>
          <p:nvPr/>
        </p:nvPicPr>
        <p:blipFill>
          <a:blip r:embed="rId2"/>
          <a:stretch/>
        </p:blipFill>
        <p:spPr>
          <a:xfrm>
            <a:off x="7010280" y="5430960"/>
            <a:ext cx="1447920" cy="135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Photo_774.jpg"/>
          <p:cNvPicPr/>
          <p:nvPr/>
        </p:nvPicPr>
        <p:blipFill>
          <a:blip r:embed="rId3"/>
          <a:stretch/>
        </p:blipFill>
        <p:spPr>
          <a:xfrm>
            <a:off x="5943600" y="533520"/>
            <a:ext cx="2722680" cy="17478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alcium is the major element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forms about 1.5 to 2% of the body weight in an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is required for the formation of bones, teeth, coagulation of blood, for muscle contraction, for  production of milk in lactating fem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e require about 400 – 500 mg. of calcium per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6840" y="3808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ron is major element used in the formation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aemoglobi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60-70%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of iron in the body is present in bloo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Deficiency of iron cause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anaemia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ource: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 The best sources of iron are liver, eggs, meat, fish, cereals, nuts, green leafy vegetables and dried fruits, oat, me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the major component in haemoglobin and it helps to carry O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from lungs to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32440" indent="-267120">
              <a:lnSpc>
                <a:spcPct val="100000"/>
              </a:lnSpc>
              <a:spcBef>
                <a:spcPts val="400"/>
              </a:spcBef>
              <a:buClr>
                <a:srgbClr val="bdcae9"/>
              </a:buClr>
              <a:buSzPct val="68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sicklrbc.jpg"/>
          <p:cNvPicPr/>
          <p:nvPr/>
        </p:nvPicPr>
        <p:blipFill>
          <a:blip r:embed="rId1"/>
          <a:stretch/>
        </p:blipFill>
        <p:spPr>
          <a:xfrm>
            <a:off x="5029200" y="4952880"/>
            <a:ext cx="2514600" cy="17035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6840" y="6091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the most essential constituent of lif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90%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of water is present in protopla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available to the body through three sources-drinking water, water stored in food and metabolic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water2.jpg"/>
          <p:cNvPicPr/>
          <p:nvPr/>
        </p:nvPicPr>
        <p:blipFill>
          <a:blip r:embed="rId1"/>
          <a:stretch/>
        </p:blipFill>
        <p:spPr>
          <a:xfrm>
            <a:off x="3429000" y="3809880"/>
            <a:ext cx="3352680" cy="26830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41440" y="456840"/>
            <a:ext cx="8061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al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chemical substances required for the production of energy, for the growth and for body building are called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procurement of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 is called </a:t>
            </a:r>
            <a:r>
              <a:rPr b="1" i="1" lang="en-US" sz="14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The important nutrients required for the body are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carbohydrate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fat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protein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 , vitamins and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miner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carbohydrates, proteins, fats and mineral like sodium are required in large quantities and they are known as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Macro-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304920"/>
            <a:ext cx="74674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RBOHYDR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arbohydrates are a group of compounds with Carbon, Hydrogen and Oxyge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y are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lassified into two groups –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imple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and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Complex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imple Carbohydrates are sugars like Glucose, Fructose 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mplex Carbohydrates  are Sucrose, Maltose, Lactose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ellulose is present in plant cells and it is not digested in the human digestive system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has no nutritive value  in man but the presence of cellulose in food helps to avoid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nstip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cess </a:t>
            </a:r>
            <a:r>
              <a:rPr b="0" lang="en-US" sz="2200" spc="-1" strike="noStrike" u="sng">
                <a:solidFill>
                  <a:srgbClr val="002060"/>
                </a:solidFill>
                <a:uFillTx/>
                <a:latin typeface="Arial"/>
              </a:rPr>
              <a:t>glucose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is convert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non-essential amino acids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glycogen and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Fat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One gram of Carbohydrates gives 4 kilo calories of ener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6840" y="456840"/>
            <a:ext cx="746748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Glycogen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Animal St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Lact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Milk su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ucr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cane sug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Sports persons take glucose to get instant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(proteins) will be defici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ood having all the nutrients in required quantity for the body is called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Balanced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diet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0"/>
            <a:ext cx="7467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2060"/>
                </a:solidFill>
                <a:uFillTx/>
                <a:latin typeface="Century Schoolbook"/>
              </a:rPr>
              <a:t>PROTEIN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Based on our requirement, amino acids are classifi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ssenti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amino acid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 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Non-essential amino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Histidine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the essential amino acid only for infants but not for ad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6840" y="228600"/>
            <a:ext cx="7467480" cy="62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proteins from animal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lk, Meat, Eggs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, Fish etc., are rich sources of proteins and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Proteins from vegetable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Pulses, Beans, Legume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tc, contain lesser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mount of amino acids when compared to animal sources. Hence they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in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 of 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Proteins are used in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various metabolic pathways as enzym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Chemical coordination as horm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body bui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repair and maintenance of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maintenance of osmot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the production of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0880" y="228600"/>
            <a:ext cx="74678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2060"/>
                </a:solidFill>
                <a:uFillTx/>
                <a:latin typeface="Arial"/>
              </a:rPr>
              <a:t>FA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the organic compounds with Carbon, Hydrogen and Oxygen and are made up  of fatty acids and Glycero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ty acids are divided into: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Un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 fatty acids required for our body and not present in our body are called a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sential fatty acids.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:- Linoleic acid, Linolenic aci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present in both plant and animal foods like Milk, Ghee, Butter, Cheese, Egg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Plant sources are usually in the form of Oils like Groundnut oil, Mustard, Sesame, Coconut, Palm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solids at 20</a:t>
            </a:r>
            <a:r>
              <a:rPr b="0" lang="en-US" sz="2200" spc="-1" strike="noStrike" baseline="30000">
                <a:solidFill>
                  <a:srgbClr val="00206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. Liquid fats are called oil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is easy to store fats in the body as fats are insoluble in water and can be easily stored in solid 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6840" y="380520"/>
            <a:ext cx="74674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saturated fatty acid.  When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consumed, it is deposited along the walls of the arteries and interferes with the blood flow. This may lead to </a:t>
            </a:r>
            <a:r>
              <a:rPr b="1" i="1" lang="en-US" sz="2000" spc="-1" strike="noStrike">
                <a:solidFill>
                  <a:srgbClr val="002060"/>
                </a:solidFill>
                <a:latin typeface="Century Schoolbook"/>
              </a:rPr>
              <a:t>Heart att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One gram of fats yield 9.45 Kilo calories of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fats under the skin helps in preserving the body he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ats are used in the body to generate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required for the formation of membranes in all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not provided in the d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-360"/>
            <a:ext cx="8153280" cy="64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NE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SODIUM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 ion s maintian  salts in plas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Pottasium maintains salts in cytoplasm of a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IOD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he production of thyroid horm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Deficiency of iodine results in 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Hypothyroidism and enlargement of the thyroid gland 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(a condition is known as goiter) and reduction in metabolic rate and physical grow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Naturally iodine is found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egetables and sea f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3" descr="dewey18.jpg"/>
          <p:cNvPicPr/>
          <p:nvPr/>
        </p:nvPicPr>
        <p:blipFill>
          <a:blip r:embed="rId1"/>
          <a:stretch/>
        </p:blipFill>
        <p:spPr>
          <a:xfrm>
            <a:off x="4114800" y="5029200"/>
            <a:ext cx="1393920" cy="1414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goitre.jpg"/>
          <p:cNvPicPr/>
          <p:nvPr/>
        </p:nvPicPr>
        <p:blipFill>
          <a:blip r:embed="rId2"/>
          <a:stretch/>
        </p:blipFill>
        <p:spPr>
          <a:xfrm>
            <a:off x="5715000" y="4933800"/>
            <a:ext cx="2260440" cy="15433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8:37:21Z</dcterms:created>
  <dc:creator>Masum</dc:creator>
  <dc:description/>
  <dc:language>en-US</dc:language>
  <cp:lastModifiedBy>LEGION2</cp:lastModifiedBy>
  <dcterms:modified xsi:type="dcterms:W3CDTF">2016-01-14T11:00:13Z</dcterms:modified>
  <cp:revision>66</cp:revision>
  <dc:subject/>
  <dc:title>Slide 1</dc:title>
</cp:coreProperties>
</file>