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7.jpeg" ContentType="image/jpeg"/>
  <Override PartName="/ppt/media/image12.jpeg" ContentType="image/jpeg"/>
  <Override PartName="/ppt/media/cashreg.wav" ContentType="audio/x-wav"/>
  <Override PartName="/ppt/media/image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drumroll.wav" ContentType="audio/x-wav"/>
  <Override PartName="/ppt/media/image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4E1A-174E-4104-AD0A-1187B632A2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m: How can we describe the types of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trition in living things?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w: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What is nutrition?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Why do living things need nutrition?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How can we describe the type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tion in living th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hat is nutri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hy do living things need nutrit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. Heterotrophic nutrition –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etero: other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ophic: (refers to feeding and nutrition)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ed by others.”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Heterotrophs: Organisms that eat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rganic compounds made by others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. Animals or animal-like protist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lled protozoa: amoeba, paramecium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o (first)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zoa (animal, zoo)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 Heterotrophic nutrition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tero: 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ophic: (refers to feeding and nutrition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d by others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eterotrophs: Organisms that e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ganic compounds made by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. Animals or animal-like prot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led protozoa: amoeba, paramec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o (firs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oa (animal, zo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amples of heterotroph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ramecium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amples of heter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ame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re heterotrophs…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heterotroph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bviously, a   _________________ 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eterotroph!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viously, a   _________________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terotrop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re you a heterotroph?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ummary: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types of nutrition on Earth: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. Autotrophic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phot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chem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. Heterotrophic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you a heterotro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types of nutrition on Eart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. Autotroph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chem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 Heterotro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trition: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an organism gets food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nutrients,  organic compounds) and makes it available to the cells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trients: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ful portion of food: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ugar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mino acid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fat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tarch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ganic Compounds =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OD!!!!!!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n organism gets f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utrients,  organic compounds) and makes it available to the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ent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portion of foo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g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Compounds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TYPES OF NUTRITION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. Autotrophic  nutrition –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uto (self)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ophic (refers to feeding and nutrition)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“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elf feeding.”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Organisms that make their own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organic compound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. Phot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TYPES OF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. Autotrophic  nutrition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to (self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ophic (refers to feeding and nutr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lf feeding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Organisms that make their ow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organic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.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Phot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  (light)  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nthesis  (creating, making)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Light is the source of energy for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the production of food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“Who?”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. Plant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  (light)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thesis  (creating, ma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ght is the source of energy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the production of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“Who?”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utotrophs: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totro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. Chemosynthesis –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mo (chemical)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nthesis (creating, making)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Chemical activity is the source of energy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the production of organic compounds.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?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organisms in environments that do not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y on the sun to make food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. Deep sea organism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Chemosynthesis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 (chem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thesis (creating, ma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hemical activity is the source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production of organic compoun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rganisms in environments that do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y on the sun to make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Deep sea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hot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osynthetic nutrition - Deep sea tube worms and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rthropod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osynthetic nutrition - Deep sea tube worms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throp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 far….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trition: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totrophic: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phot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. chem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totrophs –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ganisms that can make their own food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photosynthesis or chemosynthesis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far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trophi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chem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troph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that can make their own f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photosynthesis or chemosynth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C73D-B169-4D13-82C0-5E5369DC5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FB36-632C-41AC-9794-EB479C13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C615-A72E-4BF4-A680-D9F13CD94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0CB1-4344-4631-9F1B-B44555653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163B-E428-4426-A122-26CB327CF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61ED-BE83-4FD8-9CBB-74B16512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7918F-D9D7-41A7-B9EA-A2C6AF17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0C19-5833-478E-A5FF-F5EA0E5E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9E28-6D1E-485F-920C-E38A82A4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57BE9-C64A-43DA-AC7F-C3231ADA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A078-1812-4D9F-BF01-231189E2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2D1E-635E-41B7-848D-B38889D3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5F7F-9A2E-4A11-9815-BB4074A8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AA6F-D98D-4AC9-8475-8DBA0C7A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A6EC-8A35-4BDE-8E44-D584E54A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13B2-0497-473A-A841-D62EB6C68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34711-8427-4A92-990E-0DFB952AE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BCE1-3ECB-4124-A52A-41E66AE5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0AFF-064A-4C7A-BB2C-5FE7AEEA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7D58-1EC0-4F7C-A55E-FB2D265F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3968-1D50-4813-934A-C319E13D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0C18-D2FC-43D1-BC58-1E195A16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36BD-7D64-4466-8D2A-AF278AA6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A436-BE2E-4979-A04F-CF3305FF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9A03-1D5F-4EC1-894D-59A978B9F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2A4F-7895-417D-A076-C9B128C796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hyperlink" Target="http://gw.d25.k12.id.us/phs/biology/ventlife.jpg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1584360" y="905040"/>
            <a:ext cx="6264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i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How can we describe the types of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utrition in living things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o now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What is nutrition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Why do living things need nutrition?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380880" y="304920"/>
            <a:ext cx="8763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Heterotrophic nutri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Hetero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ther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rophic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refers to feeding and nutrition)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ed by others.”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Heterotrophs: Organisms that eat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rganic compound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made by other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. Animals or animal-like protis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lle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otozo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amoeba, paramecium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Pro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first)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zo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animal, zoo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9" descr="Squirrel%20-%201027x768"/>
          <p:cNvPicPr/>
          <p:nvPr/>
        </p:nvPicPr>
        <p:blipFill>
          <a:blip r:embed="rId1"/>
          <a:stretch/>
        </p:blipFill>
        <p:spPr>
          <a:xfrm>
            <a:off x="228600" y="3276720"/>
            <a:ext cx="4419720" cy="33145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paramecium"/>
          <p:cNvPicPr/>
          <p:nvPr/>
        </p:nvPicPr>
        <p:blipFill>
          <a:blip r:embed="rId2"/>
          <a:stretch/>
        </p:blipFill>
        <p:spPr>
          <a:xfrm>
            <a:off x="4419720" y="838080"/>
            <a:ext cx="4724280" cy="2511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Tree%20Frog%20-%201024x768"/>
          <p:cNvPicPr/>
          <p:nvPr/>
        </p:nvPicPr>
        <p:blipFill>
          <a:blip r:embed="rId3"/>
          <a:stretch/>
        </p:blipFill>
        <p:spPr>
          <a:xfrm>
            <a:off x="4876920" y="388620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paramecium"/>
          <p:cNvPicPr/>
          <p:nvPr/>
        </p:nvPicPr>
        <p:blipFill>
          <a:blip r:embed="rId4"/>
          <a:stretch/>
        </p:blipFill>
        <p:spPr>
          <a:xfrm>
            <a:off x="228600" y="68580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2"/>
          <p:cNvSpPr/>
          <p:nvPr/>
        </p:nvSpPr>
        <p:spPr>
          <a:xfrm>
            <a:off x="2364480" y="0"/>
            <a:ext cx="409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amples of heterotroph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1221840" y="914400"/>
            <a:ext cx="209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ramecium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9-765852"/>
          <p:cNvPicPr/>
          <p:nvPr/>
        </p:nvPicPr>
        <p:blipFill>
          <a:blip r:embed="rId1"/>
          <a:stretch/>
        </p:blipFill>
        <p:spPr>
          <a:xfrm>
            <a:off x="2666880" y="785880"/>
            <a:ext cx="3810240" cy="52862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>
            <a:off x="443520" y="219240"/>
            <a:ext cx="349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re heterotrophs…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2"/>
          <p:cNvPicPr/>
          <p:nvPr/>
        </p:nvPicPr>
        <p:blipFill>
          <a:blip r:embed="rId1"/>
          <a:stretch/>
        </p:blipFill>
        <p:spPr>
          <a:xfrm>
            <a:off x="1676520" y="68580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1"/>
          <p:cNvSpPr/>
          <p:nvPr/>
        </p:nvSpPr>
        <p:spPr>
          <a:xfrm>
            <a:off x="302760" y="0"/>
            <a:ext cx="555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bviously, a   _________________ 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terotroph!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802440" y="533520"/>
            <a:ext cx="53247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e you a heterotroph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ummar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 types of nutrition on Earth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Autotrophic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photo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chemo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Heterotrophic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380880" y="762120"/>
            <a:ext cx="7178760" cy="67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utri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ow an organism gets food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utrients,  organic compound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 and makes it available to the cell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utrient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seful portion of food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suga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amino aci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f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starch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rganic Compound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OOD!!!!!!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822240" y="295200"/>
            <a:ext cx="763596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2 TYPES OF NUTRI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utotrophic  nutri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u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self)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rophic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refers to feeding and nutrition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f feeding.”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Organisms that make their ow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organic compound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ot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hem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304920" y="1461960"/>
            <a:ext cx="7619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oto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Pho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light)  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ynthesi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creating, making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Light is the source of energy for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the production of food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“Who?”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. Plan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7" descr="280px-Colpfl27a"/>
          <p:cNvPicPr/>
          <p:nvPr/>
        </p:nvPicPr>
        <p:blipFill>
          <a:blip r:embed="rId1"/>
          <a:stretch/>
        </p:blipFill>
        <p:spPr>
          <a:xfrm>
            <a:off x="990720" y="1523880"/>
            <a:ext cx="2666880" cy="3552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9" descr="plant_photo_1"/>
          <p:cNvPicPr/>
          <p:nvPr/>
        </p:nvPicPr>
        <p:blipFill>
          <a:blip r:embed="rId2"/>
          <a:stretch/>
        </p:blipFill>
        <p:spPr>
          <a:xfrm>
            <a:off x="4724280" y="1676520"/>
            <a:ext cx="3429000" cy="31017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2"/>
          <p:cNvSpPr/>
          <p:nvPr/>
        </p:nvSpPr>
        <p:spPr>
          <a:xfrm>
            <a:off x="2520" y="0"/>
            <a:ext cx="203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utotroph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1358280" y="523800"/>
            <a:ext cx="716364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hemosynthesi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Chem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chemical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ynthesi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creating, making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Chemical activity is the source of energ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r the production of organic compounds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o?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organisms in environments that do not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ly on the sun to make food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. Deep sea organism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chemosynthesis"/>
          <p:cNvPicPr/>
          <p:nvPr/>
        </p:nvPicPr>
        <p:blipFill>
          <a:blip r:embed="rId1"/>
          <a:stretch/>
        </p:blipFill>
        <p:spPr>
          <a:xfrm>
            <a:off x="1523880" y="609480"/>
            <a:ext cx="6019920" cy="45151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1677600" y="5029200"/>
            <a:ext cx="24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hoto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4573800" y="5029200"/>
            <a:ext cx="263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emo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worm7"/>
          <p:cNvPicPr/>
          <p:nvPr/>
        </p:nvPicPr>
        <p:blipFill>
          <a:blip r:embed="rId1"/>
          <a:stretch/>
        </p:blipFill>
        <p:spPr>
          <a:xfrm>
            <a:off x="228600" y="0"/>
            <a:ext cx="3581280" cy="2530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wormdiscoveries"/>
          <p:cNvPicPr/>
          <p:nvPr/>
        </p:nvPicPr>
        <p:blipFill>
          <a:blip r:embed="rId2"/>
          <a:stretch/>
        </p:blipFill>
        <p:spPr>
          <a:xfrm>
            <a:off x="4343400" y="228600"/>
            <a:ext cx="3809880" cy="2735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arm2"/>
          <p:cNvPicPr/>
          <p:nvPr/>
        </p:nvPicPr>
        <p:blipFill>
          <a:blip r:embed="rId3"/>
          <a:stretch/>
        </p:blipFill>
        <p:spPr>
          <a:xfrm>
            <a:off x="0" y="2819520"/>
            <a:ext cx="4495680" cy="3068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ventlif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24280" y="3352680"/>
            <a:ext cx="3733920" cy="24163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1"/>
          <p:cNvSpPr/>
          <p:nvPr/>
        </p:nvSpPr>
        <p:spPr>
          <a:xfrm>
            <a:off x="6480" y="5911920"/>
            <a:ext cx="833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hemosynthetic nutri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Deep sea tube worms and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thropo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1127160" y="295200"/>
            <a:ext cx="740736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 far….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utri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utotrophic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. photo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. chemo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utotroph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rganisms that can make their own food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y photosynthesis or chemosynthesi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2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2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01:12:25Z</dcterms:created>
  <dc:creator>Michelle H. Feuer</dc:creator>
  <dc:description/>
  <dc:language>en-US</dc:language>
  <cp:lastModifiedBy>LEGION2</cp:lastModifiedBy>
  <dcterms:modified xsi:type="dcterms:W3CDTF">2016-01-14T10:57:37Z</dcterms:modified>
  <cp:revision>14</cp:revision>
  <dc:subject/>
  <dc:title>nutrition</dc:title>
</cp:coreProperties>
</file>