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glass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8D7AE-31A2-48C3-808B-F6E53EDD90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UCLEAR MAGNETIC RESONANCE SPECTROSCOP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an ideal tool for Diagnosis &amp;     Drug Desig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. HASEENA BANU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sst.Professor,SriPadmavathi School of Pharmacy,Tiruchanoor,Tirupat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CLEAR MAGNETIC RESONANCE SPECTR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an ideal tool for Diagnosis &amp;     Drug Desig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. HASEENA BA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st.Professor,SriPadmavathi School of Pharmacy,Tiruchanoor,Tirupa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MR IN PHARMACEUTICAL RESEARC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eading technology for 3-D structure   determination of bio-macromolecu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tudying protein structur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AR by NMR – Novel lead compound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emical  shift mapping – Structural information on the binding modes and site posi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olecular dynamics, conformational analys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HAP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MR – SOLV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MR IN PHARMACEUTICAL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ading technology for 3-D structure   determination of bio-macro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udying protein struc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R by NMR – Novel lead compoun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mical  shift mapping – Structural information on the binding modes and site 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lecular dynamics, conformational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MR – SO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uctural genomic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fying gene products in diseas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rgets of drug desig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velopment of Novel drug delivery system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hancing HTS assay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ousands of compoun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yogenic NMR technology / cryoprob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al genomic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ing gene products in disea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s of drug de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 of Novel drug delivery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ing HTS ass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usands of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yogenic NMR technology / cryop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MR Nobel Prize Laureat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e Nobel Prize in Physics 1943, Ohostern, USA – Discovery of magnetic moment of prot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e Nobel Prizein Physics 1952- IsidorJ. Rafi,USA – Discovery of new methods for nuclear magnetic precis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e Nobel Prize in Chemistry 1991 – Felix Bloch, USA and Edward M. Purcell, USA – Methodology of high resolution NM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e Nobel Prize in Chemistry 2002 – Kurt Wuthrich, Switzerland – Determining 3-D Structure by NM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e Nobel Prize in Medicine 2003 – Paul C. Lauterbur, USA and Peter Mans field, U.K. – Discoveries concerning MRI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MR Nobel Prize Lau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obel Prize in Physics 1943, Ohostern, USA – Discovery of magnetic moment of pro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obel Prizein Physics 1952- IsidorJ. Rafi,USA – Discovery of new methods for nuclear magnetic prec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obel Prize in Chemistry 1991 – Felix Bloch, USA and Edward M. Purcell, USA – Methodology of high resolution NM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obel Prize in Chemistry 2002 – Kurt Wuthrich, Switzerland – Determining 3-D Structure by NM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obel Prize in Medicine 2003 – Paul C. Lauterbur, USA and Peter Mans field, U.K. – Discoveries concerning MR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ANKING YOU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ANKING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SIC PRINCIP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ERENT TECHNIQU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PLICATIONS OF NMR IN MEDICI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INICAL APPLICATIONS IN DIAGNOS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UG DEVELOP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MR Nobel prize laureat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PRINC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TECHNIQ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 OF NMR IN MEDI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NICAL APPLICATIONS IN 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MR Nobel prize lau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SIC PRINCIPLE  IN NM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omic nuclei – tiny magne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external magnetic field - allign or oppo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irradiated with EMR of proper frequency – Resonan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√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α β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AME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mical shift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in lattice relaxation tim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PRINCIPLE  IN N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clei – tiny magn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external magnetic field - allign or opp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rradiated with EMR of proper frequency – Reso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√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α β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shif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n lattice relaxatio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FFERENT TECHNIQU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ased on nucle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1 NM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13  NM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13  NMR &amp; P31 NM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15  NMR &amp; O17 NM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WNM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TNM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D_NMR &amp;3D_NM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SY _CORRELATION SPECTROSCOP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RI_MAGNETIC RESONANCE IMAG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SR_ELECTRON SPIN RESONANCE SPECTROSCOP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FFERENT TECHNIQ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sed on nucl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1 N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13  N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13  NMR &amp; P31 N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15  NMR &amp; O17 N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WN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TN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D_NMR &amp;3D_N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SY _CORRELATION SPECTR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RI_MAGNETIC RESONANCE IMA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SR_ELECTRON SPIN RESONANCE SPECTR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PPLICATIONS OF NMR IN MEDICINE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LINICAL APPLICATION OF PROTON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MAGING IN DIAGNOS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RAI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stinguishing gray matter &amp; white mat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maging posterior fossae, brain stem, spinal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r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etect demyelinating lesions, tumors,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emorrhages, infarc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S OF NMR IN MEDICIN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INICAL APPLICATION OF PROTO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AGING IN 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inguishing gray matter &amp; white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aging posterior fossae, brain stem, spinal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tect demyelinating lesions, tumors,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morrhages, infar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BDOM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etabolic liver disea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easures liver iron over load in hemochromatos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ocal areas of inflammation in chronic active hepatis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IDNEY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stinguishing renal cortex &amp; medull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o evaluate transplanted  kidne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ELV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fferentiates between  Benign prostatic hyperplasia   &amp; prostatic carcinom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etects bladder tumou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D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abolic liver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asures liver iron over load in hemochroma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cal areas of inflammation in chronic active hepati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inguishing renal cortex &amp; medu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evaluate transplanted 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LV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fferentiates between  Benign prostatic hyperplasia   &amp; prostatic carcin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tects bladder tum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EDIASTINUM, HILUM, LU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ssessing  abnormalit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spiratory gat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EAR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omographic images of heart muscle, chambers, valvular structur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CHO-PLANAR TECHNIQU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scrimination between infarcted, ischemic &amp; normal myocardiu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REAS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D-NMR &amp; single-slice planar imaging in detecting breast abnormalit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DIASTINUM, HILUM,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sessing  abnorm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piratory g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mographic images of heart muscle, chambers, valvular stru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CHO-PLANAR TECHN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crimination between infarcted, ischemic &amp; normal myocar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D-NMR &amp; single-slice planar imaging in detecting breast abnorm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USCULO SKELETAL SYSTE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emonstrates Osteo  myelitis, tumor metastasis in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vertebral bodies &amp; pelvic bon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mages of muscles, tendons, ligamen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LOOD VESSELS &amp; FLOW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therosclerotic vascular diseas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ssess blood flow in major vessel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NVIVO SPECTROSCOP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emical shift phenomen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agnosis of rare disease to inborn errors-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c Ardle’s syndrom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NVIVO Analysis of Bone flouride conten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USCULO SKELETAL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monstrates Osteo  myelitis, tumor metastasis i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rtebral bodies &amp; pelvic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ages of muscles, tendons, liga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OOD VESSELS &amp;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herosclerotic vascular disea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sess blood flow in major vess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VIVO SPECTR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mical shift phenome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agnosis of rare disease to inborn errors-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c Ardle’s syndro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VIVO Analysis of Bone flouride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TTING  NMR  IMAGING INTO   PERSPECTIV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iminates risk of x-radi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cellent spatial &amp; contrast resolutio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tecting diseases at earlier stag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 NMR  IMAGING INTO   PERSP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minates risk of x-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llent spatial &amp; contrast resolu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cting diseases at earlier s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FB25-ABA1-42D7-8B75-919A36C97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4BB7-DC1D-4690-BE2C-EAC9ABEC3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1ADE-A2C8-4609-904E-3B07CC1DD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78E2-D104-4431-B014-195239C29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1C3B3-4B38-4280-971F-D2A0C5A3C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92F0B-08A9-4628-91AB-DD4FFD719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8869D-E5E7-4DAB-813D-0AC47BCF3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8034E-25DA-4F27-90C4-7E29E9DD5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8F1EB-8860-4B9B-80C9-CC67175D8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980B3-1AE5-432C-9BE4-BCDE07106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69E35-3B7A-4A85-A2C7-0A8D33A6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6916-2DF4-4256-88FF-BE94AAB1F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860C4-F65A-42A5-8B08-87A26B4F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1F75E-10B2-402B-94D3-1B92CDC3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08DD9-DA75-418B-A12E-300741ABB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412F6-191B-4E44-8FD6-252432F17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18C72-55B0-46F4-93D6-2B06E8A2F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19C1A-9002-48EC-BBCC-DB866E9DD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60583-A172-48FD-915D-8A4FE17CE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33DEA-D7A0-4A3D-8E50-2D7FA4A37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08307-37DB-4882-85B7-560D7DE4D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AC937-E7C1-472C-8837-983C37AB2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E909-3B32-484B-B0C7-4AD59AF7C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4ED2A-571A-42D6-944E-F1EC26489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A6521-0683-4C6C-B752-3152E298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5B021-7569-476A-A85E-72EFA370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C9CC3-76E4-4F28-8F2D-9650DC38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E8D71-E567-4382-B224-C802B99C4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49B24-979B-4EEA-BA3A-30BAEEBB7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5D9D0-4E81-485D-B114-92F804659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0DA3CC-07BC-4405-84FF-50F717922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1ECED8-99DB-43E2-B8B7-61590DA95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84DD49-9397-485C-9252-FDCC3F799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7891-6393-4856-B282-326CA4170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F2DDDA-C225-4AA5-9D06-79CEA01E5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68856D-BDCF-47DA-9436-3779063C8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B05EF7-AE24-41ED-9F56-6166ED486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B7A9FD-597D-42DD-A18A-DECCE4E5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D9ADAA-6D7A-49B4-A953-D25146B8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6CA591-1608-4EE4-A2E7-B67B314E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08ED52-E427-429F-9AAD-6E0A49308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DBF1AF-50A4-4855-88A7-A193B561D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34DA66-F33B-449F-A0FF-865AEB64E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5BC3-668C-4D7E-8006-AE3D34CAA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3FCC-6D94-4B29-98F6-7169319E0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0D6D-CB5D-429B-BF31-5D264CAA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43F2-7458-4F51-B756-88BED0BD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395D-9715-4CDA-BC99-A7A0BAE0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56AE8-D7CA-4067-BCBC-B1B5A5BD39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7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9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0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81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2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83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88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9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0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2B32C-4804-4F41-B09A-9EF73DA0A04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38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7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8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9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7E114-BD65-4551-B4FF-5E01EEC744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14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5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16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17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18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19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20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25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26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27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8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9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0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1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2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C9B05-2326-4B07-8466-8A55074077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4"/>
          <p:cNvSpPr/>
          <p:nvPr/>
        </p:nvSpPr>
        <p:spPr>
          <a:xfrm>
            <a:off x="685800" y="152280"/>
            <a:ext cx="777240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43babd"/>
                </a:solidFill>
                <a:uFillTx/>
                <a:latin typeface="Arial"/>
              </a:rPr>
              <a:t>NUCLEAR MAGNETIC RESONANCE SPECTROSCOPY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762120" y="2438280"/>
            <a:ext cx="76197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-</a:t>
            </a: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an ideal tool for Diagnosis &amp;     Drug Design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efb"/>
                </a:solidFill>
                <a:uFillTx/>
                <a:latin typeface="Arial"/>
              </a:rPr>
              <a:t>B. HASEENA BANU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efb"/>
                </a:solidFill>
                <a:latin typeface="Arial"/>
              </a:rPr>
              <a:t>Asst.Professor,SriPadmavathi School of Pharmacy,Tiruchanoor,Tirupa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NMR IN PHARMACEUTICAL RESEARCH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Leading technology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for 3-D structure   determination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of bio-macromolecul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tudying protein structure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SAR by NMR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– Novel lead compounds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hemical  shift mapping – Structural information on the binding modes and site position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olecular dynamics, conformational analysi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HAP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NMR – SOLV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ff"/>
                </a:solidFill>
                <a:latin typeface="Tahoma"/>
              </a:rPr>
              <a:t>Structural genomics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dentifying gene products in disease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argets of drug design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ff"/>
                </a:solidFill>
                <a:latin typeface="Tahoma"/>
              </a:rPr>
              <a:t>Development of Novel drug delivery system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00"/>
                </a:solidFill>
                <a:latin typeface="Tahoma"/>
              </a:rPr>
              <a:t>Enhancing HTS assay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ousands of compound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ryogenic NMR technology / cryoprob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NMR Nobel Prize Laureat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obel Prize in Physics </a:t>
            </a:r>
            <a:r>
              <a:rPr b="0" lang="en-US" sz="2800" spc="-1" strike="noStrike">
                <a:solidFill>
                  <a:srgbClr val="3de158"/>
                </a:solidFill>
                <a:latin typeface="Tahoma"/>
              </a:rPr>
              <a:t>1943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Ohostern, USA – Discovery of magnetic moment of prot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obel Prizein Physics </a:t>
            </a:r>
            <a:r>
              <a:rPr b="0" lang="en-US" sz="2800" spc="-1" strike="noStrike">
                <a:solidFill>
                  <a:srgbClr val="3de158"/>
                </a:solidFill>
                <a:latin typeface="Tahoma"/>
              </a:rPr>
              <a:t>195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IsidorJ. Rafi,USA – Discovery of new methods for nuclear magnetic preci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obel Prize in Chemistry </a:t>
            </a:r>
            <a:r>
              <a:rPr b="0" lang="en-US" sz="2800" spc="-1" strike="noStrike">
                <a:solidFill>
                  <a:srgbClr val="3de158"/>
                </a:solidFill>
                <a:latin typeface="Tahoma"/>
              </a:rPr>
              <a:t>199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Felix Bloch, USA and Edward M. Purcell, USA – Methodology of high resolution NM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obel Prize in Chemistry </a:t>
            </a:r>
            <a:r>
              <a:rPr b="0" lang="en-US" sz="2800" spc="-1" strike="noStrike">
                <a:solidFill>
                  <a:srgbClr val="3de158"/>
                </a:solidFill>
                <a:latin typeface="Tahoma"/>
              </a:rPr>
              <a:t>200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Kurt Wuthrich, Switzerland – Determining 3-D Structure by NM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obel Prize in Medicine </a:t>
            </a:r>
            <a:r>
              <a:rPr b="0" lang="en-US" sz="2800" spc="-1" strike="noStrike">
                <a:solidFill>
                  <a:srgbClr val="3de158"/>
                </a:solidFill>
                <a:latin typeface="Tahoma"/>
              </a:rPr>
              <a:t>2003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Paul C. Lauterbur, USA and Peter Mans field, U.K. – Discoveries concerning MR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e12d6"/>
                </a:solidFill>
                <a:latin typeface="Arial"/>
              </a:rPr>
              <a:t>THANKING YOU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54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de158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e12d6"/>
                </a:solidFill>
                <a:latin typeface="Tahoma"/>
              </a:rPr>
              <a:t> </a:t>
            </a:r>
            <a:r>
              <a:rPr b="0" lang="en-US" sz="3100" spc="-1" strike="noStrike">
                <a:solidFill>
                  <a:srgbClr val="2e12d6"/>
                </a:solidFill>
                <a:latin typeface="Tahoma"/>
              </a:rPr>
              <a:t>INTRODUCTION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74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BASIC PRINCIPLE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74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DIFFERENT TECHNIQUES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e12d6"/>
                </a:solidFill>
                <a:latin typeface="Tahoma"/>
              </a:rPr>
              <a:t> </a:t>
            </a:r>
            <a:r>
              <a:rPr b="0" lang="en-US" sz="3100" spc="-1" strike="noStrike">
                <a:solidFill>
                  <a:srgbClr val="2e12d6"/>
                </a:solidFill>
                <a:latin typeface="Tahoma"/>
              </a:rPr>
              <a:t>APPLICATIONS OF NMR IN MEDICINE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74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CLINICAL APPLICATIONS IN DIAGNOSIS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74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DRUG DEVELOPMENT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e12d6"/>
                </a:solidFill>
                <a:latin typeface="Tahoma"/>
              </a:rPr>
              <a:t> </a:t>
            </a:r>
            <a:r>
              <a:rPr b="0" lang="en-US" sz="3100" spc="-1" strike="noStrike">
                <a:solidFill>
                  <a:srgbClr val="2e12d6"/>
                </a:solidFill>
                <a:latin typeface="Tahoma"/>
              </a:rPr>
              <a:t>NMR Nobel prize laureates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54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12d6"/>
                </a:solidFill>
                <a:latin typeface="Tahoma"/>
              </a:rPr>
              <a:t>BASIC PRINCIPLE  IN NM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omic nuclei – tiny magne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external magnetic field - allign or oppo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irradiated with EMR of proper frequency – Reson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√  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  <a:ea typeface="Arial"/>
              </a:rPr>
              <a:t>α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  <a:ea typeface="Arial"/>
              </a:rPr>
              <a:t>β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  <a:ea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r>
              <a:rPr b="0" lang="en-US" sz="2800" spc="-1" strike="noStrike">
                <a:solidFill>
                  <a:srgbClr val="2e12d6"/>
                </a:solidFill>
                <a:latin typeface="Tahoma"/>
                <a:ea typeface="Arial"/>
              </a:rPr>
              <a:t>PARAMET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Chemical shift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Spin lattice relaxation ti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8600" y="190080"/>
            <a:ext cx="8686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9900"/>
                </a:solidFill>
                <a:latin typeface="Arial"/>
              </a:rPr>
              <a:t>DIFFERENT TECHNIQUES</a:t>
            </a:r>
            <a:endParaRPr b="0" lang="en-US" sz="45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Based on nuclei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ahoma"/>
              </a:rPr>
              <a:t>1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M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ahoma"/>
              </a:rPr>
              <a:t>13 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M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ahoma"/>
              </a:rPr>
              <a:t>13 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MR &amp; P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ahoma"/>
              </a:rPr>
              <a:t>31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M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ahoma"/>
              </a:rPr>
              <a:t>15 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MR &amp; O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ahoma"/>
              </a:rPr>
              <a:t>17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M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WNM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TNM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2D_NMR &amp;3D_NM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OSY _CORRELATION SPECTROSCOPY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MRI_MAGNETIC RESONANCE IMAGING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SR_ELECTRON SPIN RESONANCE SPECTROSCOPY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2e12d6"/>
                </a:solidFill>
                <a:latin typeface="Arial"/>
              </a:rPr>
              <a:t>APPLICATIONS OF NMR IN MEDICINE</a:t>
            </a:r>
            <a:br>
              <a:rPr sz="4800"/>
            </a:b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609120" y="19807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NICAL APPLICATION OF PROTO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AGING IN DIAGNO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ahoma"/>
              </a:rPr>
              <a:t>BR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tinguishing gray matter &amp; white mat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aging posterior fossae, brain stem, spinal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r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tect demyelinating lesions, tumors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morrhages, infar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ahoma"/>
              </a:rPr>
              <a:t>ABDOM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tabolic liver dise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sures liver iron over load in hemochromato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cal areas of inflammation in chronic active hepati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ahoma"/>
              </a:rPr>
              <a:t>KIDNEY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istinguishing renal cortex &amp; medul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o evaluate transplanted  kidn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ahoma"/>
              </a:rPr>
              <a:t>PELV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fferentiates between  Benign prostatic hyperplasia   &amp; prostatic carcino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tects bladder tumo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ff"/>
                </a:solidFill>
                <a:latin typeface="Tahoma"/>
              </a:rPr>
              <a:t>MEDIASTINUM, HILUM, LUNG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Assessing  abnormalities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ffffff"/>
                </a:solidFill>
                <a:uFillTx/>
                <a:latin typeface="Tahoma"/>
              </a:rPr>
              <a:t>Respiratory gating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ff"/>
                </a:solidFill>
                <a:latin typeface="Tahoma"/>
              </a:rPr>
              <a:t>HEART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Tomographic images of heart muscle, chambers, valvular structures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ECHO-PLANAR TECHNIQUE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Discrimination between infarcted, ischemic &amp; normal myocardium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ff"/>
                </a:solidFill>
                <a:latin typeface="Tahoma"/>
              </a:rPr>
              <a:t>BREAST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3D-NMR &amp; 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single-slice planar imaging in detecting breast abnormalities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1532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ff"/>
                </a:solidFill>
                <a:latin typeface="Tahoma"/>
              </a:rPr>
              <a:t>MUSCULO SKELETAL SYSTEM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emonstrates Osteo  myelitis, tumor metastasis in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vertebral bodies &amp; pelvic bon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mages of muscles, tendons, ligament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ff"/>
                </a:solidFill>
                <a:latin typeface="Tahoma"/>
              </a:rPr>
              <a:t>BLOOD VESSELS &amp; FLOW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therosclerotic vascular disease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ssess blood flow in major vessel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ff"/>
                </a:solidFill>
                <a:latin typeface="Tahoma"/>
              </a:rPr>
              <a:t>INVIVO SPECTROSCOPY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hemical shift phenomeno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iagnosis of rare disease to inborn errors-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Mc Ardle’s syndrome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600" spc="-1" strike="noStrike">
                <a:solidFill>
                  <a:srgbClr val="ffffff"/>
                </a:solidFill>
                <a:latin typeface="Tahoma"/>
              </a:rPr>
              <a:t>INVIVO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nalysis of Bone flouride content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433440"/>
            <a:ext cx="7772400" cy="14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261ce4"/>
                </a:solidFill>
                <a:latin typeface="Arial"/>
              </a:rPr>
              <a:t>PUTTING  NMR  IMAGING INTO   PERSPECTIVE</a:t>
            </a:r>
            <a:endParaRPr b="0" lang="en-US" sz="4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liminates risk of x-radi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xcellent spatial &amp; contrast resolu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etecting diseases at earlier sta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3T08:06:39Z</dcterms:created>
  <dc:creator>Reddy</dc:creator>
  <dc:description>APPLICATIONS OF NMR IN MEDICINE</dc:description>
  <cp:keywords>APPLICATIONS OF NMR IN MEDICINE</cp:keywords>
  <dc:language>en-US</dc:language>
  <cp:lastModifiedBy>LEGION2</cp:lastModifiedBy>
  <dcterms:modified xsi:type="dcterms:W3CDTF">2016-01-14T10:46:12Z</dcterms:modified>
  <cp:revision>58</cp:revision>
  <dc:subject>APPLICATIONS OF NMR IN MEDICINE</dc:subject>
  <dc:title>APPLICATIONS OF NMR IN MEDICINE</dc:title>
</cp:coreProperties>
</file>