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glas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01DE-3A37-4F3E-AA8E-A155511783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B41-54DB-49D9-8FC3-57B1DFAC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BB0-C90D-451E-9583-F8507DEC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A1AA-017B-4082-9808-D1B92919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5D9-C6D2-48FB-A47C-83A18762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C088-5A9D-472D-8368-CCA988B0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0BE9-7D9A-47E1-90B2-0DB49FE4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7AEC-31F4-46BF-BD41-65DF6996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8811-9A75-4D3B-A8A2-F9072E46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BCCF-2965-48DD-AF5E-AB86256F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073D-2FC0-4D29-8404-DED3D229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C5A9-7172-4B82-8AF4-93D09C48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9207-FA53-4D72-A80F-A79351FD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8E32-0192-4B95-9CF2-C85CE5B3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3FAF-2808-40D7-AF28-8765EE9B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50A1-3C10-42F2-8B05-B1223FD3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9879-7DF9-4779-885C-734D6917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9804-EF82-453C-B303-6A135016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695BB-E76A-4B58-BA7B-07080868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C2506-5C87-4F15-A648-BA431DBE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E293D-073B-4FC1-8E83-FCC87914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7A676-8BDA-4A00-9885-F196978A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EDA14-76A0-471F-A00A-FBAF80EF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841-7508-48AA-B284-147C2BBD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7DE16-BACC-483E-8C40-5E2B9F05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38488-F3F1-46B3-839B-AF0A96CC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46C5B-CAC5-4D79-8EF4-E43097ED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A20A5-0DCB-4964-B344-D44E8DAF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F28E1-E86D-40C5-9FE8-9D326B2F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0410A-CBA6-445F-9271-BF268412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14600-449B-4A73-91B1-B9914223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266208-0063-4EDE-A101-361BBC34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C16017-640A-4A40-AB05-426EF0FF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C7889F-8A5E-4577-BF41-CDD420E3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E60-6F99-40B2-A144-C0640836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3973A4-0DEC-4D38-AD0C-A9E68290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875CB-4279-406E-A57E-AACC298A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417E83-0339-4720-88C8-9AA6288E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C23283-B48F-4502-9DCC-99AAA22F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10F06-1584-4941-BD02-1C08E3C7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20CED3-26B2-4DF4-A97F-537153D9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A0F00A-CE4A-4BB8-BD6D-624F1EB7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44047-514B-47DD-99FB-8D778768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2E84D5-CEA1-4053-9600-8A69D65C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9FB-B4F6-4215-B84E-EF50D423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3EF4-7D74-4505-8BDD-0D701977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C60-DDE4-46BA-A3ED-64178C89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8A4-E345-4931-A7EC-803226B8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175-2BC7-4638-87D5-8F6F01A9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35A0-CFC0-4454-B34B-85BB4FED4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827C-F700-4249-9AFC-C8CDE7701F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065F-9584-4E4F-87E8-936E09459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1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2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0DC9-C0F5-49D6-8845-3E2685507E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685800" y="1522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43babd"/>
                </a:solidFill>
                <a:uFillTx/>
                <a:latin typeface="Arial"/>
              </a:rPr>
              <a:t>NUCLEAR MAGNETIC RESONANCE SPECTROSCOPY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762120" y="2438280"/>
            <a:ext cx="76197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n ideal tool for Diagnosis &amp;     Drug Desig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efb"/>
                </a:solidFill>
                <a:uFillTx/>
                <a:latin typeface="Arial"/>
              </a:rPr>
              <a:t>B. HASEENA BANU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efb"/>
                </a:solidFill>
                <a:latin typeface="Arial"/>
              </a:rPr>
              <a:t>Asst.Professor,SriPadmavathi School of Pharmacy,Tiruchanoor,Tirup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IN PHARMACEUTICAL RESEARC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ading technology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for 3-D structure   determination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of bio-macromolec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udying protein structur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SAR by NM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Novel lead compound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 shift mapping – Structural information on the binding modes and site posi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lecular dynamics, conformational analysi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AP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MR – SOLV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ahoma"/>
              </a:rPr>
              <a:t>Structural genomics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dentifying gene products in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rgets of drug desig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Development of Novel drug delivery syst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Tahoma"/>
              </a:rPr>
              <a:t>Enhancing HTS assay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ousands of compoun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ryogenic NMR technology / cryopr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Nobel Prize Laureat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4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hostern, USA – Discovery of magnetic moment of pro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5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sidorJ. Rafi,USA – Discovery of new methods for nuclear magnetic pr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9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Felix Bloch, USA and Edward M. Purcell, USA – Methodology of high resolution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Kurt Wuthrich, Switzerland – Determining 3-D Structure by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Medicine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aul C. Lauterbur, USA and Peter Mans field, U.K. – Discoveries concerning M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e12d6"/>
                </a:solidFill>
                <a:latin typeface="Arial"/>
              </a:rPr>
              <a:t>THANKING YOU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e158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INTRODUCTION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BASIC PRINCIPL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IFFERENT TECHNIQU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APPLICATIONS OF NMR IN MEDICIN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LINICAL APPLICATIONS IN DIAGNOSI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RUG DEVELOPMENT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NMR Nobel prize laureat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12d6"/>
                </a:solidFill>
                <a:latin typeface="Tahoma"/>
              </a:rPr>
              <a:t>BASIC PRINCIPLE  IN NM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ic nuclei – tiny magn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external magnetic field - allign or op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irradiated with EMR of proper frequency – Reso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√ 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2e12d6"/>
                </a:solidFill>
                <a:latin typeface="Tahoma"/>
                <a:ea typeface="Arial"/>
              </a:rPr>
              <a:t>PARAME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hemical shif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pin lattice relaxation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19008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9900"/>
                </a:solidFill>
                <a:latin typeface="Arial"/>
              </a:rPr>
              <a:t>DIFFERENT TECHNIQUES</a:t>
            </a:r>
            <a:endParaRPr b="0" lang="en-US" sz="4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nucle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P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3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5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O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7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W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T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D_NMR &amp;3D_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SY _CORRELATION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RI_MAGNETIC RESONANCE IMAG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R_ELECTRON SPIN RESONANCE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2e12d6"/>
                </a:solidFill>
                <a:latin typeface="Arial"/>
              </a:rPr>
              <a:t>APPLICATIONS OF NMR IN MEDICINE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APPLICATION OF PROT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IN DIAGN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inguishing gray matter &amp; white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posterior fossae, brain stem, spin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 demyelinating lesions, tumors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rrhages, infar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ABD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bolic liver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liver iron over load in hemochromat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al areas of inflammation in chronic active hepat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KIDNE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tinguishing renal cortex &amp; medu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 evaluate transplanted 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PEL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tes between  Benign prostatic hyperplasia   &amp; prostatic carcin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s bladder tum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MEDIASTINUM, HILUM, LUNG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ssessing 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Tahoma"/>
              </a:rPr>
              <a:t>Respiratory gating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HEAR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omographic images of heart muscle, chambers, valvular structur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ECHO-PLANAR TECHNIQU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Discrimination between infarcted, ischemic &amp; normal myocardium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BREAS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3D-NMR &amp;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ingle-slice planar imaging in detecting breast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Tahoma"/>
              </a:rPr>
              <a:t>MUSCULO SKELETAL SYSTE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monstrates Osteo  myelitis, tumor metastasis in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ertebral bodies &amp; pelvic bon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mages of muscles, tendons, ligam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BLOOD VESSELS &amp; FLOW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herosclerotic vascular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sess blood flow in major vesse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INVIVO SPECTROSCOP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shift phenomen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agnosis of rare disease to inborn errors-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Mc Ardle’s syndrom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INVIVO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alysis of Bone flouride conten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33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261ce4"/>
                </a:solidFill>
                <a:latin typeface="Arial"/>
              </a:rPr>
              <a:t>PUTTING  NMR  IMAGING INTO   PERSPECTIVE</a:t>
            </a:r>
            <a:endParaRPr b="0" lang="en-US" sz="4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liminates risk of x-rad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cellent spatial &amp; contrast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tecting diseases at earlier st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06:39Z</dcterms:created>
  <dc:creator>Reddy</dc:creator>
  <dc:description>APPLICATIONS OF NMR IN MEDICINE</dc:description>
  <cp:keywords>APPLICATIONS OF NMR IN MEDICINE</cp:keywords>
  <dc:language>en-US</dc:language>
  <cp:lastModifiedBy>LEGION2</cp:lastModifiedBy>
  <dcterms:modified xsi:type="dcterms:W3CDTF">2016-01-14T10:46:12Z</dcterms:modified>
  <cp:revision>58</cp:revision>
  <dc:subject>APPLICATIONS OF NMR IN MEDICINE</dc:subject>
  <dc:title>APPLICATIONS OF NMR IN MEDICINE</dc:title>
</cp:coreProperties>
</file>