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7239-CE00-495C-9F40-B218AA7FFB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B80-391E-437A-A769-286C313B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479-B438-4EFD-9D65-6E4830FE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F51B-ED2B-4D5B-8B6D-5B61B8EC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846-A81A-4E2D-9D0B-9ECF3DB2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EB15-095F-42EA-BE4C-4195E68C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D963-6646-41C4-B9E8-DC7A6CFA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8FC5-77EE-4331-A09E-8D752CCE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93CA-2F0B-4BB3-82A6-A18B37DD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2B03-8AA0-46DB-8275-978661EE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249C-891E-44AB-A9E7-B12BD71A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2C14-81BB-4DE3-92AB-01CAC22C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0F70-A7DC-49F5-84A1-CB27DB9A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9FC4-CF6F-4E38-AA21-28FB5EBA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009D-22BD-425E-BA05-510A5A25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01AF-30E0-4014-9FCE-1A007FD4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FF16-FA0A-4760-9848-7AE5EF64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DFED-05AF-4581-8C7F-D0C72406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7ABD-148C-4B69-8BE9-29360FCF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F0C0-3BC6-4DDB-AB9C-D2FE9219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4467-16A4-48A2-B258-4010C133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58B-2B99-442D-8B58-83C84290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91A-EF3C-41DE-8EB5-B9761E84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340-2C54-40AF-9BC0-BB917A1A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675-44F3-4BB8-AD8D-D5A9FCCD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A980-436E-49E4-95F9-C8B8FF954C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869F-A85A-40E7-8DCB-116AE32FDE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Biology 3201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 1 – Maintaining Dynamic Equilibrium 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tion 1 – 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uron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4" name="Picture 4" descr="newnakpump2"/>
          <p:cNvPicPr/>
          <p:nvPr/>
        </p:nvPicPr>
        <p:blipFill>
          <a:blip r:embed="rId1"/>
          <a:stretch/>
        </p:blipFill>
        <p:spPr>
          <a:xfrm>
            <a:off x="457200" y="2502000"/>
            <a:ext cx="8458200" cy="43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09480" y="1752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Ion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rest, the sodium gates are clo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rane is 50 times more permeable to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ns causing them to “leak” 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“sodium-potassium” pump pulls 2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in for 3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sent out. This further creates a charge difference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potentials occur in two st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polarization in an 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neuron is excited past its “Threshold” the following events occu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ions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rush into the ax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neutralizes the negative ions ins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ide of the axon becomes temporarily (+) while the outside becomes temporarily   (-). The reversal of charge is known a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depolarizatio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arby Sodium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channels open to continue the depolar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depolarization"/>
          <p:cNvPicPr/>
          <p:nvPr/>
        </p:nvPicPr>
        <p:blipFill>
          <a:blip r:embed="rId1"/>
          <a:stretch/>
        </p:blipFill>
        <p:spPr>
          <a:xfrm>
            <a:off x="0" y="1400040"/>
            <a:ext cx="9144000" cy="3608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t’s Have a look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polar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restoring of the (+) charge on the outside of the axon and (-) on the insi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assium gates open and potassium floods o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generates positive charge on the outside of membra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Channels Close (no + charges can get insi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odium/Potassium pump rapidly moves Sodium out of the c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rther creates the (+) charge outside with a (-) charge ins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refractory period"/>
          <p:cNvPicPr/>
          <p:nvPr/>
        </p:nvPicPr>
        <p:blipFill>
          <a:blip r:embed="rId1"/>
          <a:stretch/>
        </p:blipFill>
        <p:spPr>
          <a:xfrm>
            <a:off x="2438280" y="3398760"/>
            <a:ext cx="6410520" cy="3459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fractory Period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period of time between the triggering of an impulse and when it is available for anoth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NEW action potentials can be created during this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altatory Condu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jumping” of an impulse between the “Nodes of Ranvier” thus dramatically increasing it’s spe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occurs in axons having Myel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m/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20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saltatoryconduct2"/>
          <p:cNvPicPr/>
          <p:nvPr/>
        </p:nvPicPr>
        <p:blipFill>
          <a:blip r:embed="rId1"/>
          <a:stretch/>
        </p:blipFill>
        <p:spPr>
          <a:xfrm>
            <a:off x="2057400" y="2438280"/>
            <a:ext cx="471492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Neur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sic functional unit of the nervous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Verdana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nd impulses to and from the CNS and PNS and the effectors (muscles/gland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cholinerges_neuron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43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ll or None Respon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n axon is stimulated above its threshold it will trigger an impulse down its 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ength of the response is not dependent upon the stimul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axon cannot send a mild or strong response. It either responds or does not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6 – Structure of a Neu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Activity 1 and 2 (Go to Wor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7 – Nerve T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Q. 2, 4, 5,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critical role Myelin plays to an axon. Include at least two roles it pl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uron Struc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Picture 7" descr="neuron"/>
          <p:cNvPicPr/>
          <p:nvPr/>
        </p:nvPicPr>
        <p:blipFill>
          <a:blip r:embed="rId1"/>
          <a:stretch/>
        </p:blipFill>
        <p:spPr>
          <a:xfrm>
            <a:off x="228600" y="1370160"/>
            <a:ext cx="8915400" cy="5614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ndr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ne hair-like extensions on the end of a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ceive incoming stimu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 Body or So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trol center of the neur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: Directs impulses from the dendrites to the ax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trol center of the So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Tells the soma what to 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xon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thway for the nerve impulse (electrical message) from the soma to the opposite end of the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yelin Shea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insulating layer around an axon. Made up of Schwann ce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des of Ranvi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aps between schwann cel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Saltatory Conduction (Situation where speed of an impulse is greatly increased by the message ‘jumping’ the gaps in an ax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neuron_structure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3 types of neur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Verdana"/>
              </a:rPr>
              <a:t>Sensory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cep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s (skin, eyes, ear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 incoming stimuli from th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Verdana"/>
              </a:rPr>
              <a:t>Motor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ffector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cl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glan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 impules to effectors to initiate 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6600"/>
                </a:solidFill>
                <a:uFillTx/>
                <a:latin typeface="Verdana"/>
              </a:rPr>
              <a:t>Inter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that relay messages between other neurons such as sensory and motor neurons. (found most often in Brain and Spinal chor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7" descr="neuron_types_3"/>
          <p:cNvPicPr/>
          <p:nvPr/>
        </p:nvPicPr>
        <p:blipFill>
          <a:blip r:embed="rId1"/>
          <a:stretch/>
        </p:blipFill>
        <p:spPr>
          <a:xfrm>
            <a:off x="380880" y="722160"/>
            <a:ext cx="8077320" cy="60595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r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rv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llections of neurons that are joined together by connective tiss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ble for transferring impulses from receptors to CNS and back to effect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How Do Neurons Operate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Verdana"/>
              </a:rPr>
              <a:t>Neuron at Rest </a:t>
            </a:r>
            <a:r>
              <a:rPr b="0" lang="en-US" sz="1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 Resting Pot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curs when the neuron is at r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ondition where the </a:t>
            </a:r>
            <a:r>
              <a:rPr b="0" i="1" lang="en-US" sz="1800" spc="-1" strike="noStrike" u="sng">
                <a:solidFill>
                  <a:srgbClr val="99cc00"/>
                </a:solidFill>
                <a:uFillTx/>
                <a:latin typeface="Verdana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membrane is </a:t>
            </a:r>
            <a:r>
              <a:rPr b="0" i="1" lang="en-US" sz="1800" spc="-1" strike="noStrike">
                <a:solidFill>
                  <a:srgbClr val="3333ff"/>
                </a:solidFill>
                <a:latin typeface="Verdana"/>
              </a:rPr>
              <a:t>positively(+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harged compared to the </a:t>
            </a:r>
            <a:r>
              <a:rPr b="0" lang="en-US" sz="1800" spc="-1" strike="noStrike" u="sng">
                <a:solidFill>
                  <a:srgbClr val="999900"/>
                </a:solidFill>
                <a:uFillTx/>
                <a:latin typeface="Verdana"/>
              </a:rPr>
              <a:t>in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hich is </a:t>
            </a:r>
            <a:r>
              <a:rPr b="0" i="1" lang="en-US" sz="1800" spc="-1" strike="noStrike">
                <a:solidFill>
                  <a:srgbClr val="cc0000"/>
                </a:solidFill>
                <a:latin typeface="Verdana"/>
              </a:rPr>
              <a:t>negatively(-)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g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is said to b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lariz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has a voltage difference of -70 m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resting1"/>
          <p:cNvPicPr/>
          <p:nvPr/>
        </p:nvPicPr>
        <p:blipFill>
          <a:blip r:embed="rId1"/>
          <a:stretch/>
        </p:blipFill>
        <p:spPr>
          <a:xfrm>
            <a:off x="380880" y="3817800"/>
            <a:ext cx="8763120" cy="26719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7:26:53Z</dcterms:created>
  <dc:creator>M. Sceviour</dc:creator>
  <dc:description/>
  <dc:language>en-US</dc:language>
  <cp:lastModifiedBy>LEGION2</cp:lastModifiedBy>
  <dcterms:modified xsi:type="dcterms:W3CDTF">2016-01-14T10:43:22Z</dcterms:modified>
  <cp:revision>40</cp:revision>
  <dc:subject/>
  <dc:title>Biology 3201</dc:title>
</cp:coreProperties>
</file>