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C964-6A12-43C2-8D71-111224C3BA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8048-2E75-476B-A3CC-A5682A88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F4B-796E-4096-890B-787B8011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A3DE-15B4-41E2-9D18-CD5CEB9D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59D-E855-491D-AA86-72FFBEEE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B1F4-66D6-475D-9D65-AEC62C93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74D6-AD2A-4322-AD11-34D7C42F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A545-1D26-4F88-8F20-7A00DB60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9791-E76E-4550-8649-026B0C7B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0469-E70A-4222-828C-A2DBA7D7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473E-00B0-40CF-A57F-519FA105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33EB-F8A9-48BF-9E4F-778664C1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DFDE-40F3-46EB-9DFE-4FF508EB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F68F-5E07-4C1F-BBF5-BAF2CE2F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39EC-77F3-4AEC-8811-5376B236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1A22-2516-4964-B2FF-AF44EEB8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AAA1-4CB0-4559-AD2C-9AF5106F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2C35-8F52-40A7-B167-5BA3020C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D095-2E30-4ED4-9F40-E5299B30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8B92-9E2E-437B-94A4-5BDB4481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A35-83F0-4511-94EC-08FDF6DD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1959-7063-48B9-BD4E-FFD0518E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9D1-B7E6-47BE-8D98-6FF1319D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5641-DA08-44D5-BAC0-47577E5C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2BB0-69D8-44E8-B487-3EF06393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2E56-161A-45BA-9751-D5502D8211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E4C0-B775-480D-9122-BDFC2DB7CD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Biology 3201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 1 – Maintaining Dynamic Equilibrium 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tion 1 – 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uron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4" name="Picture 4" descr="newnakpump2"/>
          <p:cNvPicPr/>
          <p:nvPr/>
        </p:nvPicPr>
        <p:blipFill>
          <a:blip r:embed="rId1"/>
          <a:stretch/>
        </p:blipFill>
        <p:spPr>
          <a:xfrm>
            <a:off x="457200" y="2502000"/>
            <a:ext cx="8458200" cy="43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09480" y="1752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Ion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rest, the sodium gates are clo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rane is 50 times more permeable to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ns causing them to “leak” 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“sodium-potassium” pump pulls 2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in for 3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sent out. This further creates a charge difference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potentials occur in two st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polarization in an 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neuron is excited past its “Threshold” the following events occu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ions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rush into the ax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neutralizes the negative ions ins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ide of the axon becomes temporarily (+) while the outside becomes temporarily   (-). The reversal of charge is known a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depolarizatio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arby Sodium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channels open to continue the depolar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depolarization"/>
          <p:cNvPicPr/>
          <p:nvPr/>
        </p:nvPicPr>
        <p:blipFill>
          <a:blip r:embed="rId1"/>
          <a:stretch/>
        </p:blipFill>
        <p:spPr>
          <a:xfrm>
            <a:off x="0" y="1400040"/>
            <a:ext cx="9144000" cy="3608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t’s Have a look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polar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restoring of the (+) charge on the outside of the axon and (-) on the insi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assium gates open and potassium floods o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generates positive charge on the outside of membra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Channels Close (no + charges can get insi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odium/Potassium pump rapidly moves Sodium out of the c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rther creates the (+) charge outside with a (-) charge ins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refractory period"/>
          <p:cNvPicPr/>
          <p:nvPr/>
        </p:nvPicPr>
        <p:blipFill>
          <a:blip r:embed="rId1"/>
          <a:stretch/>
        </p:blipFill>
        <p:spPr>
          <a:xfrm>
            <a:off x="2438280" y="3398760"/>
            <a:ext cx="6410520" cy="3459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fractory Period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period of time between the triggering of an impulse and when it is available for anoth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NEW action potentials can be created during this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altatory Condu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jumping” of an impulse between the “Nodes of Ranvier” thus dramatically increasing it’s spe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occurs in axons having Myel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m/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20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saltatoryconduct2"/>
          <p:cNvPicPr/>
          <p:nvPr/>
        </p:nvPicPr>
        <p:blipFill>
          <a:blip r:embed="rId1"/>
          <a:stretch/>
        </p:blipFill>
        <p:spPr>
          <a:xfrm>
            <a:off x="2057400" y="2438280"/>
            <a:ext cx="471492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Neur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sic functional unit of the nervous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Verdana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nd impulses to and from the CNS and PNS and the effectors (muscles/gland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cholinerges_neuron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43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ll or None Respon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n axon is stimulated above its threshold it will trigger an impulse down its 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ength of the response is not dependent upon the stimul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axon cannot send a mild or strong response. It either responds or does not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6 – Structure of a Neu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Activity 1 and 2 (Go to Wor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7 – Nerve T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Q. 2, 4, 5,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critical role Myelin plays to an axon. Include at least two roles it pl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uron Struc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Picture 7" descr="neuron"/>
          <p:cNvPicPr/>
          <p:nvPr/>
        </p:nvPicPr>
        <p:blipFill>
          <a:blip r:embed="rId1"/>
          <a:stretch/>
        </p:blipFill>
        <p:spPr>
          <a:xfrm>
            <a:off x="228600" y="1370160"/>
            <a:ext cx="8915400" cy="5614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ndr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ne hair-like extensions on the end of a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ceive incoming stimu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 Body or So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trol center of the neur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: Directs impulses from the dendrites to the ax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trol center of the So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Tells the soma what to 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xon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thway for the nerve impulse (electrical message) from the soma to the opposite end of the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yelin Shea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insulating layer around an axon. Made up of Schwann ce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des of Ranvi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aps between schwann cel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Saltatory Conduction (Situation where speed of an impulse is greatly increased by the message ‘jumping’ the gaps in an ax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neuron_structure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3 types of neur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Verdana"/>
              </a:rPr>
              <a:t>Sensory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cep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s (skin, eyes, ear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 incoming stimuli from th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Verdana"/>
              </a:rPr>
              <a:t>Motor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ffector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cl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glan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 impules to effectors to initiate 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6600"/>
                </a:solidFill>
                <a:uFillTx/>
                <a:latin typeface="Verdana"/>
              </a:rPr>
              <a:t>Inter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that relay messages between other neurons such as sensory and motor neurons. (found most often in Brain and Spinal chor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7" descr="neuron_types_3"/>
          <p:cNvPicPr/>
          <p:nvPr/>
        </p:nvPicPr>
        <p:blipFill>
          <a:blip r:embed="rId1"/>
          <a:stretch/>
        </p:blipFill>
        <p:spPr>
          <a:xfrm>
            <a:off x="380880" y="722160"/>
            <a:ext cx="8077320" cy="60595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r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rv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llections of neurons that are joined together by connective tiss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ble for transferring impulses from receptors to CNS and back to effect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How Do Neurons Operate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Verdana"/>
              </a:rPr>
              <a:t>Neuron at Rest </a:t>
            </a:r>
            <a:r>
              <a:rPr b="0" lang="en-US" sz="1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 Resting Pot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curs when the neuron is at r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ondition where the </a:t>
            </a:r>
            <a:r>
              <a:rPr b="0" i="1" lang="en-US" sz="1800" spc="-1" strike="noStrike" u="sng">
                <a:solidFill>
                  <a:srgbClr val="99cc00"/>
                </a:solidFill>
                <a:uFillTx/>
                <a:latin typeface="Verdana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membrane is </a:t>
            </a:r>
            <a:r>
              <a:rPr b="0" i="1" lang="en-US" sz="1800" spc="-1" strike="noStrike">
                <a:solidFill>
                  <a:srgbClr val="3333ff"/>
                </a:solidFill>
                <a:latin typeface="Verdana"/>
              </a:rPr>
              <a:t>positively(+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harged compared to the </a:t>
            </a:r>
            <a:r>
              <a:rPr b="0" lang="en-US" sz="1800" spc="-1" strike="noStrike" u="sng">
                <a:solidFill>
                  <a:srgbClr val="999900"/>
                </a:solidFill>
                <a:uFillTx/>
                <a:latin typeface="Verdana"/>
              </a:rPr>
              <a:t>in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hich is </a:t>
            </a:r>
            <a:r>
              <a:rPr b="0" i="1" lang="en-US" sz="1800" spc="-1" strike="noStrike">
                <a:solidFill>
                  <a:srgbClr val="cc0000"/>
                </a:solidFill>
                <a:latin typeface="Verdana"/>
              </a:rPr>
              <a:t>negatively(-)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g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is said to b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lariz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has a voltage difference of -70 m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resting1"/>
          <p:cNvPicPr/>
          <p:nvPr/>
        </p:nvPicPr>
        <p:blipFill>
          <a:blip r:embed="rId1"/>
          <a:stretch/>
        </p:blipFill>
        <p:spPr>
          <a:xfrm>
            <a:off x="380880" y="3817800"/>
            <a:ext cx="8763120" cy="26719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7:26:53Z</dcterms:created>
  <dc:creator>M. Sceviour</dc:creator>
  <dc:description/>
  <dc:language>en-US</dc:language>
  <cp:lastModifiedBy>LEGION2</cp:lastModifiedBy>
  <dcterms:modified xsi:type="dcterms:W3CDTF">2016-01-14T10:43:22Z</dcterms:modified>
  <cp:revision>40</cp:revision>
  <dc:subject/>
  <dc:title>Biology 3201</dc:title>
</cp:coreProperties>
</file>