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6.png" ContentType="image/png"/>
  <Override PartName="/ppt/media/image12.jpeg" ContentType="image/jpeg"/>
  <Override PartName="/ppt/media/image4.gif" ContentType="image/gif"/>
  <Override PartName="/ppt/media/image8.png" ContentType="image/png"/>
  <Override PartName="/ppt/media/image11.jpeg" ContentType="image/jpeg"/>
  <Override PartName="/ppt/media/image13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FF882-6D55-43AA-8522-ACF8B6E905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ous Sy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end of the lesson you should be able t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transmission of impulses from senses to central nervous system and back to muscl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reflex action and the pathway of the reflex arc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function of reflex respons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role of the central nervous system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end of the lesson you should be able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transmission of impulses from senses to central nervous system and back to mus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reflex action and the pathway of the reflex ar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function of reflex 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role of the central nervous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ynaps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kins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kins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yna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kin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kin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rvous sy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sic nerve cell structu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sic nerve cell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ain types of nerve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y neuron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y neuron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neuron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ain types of nerv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y neu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y neu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neu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y neur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s impulses from receptors e.g pain receptors in skin to the CNS( brain or spinal  cor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y neu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s impulses from receptors e.g pain receptors in skin to the CNS( brain or spinal  cor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y neur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s impulses from sensory nerves to motor nerv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y neu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s impulses from sensory nerves to motor ner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s impulses from CNS to effector e.g. muscle to bring about movement or gland to bring about secretion of hormone e.g ADH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s impulses from CNS to effector e.g. muscle to bring about movement or gland to bring about secretion of hormone e.g AD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mission of signa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mission of sig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0A91-C2D5-4CF5-A5CC-81B8B20E8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29F8-CE4F-46BB-9FA3-4DDFFA8CE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1304-FA5D-4431-BEB3-70ABEA78F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9824-A7B3-43EB-AC99-9738FF82E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9E681-27B7-4819-8351-649103FFE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302DB-1591-4DBC-82B2-019B1ADB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6CCA6-A4ED-41B5-9B2C-D0EEADEF6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203A8-7802-4EC9-8307-59FE2C5AC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FC267-4CB8-4E5F-9ACC-7FA6A615B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2F866-D386-4BF5-8290-2F6739864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C0FB2-ABEB-4C89-996E-D05C5BA7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2259-5569-4592-98FD-018853D10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5CBC2-7486-4BF8-8AA4-20E2CDC7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BC4D8-11AF-4AB8-B173-3CCA252D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39AA8-86EA-42BB-9112-1D5219D6D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8EDB4-5D70-498A-BF5C-B6542AAC5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2DCC8-E91E-4CED-9A58-8FC8DF752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2E29-E7FD-4522-B271-9478FBBEE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27CC-6D0F-4C24-9B5A-CA57ADF70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40BD-4039-41D7-A64D-B99DFFE93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5600-091A-4D42-845D-8ECE5AC52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0416-B9EB-406A-A8CC-A3A7AE37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F94B-5748-48CE-8D00-01B89C11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0621-54AA-4B56-9EE7-FAFF3E3B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B1BAC-5F76-4B4F-9BEA-17F396DD8E0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6AAE7-D839-45B3-B856-AB4007FB475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Nervous System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1827000"/>
            <a:ext cx="8381880" cy="47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omic Sans MS"/>
              </a:rPr>
              <a:t>By the end of the lesson you should be able t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omic Sans MS"/>
              </a:rPr>
              <a:t>Describe the transmission of impulses from senses to central nervous system and back to muscl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omic Sans MS"/>
              </a:rPr>
              <a:t>Describe the reflex action and the pathway of the reflex ar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omic Sans MS"/>
              </a:rPr>
              <a:t>Describe the function of reflex respons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omic Sans MS"/>
              </a:rPr>
              <a:t>Describe the role of the central nervous system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The Synapse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1828800" y="1600200"/>
            <a:ext cx="5832360" cy="50626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8800" y="6248520"/>
            <a:ext cx="13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arkins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328680" y="54864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arkins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nervoussystematlas"/>
          <p:cNvPicPr/>
          <p:nvPr/>
        </p:nvPicPr>
        <p:blipFill>
          <a:blip r:embed="rId1"/>
          <a:stretch/>
        </p:blipFill>
        <p:spPr>
          <a:xfrm>
            <a:off x="2340000" y="0"/>
            <a:ext cx="404172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5702760" y="5562720"/>
            <a:ext cx="18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nervous syst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Nervous System"/>
          <p:cNvPicPr/>
          <p:nvPr/>
        </p:nvPicPr>
        <p:blipFill>
          <a:blip r:embed="rId1"/>
          <a:stretch/>
        </p:blipFill>
        <p:spPr>
          <a:xfrm>
            <a:off x="2124000" y="549360"/>
            <a:ext cx="4532400" cy="568800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Basic nerve cell structure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06" name="Picture 3" descr="basicneuron"/>
          <p:cNvPicPr/>
          <p:nvPr/>
        </p:nvPicPr>
        <p:blipFill>
          <a:blip r:embed="rId1"/>
          <a:stretch/>
        </p:blipFill>
        <p:spPr>
          <a:xfrm>
            <a:off x="1763640" y="1484280"/>
            <a:ext cx="5832720" cy="3525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longn"/>
          <p:cNvPicPr/>
          <p:nvPr/>
        </p:nvPicPr>
        <p:blipFill>
          <a:blip r:embed="rId2"/>
          <a:stretch/>
        </p:blipFill>
        <p:spPr>
          <a:xfrm>
            <a:off x="1835280" y="5445000"/>
            <a:ext cx="5903640" cy="9288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3 main types of nerve cells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10" name="Picture 3" descr="Senseneuron"/>
          <p:cNvPicPr/>
          <p:nvPr/>
        </p:nvPicPr>
        <p:blipFill>
          <a:blip r:embed="rId1"/>
          <a:stretch/>
        </p:blipFill>
        <p:spPr>
          <a:xfrm>
            <a:off x="684360" y="1628640"/>
            <a:ext cx="2360520" cy="2808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neuron1"/>
          <p:cNvPicPr/>
          <p:nvPr/>
        </p:nvPicPr>
        <p:blipFill>
          <a:blip r:embed="rId2"/>
          <a:stretch/>
        </p:blipFill>
        <p:spPr>
          <a:xfrm>
            <a:off x="5796000" y="1628640"/>
            <a:ext cx="2790720" cy="29718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3" name="Object 6"/>
          <p:cNvGraphicFramePr/>
          <p:nvPr/>
        </p:nvGraphicFramePr>
        <p:xfrm>
          <a:off x="3203640" y="1700280"/>
          <a:ext cx="2665440" cy="27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1700280"/>
                    <a:ext cx="266544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Text Box 7"/>
          <p:cNvSpPr/>
          <p:nvPr/>
        </p:nvSpPr>
        <p:spPr>
          <a:xfrm>
            <a:off x="1258920" y="486900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nsory neuro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995640" y="494172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lay neuro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6804000" y="494172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tor neuro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Sensory neurons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5076720" y="1989000"/>
            <a:ext cx="165600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12" descr="Scan10025"/>
          <p:cNvPicPr/>
          <p:nvPr/>
        </p:nvPicPr>
        <p:blipFill>
          <a:blip r:embed="rId1"/>
          <a:srcRect l="11818" t="47247" r="9800" b="37787"/>
          <a:stretch/>
        </p:blipFill>
        <p:spPr>
          <a:xfrm>
            <a:off x="304920" y="1752480"/>
            <a:ext cx="8305560" cy="37339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3"/>
          <p:cNvSpPr/>
          <p:nvPr/>
        </p:nvSpPr>
        <p:spPr>
          <a:xfrm>
            <a:off x="228600" y="548496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rries impulses from receptors e.g pain receptors in skin to the CNS( brain or spinal  cord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cc"/>
                </a:solidFill>
                <a:latin typeface="Comic Sans MS"/>
              </a:rPr>
              <a:t>Relay neuron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26" name="Picture 8" descr="Scan10026"/>
          <p:cNvPicPr/>
          <p:nvPr/>
        </p:nvPicPr>
        <p:blipFill>
          <a:blip r:embed="rId1"/>
          <a:srcRect l="23575" t="35840" r="24497" b="46341"/>
          <a:stretch/>
        </p:blipFill>
        <p:spPr>
          <a:xfrm>
            <a:off x="1219320" y="1905120"/>
            <a:ext cx="7467480" cy="35049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9"/>
          <p:cNvSpPr/>
          <p:nvPr/>
        </p:nvSpPr>
        <p:spPr>
          <a:xfrm>
            <a:off x="228600" y="525780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arries impulses from sensory nerves to motor nerv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Motor neuron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30" name="Picture 13" descr="Scan10027"/>
          <p:cNvPicPr/>
          <p:nvPr/>
        </p:nvPicPr>
        <p:blipFill>
          <a:blip r:embed="rId1"/>
          <a:srcRect l="11818" t="29424" r="9800" b="49904"/>
          <a:stretch/>
        </p:blipFill>
        <p:spPr>
          <a:xfrm>
            <a:off x="838080" y="1828800"/>
            <a:ext cx="7696440" cy="40384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4"/>
          <p:cNvSpPr/>
          <p:nvPr/>
        </p:nvSpPr>
        <p:spPr>
          <a:xfrm>
            <a:off x="0" y="5303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arries impulses from CNS to effector e.g. muscle to bring about movement or gland to bring about secretion of hormone e.g AD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cc"/>
                </a:solidFill>
                <a:latin typeface="Arial"/>
              </a:rPr>
              <a:t>Transmission of signa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34" name="Picture 4" descr="synapse"/>
          <p:cNvPicPr/>
          <p:nvPr/>
        </p:nvPicPr>
        <p:blipFill>
          <a:blip r:embed="rId1"/>
          <a:stretch/>
        </p:blipFill>
        <p:spPr>
          <a:xfrm>
            <a:off x="4572000" y="1700280"/>
            <a:ext cx="3959280" cy="3375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synapse"/>
          <p:cNvPicPr/>
          <p:nvPr/>
        </p:nvPicPr>
        <p:blipFill>
          <a:blip r:embed="rId2"/>
          <a:stretch/>
        </p:blipFill>
        <p:spPr>
          <a:xfrm>
            <a:off x="1442880" y="1984320"/>
            <a:ext cx="3392640" cy="268452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2</dc:creator>
  <dc:description>Nervous system</dc:description>
  <cp:keywords>Nervous system</cp:keywords>
  <dc:language>en-US</dc:language>
  <cp:lastModifiedBy>LEGION2</cp:lastModifiedBy>
  <dcterms:modified xsi:type="dcterms:W3CDTF">2016-01-14T10:40:52Z</dcterms:modified>
  <cp:revision>8</cp:revision>
  <dc:subject>Nervous system</dc:subject>
  <dc:title>Nervou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