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519D-BAB3-41A1-8E90-AAE11ED26C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B5E89-6D6F-4BEE-9622-6E9B9B305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04B69-871C-435D-B95E-EC4810430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A2742-CD58-4C38-AF13-499C29CE2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98859-16A5-4759-ACB9-A2818921E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9820B-DC34-43B9-AA94-983A9EBA3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CEB32-8657-47B0-B19E-6C3A4E0DE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238C3-997B-4A4B-80FD-EF044DC64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1C22-02C8-4009-B303-F4F9002B1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D2E9F-B521-402F-A7B3-413CE554D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F71E6-D70C-478C-9327-E03C3700C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D6199-F519-48D2-A9B4-56F02CCE8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523B-B34C-46D2-8C80-328661E39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2597-5A56-4F88-9E3D-23C34C5EA4BD}" type="datetime2">
              <a:rPr b="0" lang="ur-PK" sz="1200" spc="-1" strike="noStrike">
                <a:solidFill>
                  <a:srgbClr val="ffffff"/>
                </a:solidFill>
                <a:latin typeface="Verdana"/>
                <a:cs typeface="Arial"/>
              </a:rPr>
              <a:t>بده, 29,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CD1D-CB18-4E13-A11D-39D44AB3E8BB}"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D215-823E-4582-B988-C6D8C18751A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AF2A-421F-4B1C-AD3C-64FB75B7FCF0}"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4142-D3A6-4796-8D9A-524123A4A64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D2CE-1795-44EB-AE08-4858059674C9}"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03C7-836A-48A1-A2D8-092681B5021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4EB8-2054-4AE8-BEA2-8167CCB04BE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30A9-625D-4C89-8188-86F5D395C18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4941-00E6-4739-9862-2F3A4C60E8A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E094-E537-4072-B235-1EBB66E421D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6733-591E-4A20-B61B-7BF4A87B6953}"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0E4A-A35F-402A-9541-8812739E980A}"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55A5-9173-4C9B-AD05-D1635C9675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0304-3BD1-4B05-B145-463B1F8A2E2C}"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4E74-69A7-4A26-81EF-A586A049558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F860-6CA4-44A2-8F46-0A590B7CAE3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475C-E397-40A9-ABD7-5FB77279555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6E35-447E-4ECD-B627-2CADB62AB15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AFA0-D159-4EBE-A0CC-83FD7D72EA1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705E-8D4E-4EE8-A86C-FDD8C95F18F8}"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F32C-8829-4F72-A53B-BD0211A8218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BAF1-079A-4EC6-A0FF-371DE730E0D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1D1F-7E76-4FAA-9B96-B91A605823A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1B54-4CFF-4E9C-8A1B-4C9B133B397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79DB-43CB-496D-A764-579AF5A411BD}"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F4DA-83C5-4DB7-A08F-5442CE46CE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C6D9-2C88-49F8-B6D9-B33156B9D45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F27A-33F0-4731-8802-BF6792C140D9}"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0FAD-C701-4BA0-8EF5-954D2CEA867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D48C-F74F-42B0-AD33-0297461F3BB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275E-1018-4A00-846D-E5016D86DE03}"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7790-9BF3-47BF-9AD6-FF078397BB3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E189-9C5D-49BE-B2A3-54AAEC42F76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BC70-FBC2-4084-B457-5CEF9891C99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8301-45D6-41BC-8508-BCDED3BD496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287F-CD50-4123-9CF3-706A5236532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E52C-DC1B-44F0-81E4-AE96FC753B48}"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C49A-5642-43AB-95BA-9222A459C7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294F-2C3C-4264-834B-B7B99DBD8026}"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E841-3AEF-4401-B57D-D31A026154D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8E6C-5AD4-4AAB-ACC4-778A12D25BB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5D5B-0CB5-4522-A46F-2D3C56D7360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0F9A-6FA3-4392-A7F5-9C02588DC76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7882-2985-4D7A-BC22-48685B083FA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5322-7212-4387-831D-02BE56313E6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5BB6-1FB6-4A73-8E00-1B4188541B9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123C-9F91-405B-BAB0-F2206AA7D27A}"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2C29-0F24-487D-BA8B-DDB7EA2F8A8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C5F2-9653-4E0F-8454-832DFE488D7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80E9-3F42-462B-BE9E-C704279B5A3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DE37-7183-4A32-BA1F-7DAA3A32597B}"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4D45-59BB-44C4-B59B-BC58BA7F048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4460-2388-41A0-A9A4-7588CA40BD2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835A-B9FF-4DED-84EC-FB83F9CBDC8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DBE1-DE57-4E81-8AA1-EF56D223069C}"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AA82-F9C3-41DC-A050-C22DDB9BC1E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592B-57BB-4FA2-8FF3-322FD674E94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