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78E8-817F-43F8-918F-41A0E4B2B4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4C5E4-A9EC-45B6-AF5C-DED192DC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E5E35-7FFF-440E-8D40-466F6583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80965-2FD8-49CE-BD89-AEC39FF34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8F29F-29D2-4E1C-BC45-9DCACD803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D6F5-CD2F-4BDC-978B-7D084AFFC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82DB7-7FB9-4790-9FC7-1F121C59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AB87-B679-43BC-A41E-03ED0992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5B54B-133D-476B-855B-D38CCE5E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3DEB-7AD1-45F5-A21F-F482493F0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A74CB-3A87-470B-9A97-48D01DD5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9F82-6A56-4E56-9E98-C845E299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0062-B41F-4B0B-9E4A-B32DB583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B763-7664-4969-9740-83F943C07E20}" type="datetime2">
              <a:rPr b="0" lang="ur-PK" sz="1200" spc="-1" strike="noStrike">
                <a:solidFill>
                  <a:srgbClr val="ffffff"/>
                </a:solidFill>
                <a:latin typeface="Verdana"/>
                <a:cs typeface="Arial"/>
              </a:rPr>
              <a:t>جمعہ, 31,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590-A0FC-4C44-8876-C116C5AEA924}"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0220-DB15-455B-98A0-D59E907F64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384A-30F5-4D20-AF91-493214E1C39D}"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D1ED-5EA3-4776-AF38-6FCE84B87C8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5F1E-CC7B-4509-8974-4CD4DD7F7084}"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C14A-0D3D-4FFA-984E-C68DDEF255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9CBE-CE03-4552-AA4A-B982C25B1C87}"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C5DE-6B30-4B68-808E-C097BE088E3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AD28-505D-4424-9DC2-B853280950A8}"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5BDC-FE8F-4751-8881-C41109D78C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DEB2-6FB4-43F2-814F-3487676790F2}"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A424-FC48-4748-A3B3-C12994D05CAF}"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234B-DC53-4E7E-8F7D-D21010047BC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64B0-94C8-43C1-996D-6655B4C55BEB}"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F9C6-1DB1-40FC-A1F2-5690B935A6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CA01-056D-4E13-BBF0-CD67A6778D3D}"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0964-77D2-451F-99B0-2378CF2A71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1CFC-10D2-48C1-BB0F-E1CC86620F22}"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DD40-CACA-4038-9A56-0EB221D3E4C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B2C6-13B8-4D00-BA1C-FF1631CE3CE7}"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73C1-90BC-4C87-AEDA-0F0F8D6DA1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AC09-B980-4B51-9E23-3DDD79486B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86FA-7E8B-4540-A5A7-CA63AF49B9B0}"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290A-DFC1-41E8-AD67-577B891015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B3A3-0A6B-43AB-9CB9-910E4CD8F624}"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244F-898F-48BB-A75D-D945B21BE7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13E1-C9C0-4B88-B7BB-AAF6C00A124C}"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E2DF-7178-435B-83CD-2CDDAE03EA0F}"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1BA3-3E7B-4D72-89B1-D6EBCC762A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5903-D5B0-4313-81E9-1BDE5914BD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9059-CC2D-4B10-BD00-B23A3CA4387E}"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97D0-9F6E-498B-9872-998749D2256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3F14-9DED-4FB7-9A2D-1A1EEA4E3A99}"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5AA8-D39F-4ACB-8BD9-58D0BB0DBC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B799-A9AA-467A-8FE6-5A2C63F2966D}"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58F4-9714-4180-9B79-36D02C3A64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0C80-882F-43AA-9802-D932DCE66AB0}"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E376-5902-4F13-AEE3-7897C5FED7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C607-BAF0-4EE5-B72A-73C348A73679}"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1AF0-E382-4864-985B-CAA2A494C4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8825-B48A-4D1C-A276-E6DE4E8082F7}"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AB08-AF78-458D-A300-F895561FF5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A9CE-B9A9-438F-8447-C173DA83E457}"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8730-B25B-43D4-A4D3-08DBABC2651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6459-F93A-4BE8-A0CD-3B6185755BE6}"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54E7-1520-4646-A85A-AB9C73A76E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D596-E5D3-4FFC-A6E0-FB400CDD0619}"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F9FF-0968-4CD2-9A6B-B32BBB8C2FC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5771-E90B-4102-BE36-8D128A6B5FF7}"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6A62-7C1B-47A2-A225-DC62624C0F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BB58-3A84-4737-A878-4303C9A3C680}"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EE6C-C603-4550-BA8E-C30E160D2D8C}"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7048-E24F-4B55-A3B1-77F202D982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C6DB-49C0-486C-A5FC-7135C55ED2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B9CE-008E-4B32-AEC1-AB37E204C413}"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A94D-BCBB-4EDA-A4D9-19505491C4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52F8-1139-4C68-87CE-4BBFD6936775}" type="datetime2">
              <a:rPr b="0" lang="ur-PK" sz="1200" spc="-1" strike="noStrike">
                <a:solidFill>
                  <a:srgbClr val="ffffff"/>
                </a:solidFill>
                <a:latin typeface="Verdana"/>
                <a:cs typeface="Arial"/>
              </a:rPr>
              <a:t>جمعہ, 31,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