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A4CA-2461-4A73-BB58-CD759029F7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62997-A47E-42C2-90CA-1FE46B38D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99C84-12ED-430F-AAD3-01B673DA5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46893-1D84-4D44-B9CA-A0235D4F0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A721B-E6CB-4969-98AF-21923F3DD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95A9F-BAF5-414E-B2AC-1658C6135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EBFF4-C0F4-40F9-A5E8-FA47805A6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AAACD-0EB1-4277-8D66-A85463833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1E5C6-8413-4A04-9EE9-F20815BF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262CC-70C0-4A4C-8309-1152A3CE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CD0D-D2FE-4A22-86A5-2E5A8D0A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B00D-BAAA-4EF3-B985-3C776E52F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FD72B-3F5E-41C2-BF76-2B06F1F7B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B4E8-BB81-4B06-880F-D305688BB474}" type="datetime2">
              <a:rPr b="0" lang="ur-PK" sz="1200" spc="-1" strike="noStrike">
                <a:solidFill>
                  <a:srgbClr val="ffffff"/>
                </a:solidFill>
                <a:latin typeface="Verdana"/>
                <a:cs typeface="Arial"/>
              </a:rPr>
              <a:t>جمعرات, 30,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9651-0FA6-4742-899F-C07720D705C1}"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3744-D624-4E4D-941D-8AC596F4A32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4C9E-31F8-4469-A85A-8BED9424090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55CF-DAAD-4055-AC81-A4C46AC672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DBEA-BBDC-485F-A540-41D73EC4110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2E53-ABF6-4664-A95F-1F448ED1E9C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76DD-95F1-459D-B852-EC4745244B8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4AB5-C123-4CF8-896A-0C0DE395C92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57B3-79C9-41BD-ABF5-372CCC77472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C372-D78A-42B9-BD3C-ABBB1BEFC5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8E20-6BE6-4C91-BAAE-25EC886FEDF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7301-F0E8-465D-B32E-EAAEE1C6E732}"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9F3B-63D6-4001-85A2-527823FBDED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A175-1079-44C0-84D4-760B1510FEBF}"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D383-33C1-4F90-9CBF-8B8251ADF19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FAA5-4075-47B8-A458-92445D972C2B}"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0077-7CC2-4770-8492-BFF63D801E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0CE2-2D55-4354-B5E7-9CF062C3466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5CE5-2C8D-48E8-9686-14FC9386DCF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BA96-562E-4621-BA94-B759F3FEB681}"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7976-5948-4414-A6A4-2D78329621F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7673-E500-48F5-BE64-A1334F8A4C1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6172-42EA-46B3-A432-2025119B04DD}"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B62F-2996-4A5E-9F1D-C9580001959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F354-04DB-4B18-95F1-BCB80D25860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DF34-1862-476F-A94B-43A27F4E10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C264-43DC-4A8A-84CA-15ED81BDBDA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0985-AAE8-4CA0-BCA8-85C2DE0529B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33A4-EF71-4AE5-89E5-DB759C9D6B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C81D-57C0-4528-8A93-B424697682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5856-1EE3-4B4C-A5CD-6A4E17F7EF38}"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EF6D-92EE-4BD5-B3BF-C85B787F688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3DBD-8E1F-4C98-99A0-38C2608B313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5104-83FB-4C5A-B864-EF0CA2636D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24A4-173B-4B2F-ADC6-E0C174C1FE7F}"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B0B3-8716-4F05-ABEE-F9B7CF4054D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EA79-AB90-4A9E-B831-935D30778F76}"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7C0F-5A02-443A-A8AA-EFE02C3117C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ADC4-D3B3-4C2B-9AA4-FB6D54360DD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4227-634E-4B13-A663-DBCF0861980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A084-F370-4AEB-A9F9-114A8EE7FDD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27F6-FF4E-47BD-90C0-3D1C6917263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605F-AE69-43E8-BBEE-4484CE6609E4}"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95F6-BF78-4015-803B-D54D9BFEBDD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8C9B-7708-4F77-A095-1C7CA1CEE4D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7CC2-B01B-4833-87EB-E5745D91376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AE67-9ECC-4190-BEDE-549151BF53D1}"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D24F-FAA4-48FA-92C5-F846E1B36A0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4D3B-8855-4537-8046-AF21A40D9E5B}"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9014-F4BE-4CB2-B398-7A0FC29FBB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CFEC-A287-4EBE-B4C0-E2039BEFC208}"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A5B8-2E08-4395-AC74-7AE1FD44F8F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FBA9-26DE-4209-BA8C-023ECC1C465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1DF1-307B-497A-8FA1-D31A6E63343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D35B-F526-49B4-BA24-5FB4129B7C0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45CB-CA09-4E21-8373-16527B8779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4817-432A-49E3-8A03-DE263775F7A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