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311C-57DB-4A11-BDCB-42CB47E017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667BA-49D6-402B-92DE-3DEDD8490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03FB-9CD2-40D3-9CC0-E45D482F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3F8D5-1B32-4817-9393-5D2AADF5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B428A-D195-4351-BD7C-49D933401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81C2-D856-445A-A347-270BCBE0B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3C4DE-DF46-4A25-8534-0E835079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06E60-05A7-495E-B453-D407196A4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2BC7-98B4-494F-AD12-740CA4E5F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01AF2-87DE-4228-AF79-97762949B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389F-0C04-4571-862C-88648B1F4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7855-DC33-4A5C-9823-B415E398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B36D-1441-4F95-A07C-D97E1C295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E072-3195-49DB-84CE-8D11FF017C04}" type="datetime2">
              <a:rPr b="0" lang="ur-PK" sz="1200" spc="-1" strike="noStrike">
                <a:solidFill>
                  <a:srgbClr val="ffffff"/>
                </a:solidFill>
                <a:latin typeface="Verdana"/>
                <a:cs typeface="Arial"/>
              </a:rPr>
              <a:t>جمعرات, 30,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7C37-ADA5-4C1E-ACB4-D0CFA1FE33B2}"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65F6-E0E2-4B08-8A31-3FC234DF43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9E81-FAA9-4B17-8645-45E0C5A2886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1A40-8AB8-4C5B-AB14-F1ECF93AB2E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6349-4458-455B-9A4B-8ACB1D9088B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0A1C-5332-4229-8039-6FD78A6378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32D4-E04C-40BD-93A2-D2AB4C5437B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0DAF-C74B-4325-898F-5F2840B79A4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F154-180E-466E-AB88-8665C8F36EE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BDC0-9A68-40E8-BCE8-642CFB24A1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1E35-8F39-4CA5-BEBE-13DA892070D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CDE1-F8CC-4E83-A082-F49E1D8C198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F30A-933F-46FC-823F-195F7B1A61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2488-47D2-4572-BF8B-8B6226C8D77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1A6C-0F6E-40CA-BDDB-DED80DD9DD9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D233-D0FB-49CE-858B-A5A5CC26B05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5639-467D-46B1-B5CF-5EBB1816663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3D00-E5A2-40C6-8B75-AD1D27C1B41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E549-0B60-4834-8C3A-E3253745E27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EB91-F790-4AD0-A4C3-8139E7487CE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3D97-DEC6-46C4-A772-7D8EDD08B7B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40CE-8FFE-4D20-B19F-63DF69539D7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C9EE-7FE7-4B50-849B-39599D87512D}"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C349-56F0-4F80-ABDC-CEDCF84AE1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534A-73F2-493E-8CE5-929A1A8D3BD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9506-1636-43CA-B718-3C616634A54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37D0-249D-4DAD-A48C-E2D83940C99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8470-B831-4F9E-811D-511E23BFAF3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E95B-5BFB-4C47-92D2-EF4A0E13B9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387A-162F-461C-882A-452E50C56C1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734F-4CE2-4EBA-B2B5-8B84006C16C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03ED-FE86-4244-BD56-7EF308601A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E511-33CE-4B47-89C0-83F98D787B0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6ACC-F15D-4FCF-A463-AA1BD4553F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7E88-F6DA-4432-94BB-A6E9E172437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E087-E38F-49C6-B771-D079A418633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180F-6B9B-469E-A010-130ECE93679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D854-815D-45E8-8109-FF6170ADA8C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D6F1-0375-47FD-AAC7-9937E79EDAB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F920-A02A-441A-AC0C-1FE23FE66D4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67BD-3035-4F21-9B88-161E0BEDE69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88FD-BCAA-41F9-89A3-5E687833856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3B05-BA41-47AD-84FF-739442A09E8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9C61-A332-4D00-9DD9-EE49C9A1BB2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D2DB-ED0B-4370-A007-507F122F4F66}"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115C-F95A-4C52-949C-94EB744B48E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E566-171E-46CF-A53E-D18DC150752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6A5B-DB1D-4434-8768-CF5C0D52ED9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165B-88C8-4210-8F7B-E987A68C53E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F11D-9F85-42DB-97A9-C0F5F2EDF5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95A9-716C-4A3A-AEA6-1101E4EF3C1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A17B-44A0-4A8C-A9C7-9D60350C349C}"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BA9A-C60C-4293-A542-0536A646B75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6B4D-F42C-476F-AFD3-51FFCAFD2A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2895-17E4-4766-8A5C-083824BD644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139C-99C6-4FC0-887E-71FD21D9ED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7103-5437-438F-9D1D-6134B204882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