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E5277-7787-4ED3-BCC6-A311D058A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se of hear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e of hea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ner Ea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chle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mammals the long coiled sensory structure of the inner ear that contain receptor for sound is the cochle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tructure provide more surface area for receptor cells &amp; allow mammals greater sensitivity to pitch &amp; volume Then is present in other animal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ner Ea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chle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ammals the long coiled sensory structure of the inner ear that contain receptor for sound is the cochl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tructure provide more surface area for receptor cells &amp; allow mammals greater sensitivity to pitch &amp; volume Then is present in other animal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cess of hear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cess of hearing can be summarized as follow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 waves enter the outer ear and create pressure waves that reached the tympanic membr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 molecules under pressure vibrate the tympanic membra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ibration move the Malleus to the other side of the membr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andle of the Malleus strike the incus, vibrating i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of hea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cess of hearing can be summarized as follow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 enter the outer ear and create pressure waves that reached the tympanic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molecules under pressure vibrate the tympanic membra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ibration move the Malleus to the other side of the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andle of the Malleus strike the incus, vibrating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cess of hear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The vibrating incus moves the stapes back &amp; forth against the oval wind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 The movement of the oval window set up pressure changes that vibrate the fluid  in the inner ear. These vibrations are transmitted to the basilar membrane, causing it to ripp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Receptor hair cells of the organ of corti that are in contact with the overlying tectorial membrane are bent, causing a generator potential , which leads to an action potential that travel along the vestibulocochlear nerve to the brain for interpretation .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of hea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The vibrating incus moves the stapes back &amp; forth against the oval wind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 The movement of the oval window set up pressure changes that vibrate the fluid  in the inner ear. These vibrations are transmitted to the basilar membrane, causing it to rip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 Receptor hair cells of the organ of corti that are in contact with the overlying tectorial membrane are bent, causing a generator potential , which leads to an action potential that travel along the vestibulocochlear nerve to the brain for interpretation 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cess of hear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vibration in the cochlear      fluid dissipate  as a result of  movement of the round window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of hea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 vibration in the cochlear      fluid dissipate  as a result of  movement of the round window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jida Batoo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.sc(II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artment of Biological science KIU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jida Batoo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.sc(I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artment of Biological science KIU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ortance of hear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ring may initially have been important to vertebrate as a mechanism to alert them to dangerous activit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also important in search for food and mates and in communication.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ance of hea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ing may initially have been important to vertebrate as a mechanism to alert them to dangerous activ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so important in search for food and mates and in communication.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g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mans are not able to hear low pitched sounds,  below 20 cycles per second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ng children can hear high pitched sounds up to 20,000 cycles per second, but this ability decrease with ag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g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s are not able to hear low pitched sounds,  below 20 cycles per second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ng children can hear high pitched sounds up to 20,000 cycles per second, but this ability decrease with a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human Ea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uman ear has three division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uter 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ddle Ear (eardrum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ner 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human E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man ear has three division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uter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ddle Ear (eardrum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ner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uter Ea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uter ear consist of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ricle and external auditory ca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 waves enter the outer ear and create pressure waves that reached the tympanic membran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uter Ea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uter ear consist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ricle and external auditory ca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 enter the outer ear and create pressure waves that reached the tympanic membran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ddle Ea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ddle ear begin at the tympanic membrane and ends inside the sku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two small membranous opening, the oval and round windows , are loca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small ossicles are  between the tympanic membrane &amp; the oval wind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ddle Ea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ddle ear begin at the tympanic membrane and ends inside the sku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wo small membranous opening, the oval and round windows , are loc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small ossicles are  between the tympanic membrane &amp; the oval wind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ddle Ea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include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lleus; (hamm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us; (anvi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pes;(stirrup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name for their shap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lleus adheres to the tympanic membrane &amp; connect to the inc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cus connects to the stapes, which adheres to the oval wind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ddle Ea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includ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leus; (ham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us; (anvi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pes;(stirrup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name for their sha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lleus adheres to the tympanic membrane &amp; connect to the incu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cus connects to the stapes, which adheres to the oval wind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ner Ea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ner ear has three compon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estibul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micircular ca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chle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rst two, The vestibule &amp; semicircular canals, are concerned with equilibri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inuous movement of the fluid in the semicircular canal may cause motion sickness or seasickness in human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ner Ea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ner ear has three com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stibul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icircular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chle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two, The vestibule &amp; semicircular canals, are concerned with equilibr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ous movement of the fluid in the semicircular canal may cause motion sickness or seasickness in human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33FA-3C20-4F0A-A80B-198D2F42B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2820-6E14-46DB-BBA9-81BC3BA25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0AE9-1D04-49EC-BE34-B069D7CE7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B17B-51CA-481E-9472-5A3F86768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93641-76A1-4278-9073-7300891F3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D0EF9-EE9A-4299-B067-9F533710A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39EA2-2958-4E5A-BBD1-B73BE95D1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12F9A-A5FF-453C-BB51-A2C92649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7EAD0-6F7C-4CB9-8087-1244A3A6D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CC285-D443-4AF2-8D8A-3B0BACC7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ED29B-25BE-4EB6-8622-D8BC0E2B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5395-EA7F-46F2-8C13-FB7A6506A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F439A-B086-4D7A-B5C7-ACC4444E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0A8B9-2303-41DA-A513-D3108A74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84065-F39D-4608-9ED8-067366AA2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3C0F2-75D8-4103-A85E-F3260121E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CD0DF-6EA4-4C90-8622-DD1F02B55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ED33C-A1D6-4343-9326-609768E9A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6064C-8045-4F5E-903D-1A6E1B5CD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FC4E1-D3B4-4432-B87A-40055F4FA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86CCD-6A20-42AC-991E-441163C0A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49798-A9AC-4D2C-B517-72E31BC1E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2711-AE16-4F3D-B774-0E016B667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F7158-2080-4C44-BBB2-E7209908F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0D13D-F532-4FD2-A160-71ECD4CE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3B8E0-938A-4695-AD9C-A43B00CB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4DB77-B174-49F1-94AF-A7A3ACB7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A166F-2D7F-4C4D-986B-2F3A44071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DDBA2-A35E-4593-8F72-421334280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B9DD8-0990-48AC-B034-925BE038D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F22A6-F9CD-4BC5-B487-7F8111252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75387-6427-4EF4-8E76-417BE5031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A874F-E808-47B0-B6AC-A45DC05F7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661E-B74F-4B72-928F-F1DB2AB09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787F6-2029-46FE-B474-348ADBD85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A5297-A3DB-46F0-B567-91B9887AF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997EC-E073-4ED1-AF4B-D00534DD9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62C89-230B-408D-B9CF-0C49B96B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EB60A-1C98-469C-9FE3-C1AABCC4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C8DA4-0124-4688-8D0F-DEE80DB8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5275E-F9D8-4AF7-805F-801C70E77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B2088-687E-435A-9A85-F7905089A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E442A-7FA9-4398-895A-5CAB53FC5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F1D55-A450-444D-93E0-161BD0CBA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2344-D926-4D87-9058-5DC6427D6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9F5A7-5FAE-4D0B-8D11-F0B3CEF48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800FF-7680-414B-BD9F-4855CBC17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FE917-D55B-4F3C-A881-9EB69F276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26AC5-136D-403D-9FBD-A6939D28D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32844-082E-445A-A414-2B8AB4476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F1751-3B9E-45B1-98E7-6E50B2AF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03F29-7C6D-4686-A724-62051980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C2136-847E-49AB-BF46-AAA5A18A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35AAE-158E-4555-92EC-B4E9D7AF5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489B3-B48B-4B54-8C10-83117759B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B2F9-BD60-4EA1-A363-B617D7667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CFC8B-762A-4335-9BAF-2D47AA171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D551-EB90-4241-9EAC-AEA5CDDD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C4F9-4E3F-44D0-9BD0-536DA114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00A3-0B41-4148-846D-E0D276DF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865F0-740C-453C-8ADD-EBFF6F72643C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B4CEF-FE3C-4EFE-BB52-94FCBACF766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D6B3-9414-47F6-8BBB-495992D46AB2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51E73-9D40-40B8-B1B1-77006E2B11D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61AA4-0E4B-4F1E-8850-7A26A74C35D2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93952-367F-4226-9242-5A18640F886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7ED9E-7EAB-4B03-B38C-B41FFFBE5A5C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23AAB-A448-48EE-8898-57EFD8A1959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1FB24-F07F-4BC3-B912-F8914C776DBC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FAFD0-B32A-42BF-9265-447A3DC07AA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Content Placeholder 4" descr="funny-pictur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 rot="18202200">
            <a:off x="1159920" y="893520"/>
            <a:ext cx="3008160" cy="932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Franklin Gothic Book"/>
              </a:rPr>
              <a:t>Topic</a:t>
            </a:r>
            <a:r>
              <a:rPr b="0" lang="en-US" sz="6500" spc="-1" strike="noStrike">
                <a:solidFill>
                  <a:srgbClr val="644646"/>
                </a:solidFill>
                <a:latin typeface="Franklin Gothic Book"/>
              </a:rPr>
              <a:t> </a:t>
            </a:r>
            <a:endParaRPr b="0" lang="en-US" sz="65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 rot="19206600">
            <a:off x="5562000" y="2819160"/>
            <a:ext cx="33526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Perpetua"/>
              </a:rPr>
              <a:t>                      </a:t>
            </a:r>
            <a:r>
              <a:rPr b="1" lang="en-US" sz="3700" spc="-1" strike="noStrike">
                <a:solidFill>
                  <a:srgbClr val="000000"/>
                </a:solidFill>
                <a:latin typeface="Perpetua"/>
              </a:rPr>
              <a:t>Sense of hearing </a:t>
            </a:r>
            <a:endParaRPr b="0" lang="en-US" sz="37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8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ructure of human Ea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4817"/>
                </a:solidFill>
                <a:latin typeface="Franklin Gothic Book"/>
              </a:rPr>
              <a:t>The inner Ear;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33160" y="2174760"/>
            <a:ext cx="396396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Cochlea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In mammals the long coiled sensory structure of the inner ear that contain receptor for sound is the cochlea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is structure provide more surface area for receptor cells &amp; allow mammals greater sensitivity to pitch &amp; volume Then is present in other animals. 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7" name="Content Placeholder 6" descr="humanear_anatomy[1].jpg"/>
          <p:cNvPicPr/>
          <p:nvPr/>
        </p:nvPicPr>
        <p:blipFill>
          <a:blip r:embed="rId1"/>
          <a:stretch/>
        </p:blipFill>
        <p:spPr>
          <a:xfrm>
            <a:off x="4343400" y="1447920"/>
            <a:ext cx="4343400" cy="4800600"/>
          </a:xfrm>
          <a:prstGeom prst="rect">
            <a:avLst/>
          </a:prstGeom>
          <a:ln w="0">
            <a:noFill/>
          </a:ln>
        </p:spPr>
      </p:pic>
      <p:sp>
        <p:nvSpPr>
          <p:cNvPr id="278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80" name="Content Placeholder 3" descr="49_08HumanEarStructure_L.jpg"/>
          <p:cNvPicPr/>
          <p:nvPr/>
        </p:nvPicPr>
        <p:blipFill>
          <a:blip r:embed="rId1"/>
          <a:stretch/>
        </p:blipFill>
        <p:spPr>
          <a:xfrm>
            <a:off x="152280" y="0"/>
            <a:ext cx="8839440" cy="6553080"/>
          </a:xfrm>
          <a:prstGeom prst="rect">
            <a:avLst/>
          </a:prstGeom>
          <a:ln w="0">
            <a:noFill/>
          </a:ln>
        </p:spPr>
      </p:pic>
      <p:sp>
        <p:nvSpPr>
          <p:cNvPr id="281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rocess of hearing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process of hearing can be summarized as follows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ound waves enter the outer ear and create pressure waves that reached the tympanic membran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ir molecules under pressure vibrate the tympanic membrane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vibration move the Malleus to the other side of the membran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handle of the Malleus strike the incus, vibrating it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4" name="Content Placeholder 8" descr="Ear.jpg"/>
          <p:cNvPicPr/>
          <p:nvPr/>
        </p:nvPicPr>
        <p:blipFill>
          <a:blip r:embed="rId1"/>
          <a:stretch/>
        </p:blipFill>
        <p:spPr>
          <a:xfrm>
            <a:off x="4952880" y="1676520"/>
            <a:ext cx="3962520" cy="4419360"/>
          </a:xfrm>
          <a:prstGeom prst="rect">
            <a:avLst/>
          </a:prstGeom>
          <a:ln w="0">
            <a:noFill/>
          </a:ln>
        </p:spPr>
      </p:pic>
      <p:sp>
        <p:nvSpPr>
          <p:cNvPr id="285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rocess of hearing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Perpetua"/>
              </a:rPr>
              <a:t>5. </a:t>
            </a:r>
            <a:r>
              <a:rPr b="0" lang="en-US" sz="1900" spc="-1" strike="noStrike">
                <a:solidFill>
                  <a:srgbClr val="000000"/>
                </a:solidFill>
                <a:latin typeface="Perpetua"/>
              </a:rPr>
              <a:t>The vibrating incus moves the stapes back &amp; forth against the oval window.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Perpetua"/>
              </a:rPr>
              <a:t>6.  The movement of the oval window set up pressure changes that vibrate the fluid  in the inner ear. These vibrations are transmitted to the basilar membrane, causing it to ripple.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Perpetua"/>
              </a:rPr>
              <a:t>7. Receptor hair cells of the organ of corti that are in contact with the overlying tectorial membrane are bent, causing a generator potential , which leads to an action potential that travel along the vestibulocochlear nerve to the brain for interpretation .     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8" name="Content Placeholder 4" descr="ear3.jpg"/>
          <p:cNvPicPr/>
          <p:nvPr/>
        </p:nvPicPr>
        <p:blipFill>
          <a:blip r:embed="rId1"/>
          <a:stretch/>
        </p:blipFill>
        <p:spPr>
          <a:xfrm>
            <a:off x="4952880" y="1295280"/>
            <a:ext cx="3733920" cy="4724640"/>
          </a:xfrm>
          <a:prstGeom prst="rect">
            <a:avLst/>
          </a:prstGeom>
          <a:ln w="0">
            <a:noFill/>
          </a:ln>
        </p:spPr>
      </p:pic>
      <p:sp>
        <p:nvSpPr>
          <p:cNvPr id="289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rocess of hearing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8. vibration in the cochlear      fluid dissipate  as a result of  movement of the round window.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92" name="Content Placeholder 6" descr="humanear_anatomy[1].jpg"/>
          <p:cNvPicPr/>
          <p:nvPr/>
        </p:nvPicPr>
        <p:blipFill>
          <a:blip r:embed="rId1"/>
          <a:stretch/>
        </p:blipFill>
        <p:spPr>
          <a:xfrm>
            <a:off x="5105520" y="1447920"/>
            <a:ext cx="3581280" cy="4343400"/>
          </a:xfrm>
          <a:prstGeom prst="rect">
            <a:avLst/>
          </a:prstGeom>
          <a:ln w="0">
            <a:noFill/>
          </a:ln>
        </p:spPr>
      </p:pic>
      <p:sp>
        <p:nvSpPr>
          <p:cNvPr id="293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5684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Sajida Batool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      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M.sc(III)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Department of Biological science KIU </a:t>
            </a:r>
            <a:r>
              <a:rPr b="0" lang="en-US" sz="6600" spc="-1" strike="noStrike">
                <a:solidFill>
                  <a:srgbClr val="000000"/>
                </a:solidFill>
                <a:latin typeface="Perpetua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0" name="Picture 3" descr=""/>
          <p:cNvPicPr/>
          <p:nvPr/>
        </p:nvPicPr>
        <p:blipFill>
          <a:blip r:embed="rId1"/>
          <a:stretch/>
        </p:blipFill>
        <p:spPr>
          <a:xfrm>
            <a:off x="2743200" y="533520"/>
            <a:ext cx="3505320" cy="2819160"/>
          </a:xfrm>
          <a:prstGeom prst="rect">
            <a:avLst/>
          </a:prstGeom>
          <a:ln w="0">
            <a:noFill/>
          </a:ln>
        </p:spPr>
      </p:pic>
      <p:sp>
        <p:nvSpPr>
          <p:cNvPr id="241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mportance of hearing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earing may initially have been important to vertebrate as a mechanism to alert them to dangerous activiti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t also important in search for food and mates and in communication.  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4" name="Content Placeholder 7" descr="ear.jpg"/>
          <p:cNvPicPr/>
          <p:nvPr/>
        </p:nvPicPr>
        <p:blipFill>
          <a:blip r:embed="rId1"/>
          <a:stretch/>
        </p:blipFill>
        <p:spPr>
          <a:xfrm>
            <a:off x="4933800" y="1484280"/>
            <a:ext cx="3749760" cy="4498920"/>
          </a:xfrm>
          <a:prstGeom prst="rect">
            <a:avLst/>
          </a:prstGeom>
          <a:ln w="0">
            <a:noFill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ont…..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Range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Humans are not able to hear low pitched sounds,  below 20 cycles per second 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Young children can hear high pitched sounds up to 20,000 cycles per second, but this ability decrease with age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8" name="Content Placeholder 5" descr="400_F_24214164_WCC0rwnsJWT1hHkaubzmf0Zny0StA5qX.jpg"/>
          <p:cNvPicPr/>
          <p:nvPr/>
        </p:nvPicPr>
        <p:blipFill>
          <a:blip r:embed="rId1"/>
          <a:stretch/>
        </p:blipFill>
        <p:spPr>
          <a:xfrm>
            <a:off x="4495680" y="914400"/>
            <a:ext cx="4267440" cy="5211720"/>
          </a:xfrm>
          <a:prstGeom prst="rect">
            <a:avLst/>
          </a:prstGeom>
          <a:ln w="0">
            <a:noFill/>
          </a:ln>
        </p:spPr>
      </p:pic>
      <p:sp>
        <p:nvSpPr>
          <p:cNvPr id="249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ructure of human Ear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human ear has three divisions…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outer Ea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middle Ear (eardrum)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inner Ea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2" name="Content Placeholder 4" descr="14304-004-6C1B7EB1[1].gif"/>
          <p:cNvPicPr/>
          <p:nvPr/>
        </p:nvPicPr>
        <p:blipFill>
          <a:blip r:embed="rId1"/>
          <a:stretch/>
        </p:blipFill>
        <p:spPr>
          <a:xfrm>
            <a:off x="4191120" y="1600200"/>
            <a:ext cx="4495680" cy="487692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ructure of human Ea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4817"/>
                </a:solidFill>
                <a:latin typeface="Franklin Gothic Book"/>
              </a:rPr>
              <a:t>The outer Ear;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914400" y="224748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outer ear consist of th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uricle and external auditory canal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ound waves enter the outer ear and create pressure waves that reached the tympanic membrane.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7" name="Content Placeholder 14" descr="the_ear.jpg"/>
          <p:cNvPicPr/>
          <p:nvPr/>
        </p:nvPicPr>
        <p:blipFill>
          <a:blip r:embed="rId1"/>
          <a:stretch/>
        </p:blipFill>
        <p:spPr>
          <a:xfrm>
            <a:off x="4267080" y="1676520"/>
            <a:ext cx="4419720" cy="419076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ructure of human Ea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4817"/>
                </a:solidFill>
                <a:latin typeface="Franklin Gothic Book"/>
              </a:rPr>
              <a:t>The middle Ear;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914400" y="224748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middle ear begin at the tympanic membrane and ends inside the skull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here two small membranous opening, the oval and round windows , are located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ree small ossicles are  between the tympanic membrane &amp; the oval window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2" name="Content Placeholder 6" descr="Ear.jpg"/>
          <p:cNvPicPr/>
          <p:nvPr/>
        </p:nvPicPr>
        <p:blipFill>
          <a:blip r:embed="rId1"/>
          <a:stretch/>
        </p:blipFill>
        <p:spPr>
          <a:xfrm>
            <a:off x="4645080" y="1523880"/>
            <a:ext cx="4041720" cy="4953240"/>
          </a:xfrm>
          <a:prstGeom prst="rect">
            <a:avLst/>
          </a:prstGeom>
          <a:ln w="0">
            <a:noFill/>
          </a:ln>
        </p:spPr>
      </p:pic>
      <p:sp>
        <p:nvSpPr>
          <p:cNvPr id="263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ructure of human Ea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4817"/>
                </a:solidFill>
                <a:latin typeface="Franklin Gothic Book"/>
              </a:rPr>
              <a:t>The middle Ear;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33160" y="2133720"/>
            <a:ext cx="396396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ey include the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Malleus; (hammer)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Incus; (anvil)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Stapes;(stirrup)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So name for their shapes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e Malleus adheres to the tympanic membrane &amp; connect to the incus.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e incus connects to the stapes, which adheres to the oval window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7" name="Content Placeholder 9" descr="ear.gif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3962520"/>
          </a:xfrm>
          <a:prstGeom prst="rect">
            <a:avLst/>
          </a:prstGeom>
          <a:ln w="0">
            <a:noFill/>
          </a:ln>
        </p:spPr>
      </p:pic>
      <p:sp>
        <p:nvSpPr>
          <p:cNvPr id="268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ructure of human Ea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4817"/>
                </a:solidFill>
                <a:latin typeface="Franklin Gothic Book"/>
              </a:rPr>
              <a:t>The inner Ear;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09120" y="2133720"/>
            <a:ext cx="4953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inner ear has three component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vestibule 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emicircular cana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ochlea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first two, The vestibule &amp; semicircular canals, are concerned with equilibrium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ontinuous movement of the fluid in the semicircular canal may cause motion sickness or seasickness in human.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2" name="Content Placeholder 5" descr="Ear.jpg"/>
          <p:cNvPicPr/>
          <p:nvPr/>
        </p:nvPicPr>
        <p:blipFill>
          <a:blip r:embed="rId1"/>
          <a:stretch/>
        </p:blipFill>
        <p:spPr>
          <a:xfrm>
            <a:off x="5091120" y="1676520"/>
            <a:ext cx="3595680" cy="3962160"/>
          </a:xfrm>
          <a:prstGeom prst="rect">
            <a:avLst/>
          </a:prstGeom>
          <a:ln w="0">
            <a:noFill/>
          </a:ln>
        </p:spPr>
      </p:pic>
      <p:sp>
        <p:nvSpPr>
          <p:cNvPr id="273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9T06:17:33Z</dcterms:created>
  <dc:creator>User 1</dc:creator>
  <dc:description/>
  <dc:language>en-US</dc:language>
  <cp:lastModifiedBy>LEGION2</cp:lastModifiedBy>
  <dcterms:modified xsi:type="dcterms:W3CDTF">2016-01-14T10:21:37Z</dcterms:modified>
  <cp:revision>44</cp:revision>
  <dc:subject/>
  <dc:title>Importance of hearing</dc:title>
</cp:coreProperties>
</file>