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AFB6-6D9E-4A33-A407-5B3BD8213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e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hle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ammals the long coiled sensory structure of the inner ear that contain receptor for sound is the cochl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ructure provide more surface area for receptor cells &amp; allow mammals greater sensitivity to pitch &amp; volume Then is present in other animal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hle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mmals the long coiled sensory structure of the inner ear that contain receptor for sound is the cochl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ructure provide more surface area for receptor cells &amp; allow mammals greater sensitivity to pitch &amp; volume Then is present in other anima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cess of hearing can be summarized as follow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enter the outer ear and create pressure waves that reached the tympanic membr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molecules under pressure vibrate the tympanic membra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bration move the Malleus to the other side of the membr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andle of the Malleus strike the incus, vibrating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hearing can be summarized as follow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enter the outer ear and create pressure waves that reached the tympanic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molecules under pressure vibrate the tympanic membra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bration move the Malleus to the other side of the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ndle of the Malleus strike the incus, vibrating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The vibrating incus moves the stapes back &amp; forth against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The vibrating incus moves the stapes back &amp; forth against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vibration in the cochlear      fluid dissipate  as a result of  movement of the round window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vibration in the cochlear      fluid dissipate  as a result of  movement of the round window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jida Bat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.sc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 of Biological science KIU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jida Bat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Biological science KIU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ing may initially have been important to vertebrate as a mechanism to alert them to dangerous activ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also important in search for food and mates and in communication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ce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ing may initially have been important to vertebrate as a mechanism to alert them to dangerous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mportant in search for food and mates and in communication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s are not able to hear low pitched sounds,  below 20 cycles per second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children can hear high pitched sounds up to 20,000 cycles per second, but this ability decrease with 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re not able to hear low pitched sounds,  below 20 cycles per second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children can hear high pitched sounds up to 20,000 cycles per second, but this ability decrease with 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uman ear has three division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 (eardrum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ear has three divis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 (eardru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 consist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ricle and external auditory ca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enter the outer ear and create pressure waves that reached the tympanic membran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 consist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ricle and external auditory ca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enter the outer ear and create pressure waves that reached the tympanic membran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 begin at the tympanic membrane and ends inside the sk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wo small membranous opening, the oval and round windows , are loc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small ossicles are  between the tympanic membrane &amp;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 begin at the tympanic membrane and ends inside the sku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wo small membranous opening, the oval and round windows , are lo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small ossicles are  between the tympanic membrane &amp;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includ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leus; (hamm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us; (anvi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pes;(stirrup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name for their sha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lleus adheres to the tympanic membrane &amp; connect to the inc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us connects to the stapes, which adheres to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includ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leus; (ham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us; (anvi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pes;(stirrup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name for their sha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lleus adheres to the tympanic membrane &amp; connect to the inc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cus connects to the stapes, which adheres to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 has three compon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stibul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circular ca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hle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wo, The vestibule &amp; semicircular canals, are concerned with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movement of the fluid in the semicircular canal may cause motion sickness or seasickness in human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 has three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stibul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circular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hl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, The vestibule &amp; semicircular canals, are concerned with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movement of the fluid in the semicircular canal may cause motion sickness or seasickness in human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3F10-9F3F-447F-B5E4-001F2460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2886-F1AE-4898-A1EB-B54AAA8F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F88-BC82-4F35-A209-1551A229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BE38-3509-40BE-9787-ABF9B25E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2818-3588-4D43-AD43-A284E62B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52B0-D03E-4BCA-A205-A36C683A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C004-2199-493F-9ABD-95254AF7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F2FD-3AE8-4D7D-897A-794E0B40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B935-EC4B-4FBD-B7C1-C773A4B6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550C-68FC-40F6-8E33-DBBF012F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0B7E-A5CA-49DB-B7CC-BFA3E732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6915-2C0F-4518-B231-5BD97BEF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8AC0-D195-48E0-821A-D9067F50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012D-AB6E-4E15-ABB1-8DB8E40C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5CFE-2B4F-4EF0-BF40-6505AA30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B37C-2385-4A8B-B6C0-4A9A724F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6301-96D7-4FBB-9458-899D0524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59793-2900-40B0-8F70-D0688448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6C622-2F09-4F13-8323-DE019CAE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28AB5-7351-46DD-9F5F-E494293F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E9812-0651-4BB4-95C8-BFDAB40B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EFABD-EABE-493F-9972-A9EC3830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0E20-0E5D-4DB5-8642-A412B900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5605D-B1E0-47D9-95DA-C991FA8B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19D14-153F-41E3-8107-9BED1BF5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3BEEE-B70F-427F-B067-373487D9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08802-7D5A-439D-A550-15033F22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7E073-719A-4A39-87B3-57F6E4FF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935D6-D609-4D20-817F-2AF757CB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9ACD0-63E5-4362-8F3C-6B6EA8C0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8EAC4-EE50-4E83-8D1A-DA618571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8D3DC-5C47-44CC-91E6-52FA10CC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96EBE-8681-4977-A87C-C0034D84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47E1-494B-4489-8FC7-C7F0D71F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E949F-71B0-49EA-90BF-4D47D270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76E86-79C1-4435-B3E2-62C08D6C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0D705-7412-4376-A946-F71DC93D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438D6-1902-4967-A3FB-5350A37A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77416-F5FB-4385-9F4A-AC941D15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082AB-3D8F-402B-B71A-8324E80D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39A2E-BF10-4917-AFAE-0D5A4A51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96FAC-ABFF-46BA-BA30-486755A5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7043D-C382-43F3-9299-AA2348E3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983F6-4C5E-454F-9F78-F5599D04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60B2-E250-4518-98FF-D0358F2D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680AC-B62B-4B25-A44B-76B91103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0C950-6E86-4160-A894-74185E83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E69DD-74F7-4D1D-BE34-41656E48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8B20C-BAD2-4579-8B78-64AC35F6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BB56F-933B-469F-9187-7A89AA4D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F4F0F-C9A9-4DE9-A5EB-A617F049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5643B-CD8D-4ECF-B189-25703C42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B3379-BE40-4BBD-AF8A-3F26ABCF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EE6E7-3510-405C-8B67-4BC5A884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25F2E-0EE0-44EE-8C42-F2AFE766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DA46-AC96-4055-A3AA-C4DBF7BB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BA7A3-C8D1-4EC9-805E-88BB907F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5269-0AFD-4B36-A450-BAFDD912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C8B6-0E2F-4091-8D79-DB9EF243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78C3-8948-424A-BDC4-0755AE60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F651-C239-4791-9A88-9F1B0CB531A8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7F42-110B-4A89-B900-30182E7E884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DBAA-E0BC-4208-B693-7F2982B858BE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805E-70A3-44AB-8A22-79E771A3654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9076-CAE3-4024-81E7-DEC4B4BFC4D5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22BB-F49E-43C2-8E71-92BA38C2740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A28C-2B4C-400F-88BC-A2FA7D175E9B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9867-1195-4EAF-ADAA-FC6003FDD50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89D7-9CC1-430E-8417-497EAD26F801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23E9-AA11-4389-9159-8D2B0F6F1D6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4" descr="funny-pictur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 rot="18202200">
            <a:off x="1159920" y="893520"/>
            <a:ext cx="3008160" cy="932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Franklin Gothic Book"/>
              </a:rPr>
              <a:t>Topic</a:t>
            </a:r>
            <a:r>
              <a:rPr b="0" lang="en-US" sz="6500" spc="-1" strike="noStrike">
                <a:solidFill>
                  <a:srgbClr val="644646"/>
                </a:solidFill>
                <a:latin typeface="Franklin Gothic Book"/>
              </a:rPr>
              <a:t> </a:t>
            </a:r>
            <a:endParaRPr b="0" lang="en-US" sz="65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 rot="19206600">
            <a:off x="5562000" y="2819160"/>
            <a:ext cx="3352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Sense of hearing 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inn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33160" y="2174760"/>
            <a:ext cx="39639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ochlea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 mammals the long coiled sensory structure of the inner ear that contain receptor for sound is the cochlea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is structure provide more surface area for receptor cells &amp; allow mammals greater sensitivity to pitch &amp; volume Then is present in other animals. 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7" name="Content Placeholder 6" descr="humanear_anatomy[1].jpg"/>
          <p:cNvPicPr/>
          <p:nvPr/>
        </p:nvPicPr>
        <p:blipFill>
          <a:blip r:embed="rId1"/>
          <a:stretch/>
        </p:blipFill>
        <p:spPr>
          <a:xfrm>
            <a:off x="4343400" y="1447920"/>
            <a:ext cx="4343400" cy="480060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80" name="Content Placeholder 3" descr="49_08HumanEarStructure_L.jpg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55308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rocess of hearing can be summarized as follows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und waves enter the outer ear and create pressure waves that reached the tympanic membran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ir molecules under pressure vibrate the tympanic membran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vibration move the Malleus to the other side of the membran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handle of the Malleus strike the incus, vibrating it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4" name="Content Placeholder 8" descr="Ear.jpg"/>
          <p:cNvPicPr/>
          <p:nvPr/>
        </p:nvPicPr>
        <p:blipFill>
          <a:blip r:embed="rId1"/>
          <a:stretch/>
        </p:blipFill>
        <p:spPr>
          <a:xfrm>
            <a:off x="4952880" y="1676520"/>
            <a:ext cx="3962520" cy="44193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5. </a:t>
            </a: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The vibrating incus moves the stapes back &amp; forth against the oval window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8" name="Content Placeholder 4" descr="ear3.jpg"/>
          <p:cNvPicPr/>
          <p:nvPr/>
        </p:nvPicPr>
        <p:blipFill>
          <a:blip r:embed="rId1"/>
          <a:stretch/>
        </p:blipFill>
        <p:spPr>
          <a:xfrm>
            <a:off x="4952880" y="1295280"/>
            <a:ext cx="373392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8. vibration in the cochlear      fluid dissipate  as a result of  movement of the round window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2" name="Content Placeholder 6" descr="humanear_anatomy[1].jpg"/>
          <p:cNvPicPr/>
          <p:nvPr/>
        </p:nvPicPr>
        <p:blipFill>
          <a:blip r:embed="rId1"/>
          <a:stretch/>
        </p:blipFill>
        <p:spPr>
          <a:xfrm>
            <a:off x="5105520" y="1447920"/>
            <a:ext cx="3581280" cy="434340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Sajida Batool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M.sc(III)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epartment of Biological science KIU </a:t>
            </a: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2743200" y="533520"/>
            <a:ext cx="3505320" cy="281916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mportance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earing may initially have been important to vertebrate as a mechanism to alert them to dangerous activiti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 also important in search for food and mates and in communication. 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Content Placeholder 7" descr="ear.jpg"/>
          <p:cNvPicPr/>
          <p:nvPr/>
        </p:nvPicPr>
        <p:blipFill>
          <a:blip r:embed="rId1"/>
          <a:stretch/>
        </p:blipFill>
        <p:spPr>
          <a:xfrm>
            <a:off x="4933800" y="1484280"/>
            <a:ext cx="3749760" cy="449892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t….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ang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umans are not able to hear low pitched sounds,  below 20 cycles per second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Young children can hear high pitched sounds up to 20,000 cycles per second, but this ability decrease with ag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Content Placeholder 5" descr="400_F_24214164_WCC0rwnsJWT1hHkaubzmf0Zny0StA5qX.jpg"/>
          <p:cNvPicPr/>
          <p:nvPr/>
        </p:nvPicPr>
        <p:blipFill>
          <a:blip r:embed="rId1"/>
          <a:stretch/>
        </p:blipFill>
        <p:spPr>
          <a:xfrm>
            <a:off x="4495680" y="914400"/>
            <a:ext cx="4267440" cy="52117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human ear has three division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outer E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middle Ear (eardrum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inner E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Content Placeholder 4" descr="14304-004-6C1B7EB1[1].gif"/>
          <p:cNvPicPr/>
          <p:nvPr/>
        </p:nvPicPr>
        <p:blipFill>
          <a:blip r:embed="rId1"/>
          <a:stretch/>
        </p:blipFill>
        <p:spPr>
          <a:xfrm>
            <a:off x="4191120" y="1600200"/>
            <a:ext cx="4495680" cy="487692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out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outer ear consist of th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uricle and external auditory cana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und waves enter the outer ear and create pressure waves that reached the tympanic membrane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7" name="Content Placeholder 14" descr="the_ear.jpg"/>
          <p:cNvPicPr/>
          <p:nvPr/>
        </p:nvPicPr>
        <p:blipFill>
          <a:blip r:embed="rId1"/>
          <a:stretch/>
        </p:blipFill>
        <p:spPr>
          <a:xfrm>
            <a:off x="4267080" y="1676520"/>
            <a:ext cx="4419720" cy="41907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middle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middle ear begin at the tympanic membrane and ends inside the skull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re two small membranous opening, the oval and round windows , are locate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ree small ossicles are  between the tympanic membrane &amp; the oval window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2" name="Content Placeholder 6" descr="Ear.jpg"/>
          <p:cNvPicPr/>
          <p:nvPr/>
        </p:nvPicPr>
        <p:blipFill>
          <a:blip r:embed="rId1"/>
          <a:stretch/>
        </p:blipFill>
        <p:spPr>
          <a:xfrm>
            <a:off x="4645080" y="1523880"/>
            <a:ext cx="4041720" cy="495324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middle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2133720"/>
            <a:ext cx="39639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y include the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Malleus; (hammer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cus; (anvil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Stapes;(stirrup)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So name for their shap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Malleus adheres to the tympanic membrane &amp; connect to the incus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incus connects to the stapes, which adheres to the oval window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Content Placeholder 9" descr="ear.gif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96252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inn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3372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inner ear has three componen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vestibule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micircular can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chlea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first two, The vestibule &amp; semicircular canals, are concerned with equilibrium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tinuous movement of the fluid in the semicircular canal may cause motion sickness or seasickness in human.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2" name="Content Placeholder 5" descr="Ear.jpg"/>
          <p:cNvPicPr/>
          <p:nvPr/>
        </p:nvPicPr>
        <p:blipFill>
          <a:blip r:embed="rId1"/>
          <a:stretch/>
        </p:blipFill>
        <p:spPr>
          <a:xfrm>
            <a:off x="5091120" y="1676520"/>
            <a:ext cx="359568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6:17:33Z</dcterms:created>
  <dc:creator>User 1</dc:creator>
  <dc:description/>
  <dc:language>en-US</dc:language>
  <cp:lastModifiedBy>LEGION2</cp:lastModifiedBy>
  <dcterms:modified xsi:type="dcterms:W3CDTF">2016-01-14T10:21:37Z</dcterms:modified>
  <cp:revision>44</cp:revision>
  <dc:subject/>
  <dc:title>Importance of hearing</dc:title>
</cp:coreProperties>
</file>