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242D-7376-4D3D-8E18-B197198E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mmals the long coiled sensory structure of the inner ear that contain receptor for sound is the cochl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ructure provide more surface area for receptor cells &amp; allow mammals greater sensitivity to pitch &amp; volume Then is present in other anim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hearing can be summarized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molecules under pressure vibrate the tympanic membra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bration move the Malleus to the other side of the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ndle of the Malleus strike the incus, vibra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 vibrating incus moves the stapes back &amp; forth against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vibration in the cochlear      fluid dissipate  as a result of  movement of the round wind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jida Bat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Biological science KIU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ce of he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ing may initially have been important to vertebrate as a mechanism to alert them to dangerous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mportant in search for food and mates and in communication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not able to hear low pitched sounds,  below 20 cycles per secon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children can hear high pitched sounds up to 20,000 cycles per second, but this ability decrease with 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ear has three divis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(eardru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er ear consist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ricle and external auditory ca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enter the outer ear and create pressure waves that reached the tympanic membra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 begin at the tympanic membrane and ends inside the sk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wo small membranous opening, the oval and round windows , are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mall ossicles are  between the tympanic membrane &amp;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includ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leus; (ha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s; (anvi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pes;(stirrup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name for their sha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lleus adheres to the tympanic membrane &amp; connect to the inc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us connects to the stapes, which adheres to the oval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human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ear has three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tibul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circular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hl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, The vestibule &amp; semicircular canals, are concerned with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movement of the fluid in the semicircular canal may cause motion sickness or seasickness in human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2FB-3C4C-481C-A6DF-4361779A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97A-E1D2-4706-B936-E722ADE8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411-F36C-4363-8E4A-57A9E2F7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9C8-9689-4405-AF01-18173C4E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FAC-BC9C-4745-8BC7-C8C2A0D1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4530-9656-4966-81A8-4193336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D96E-643D-4A70-BD09-2124E305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0D5C-3FA2-40E6-BA7D-EE59ABB4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F83C-E36B-4BF1-A6F7-C3F92A86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058-5820-4F44-967C-84A1F192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8A96-86CA-431F-A71D-F7B5BC55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714-101E-40C3-A845-44A5B1D5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79F-E24F-4EF3-AEE9-E10B62D3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707D-79CA-4DFB-8F4E-2928772E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5770-FAC9-42DC-B0CD-147D13DC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D8CC-D1DD-4F89-834B-499CED5E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7BCA-E6A2-4A9B-AFDC-FF9275A4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732E-F4B7-4BF7-AB45-267B0E7E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E20A-B728-40B2-BF42-E94CB512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218D-2A79-49CD-AFD0-B5EB380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4679-7B73-47E4-89A7-7636770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21F7D-C07E-4683-A9ED-5484D51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FA7-4B62-4BE4-B58D-62B5F2AC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072C-3F84-4BB7-AB5B-1A4B9141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D8DA-0D49-4D7F-9E9A-6E3AEC2C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9D9B-9749-4A69-B092-98051E7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C1617-4625-4A20-8818-590BB6F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696D-210D-491C-B6C8-8E87E0DF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F789-E593-4701-843B-A7D2BD82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EF81-C003-4F10-B976-3F3DBC1E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13370-983C-490F-BAF9-1858BF2B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199D2-8467-40C7-A624-D398B42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13B1E-73A4-4D66-993A-D75F72E3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1CE-FA51-4AE5-82A4-2E8256D4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EB659-5F8F-4291-9D96-AC4325A3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E460-7C2C-4C0C-BA83-E5C3867C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B5BD1-AD9B-487F-9673-3DBEDB5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9E08-4865-4C49-AD6E-6C8D333C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37FBE-F471-4B69-BBDD-E179644E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6337-67F7-48C4-9C78-0F0574A6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63F8-74FF-48B0-890E-02094251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D467-B218-4C39-BBDA-D6A5CD66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DDBE-E2E0-4C3E-A588-3B2E4501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F8AF-C985-4904-A938-5EDBC9C8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43F-9F5B-4EF8-B9D3-D21A0A3D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E072-5EE8-4536-9343-722DF5B7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9628-045C-40CF-889A-E91F2778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D2BF-BEDF-41F5-9D1F-A6C55F3B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AABC8-A270-48B2-8C1E-3E1B3BC1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B2CEE-388A-4AAA-A3B7-2EA135B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3C34C-086B-4E49-916B-5D92C7A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56B73-2C15-4ECD-BFA0-FCCA168E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A68DA-2D5C-446F-842D-EFEF20BE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3738-ECFC-4D0D-AB28-E88AEA3D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FE706-FEAE-4CF0-B53A-C5341FE6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CC7-BBE7-4339-8991-2F69E32C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5997-BE52-453E-8997-505A344D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229-95CE-4948-B474-A177C2A8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924-1BBC-446B-BEB7-56F5593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8B9-32B9-43E6-8F8D-869315FE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8F8E-AD2D-4FAC-A0E1-56F1CA969EF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0F63-EDC4-40AD-AAB5-2911B2C39E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512-7EA6-48E7-8FD7-E6FA23CB09DE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38BC-26AE-46E9-AC9C-7AB712347E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D25-01E4-4DEA-BB41-4282BC32646A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2E8-F12F-488D-A320-652C5E9CF5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8046-F78D-4FED-A8BF-6FD3B845BDA1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6871-840F-4279-8C7C-6F57E98DD0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A378-F124-45D3-B7BD-787D5E63D85F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0BA-8808-4A42-9DAD-6490B56920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4" descr="funny-pictur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 rot="18202200">
            <a:off x="1159920" y="893520"/>
            <a:ext cx="3008160" cy="932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Franklin Gothic Book"/>
              </a:rPr>
              <a:t>Topic</a:t>
            </a:r>
            <a:r>
              <a:rPr b="0" lang="en-US" sz="6500" spc="-1" strike="noStrike">
                <a:solidFill>
                  <a:srgbClr val="644646"/>
                </a:solidFill>
                <a:latin typeface="Franklin Gothic Book"/>
              </a:rPr>
              <a:t> </a:t>
            </a:r>
            <a:endParaRPr b="0" lang="en-US" sz="6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206600">
            <a:off x="5562000" y="281916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nse of hearing 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2174760"/>
            <a:ext cx="39639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ochlea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mammals the long coiled sensory structure of the inner ear that contain receptor for sound is the cochle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ructure provide more surface area for receptor cells &amp; allow mammals greater sensitivity to pitch &amp; volume Then is present in other animals.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4343400" y="144792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80" name="Content Placeholder 3" descr="49_08HumanEarStructure_L.jpg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55308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cess of hearing can be summarized as follows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r molecules under pressure vibrate the tympanic membra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ibration move the Malleus to the other side of the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handle of the Malleus strike the incus, vibrating i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4" name="Content Placeholder 8" descr="Ear.jpg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Perpetua"/>
              </a:rPr>
              <a:t>5.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The vibrating incus moves the stapes back &amp; forth against the oval window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6.  The movement of the oval window set up pressure changes that vibrate the fluid  in the inner ear. These vibrations are transmitted to the basilar membrane, causing it to ripp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7. Receptor hair cells of the organ of corti that are in contact with the overlying tectorial membrane are bent, causing a generator potential , which leads to an action potential that travel along the vestibulocochlear nerve to the brain for interpretation .    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8" name="Content Placeholder 4" descr="ear3.jpg"/>
          <p:cNvPicPr/>
          <p:nvPr/>
        </p:nvPicPr>
        <p:blipFill>
          <a:blip r:embed="rId1"/>
          <a:stretch/>
        </p:blipFill>
        <p:spPr>
          <a:xfrm>
            <a:off x="4952880" y="1295280"/>
            <a:ext cx="373392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ocess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8. vibration in the cochlear      fluid dissipate  as a result of  movement of the round window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2" name="Content Placeholder 6" descr="humanear_anatomy[1].jpg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3434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Sajida Batool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M.sc(III)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epartment of Biological science KIU </a:t>
            </a:r>
            <a:r>
              <a:rPr b="0" lang="en-US" sz="66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Importance of hearing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aring may initially have been important to vertebrate as a mechanism to alert them to dangerous activiti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also important in search for food and mates and in communication.  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Content Placeholder 7" descr="ear.jpg"/>
          <p:cNvPicPr/>
          <p:nvPr/>
        </p:nvPicPr>
        <p:blipFill>
          <a:blip r:embed="rId1"/>
          <a:stretch/>
        </p:blipFill>
        <p:spPr>
          <a:xfrm>
            <a:off x="4933800" y="1484280"/>
            <a:ext cx="3749760" cy="44989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t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ang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umans are not able to hear low pitched sounds,  below 20 cycles per second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Young children can hear high pitched sounds up to 20,000 cycles per second, but this ability decrease with ag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8" name="Content Placeholder 5" descr="400_F_24214164_WCC0rwnsJWT1hHkaubzmf0Zny0StA5qX.jpg"/>
          <p:cNvPicPr/>
          <p:nvPr/>
        </p:nvPicPr>
        <p:blipFill>
          <a:blip r:embed="rId1"/>
          <a:stretch/>
        </p:blipFill>
        <p:spPr>
          <a:xfrm>
            <a:off x="4495680" y="914400"/>
            <a:ext cx="4267440" cy="5211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human ear has three division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middle Ear (eardrum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inner E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Content Placeholder 4" descr="14304-004-6C1B7EB1[1].gif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4876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out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uter ear consist of th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ricle and external auditory can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ound waves enter the outer ear and create pressure waves that reached the tympanic membrane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7" name="Content Placeholder 14" descr="the_ear.jpg"/>
          <p:cNvPicPr/>
          <p:nvPr/>
        </p:nvPicPr>
        <p:blipFill>
          <a:blip r:embed="rId1"/>
          <a:stretch/>
        </p:blipFill>
        <p:spPr>
          <a:xfrm>
            <a:off x="4267080" y="1676520"/>
            <a:ext cx="4419720" cy="4190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middle ear begin at the tympanic membrane and ends inside the skul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ere two small membranous opening, the oval and round windows , are locat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ree small ossicles are  between the tympanic membrane &amp; the oval window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2" name="Content Placeholder 6" descr="Ear.jpg"/>
          <p:cNvPicPr/>
          <p:nvPr/>
        </p:nvPicPr>
        <p:blipFill>
          <a:blip r:embed="rId1"/>
          <a:stretch/>
        </p:blipFill>
        <p:spPr>
          <a:xfrm>
            <a:off x="4645080" y="1523880"/>
            <a:ext cx="4041720" cy="495324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middle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2133720"/>
            <a:ext cx="39639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y include th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alleus; (hammer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cus; (anvil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tapes;(stirru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o name for their shape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alleus adheres to the tympanic membrane &amp; connect to the incu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incus connects to the stapes, which adheres to the oval window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Content Placeholder 9" descr="ear.gif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9625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ructure of human Ea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Franklin Gothic Book"/>
              </a:rPr>
              <a:t>The inner Ear;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3372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inner ear has three componen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vestibule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micircular cana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chlea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first two, The vestibule &amp; semicircular canals, are concerned with equilibrium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movement of the fluid in the semicircular canal may cause motion sickness or seasickness in human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2" name="Content Placeholder 5" descr="Ear.jpg"/>
          <p:cNvPicPr/>
          <p:nvPr/>
        </p:nvPicPr>
        <p:blipFill>
          <a:blip r:embed="rId1"/>
          <a:stretch/>
        </p:blipFill>
        <p:spPr>
          <a:xfrm>
            <a:off x="5091120" y="1676520"/>
            <a:ext cx="359568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17:33Z</dcterms:created>
  <dc:creator>User 1</dc:creator>
  <dc:description/>
  <dc:language>en-US</dc:language>
  <cp:lastModifiedBy>LEGION2</cp:lastModifiedBy>
  <dcterms:modified xsi:type="dcterms:W3CDTF">2016-01-14T10:21:37Z</dcterms:modified>
  <cp:revision>44</cp:revision>
  <dc:subject/>
  <dc:title>Importance of hearing</dc:title>
</cp:coreProperties>
</file>