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F6CC-3360-485C-8D78-CD4703F317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are offered to people aged 65 or over (Note: Currently this group has some immunity and are not being targe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are offered to people aged 65 or over (Note: Currently this group has some immunity and are not being targe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DEBD-5478-48BF-A7DE-8C4AC443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720-FE96-421F-96F8-B5418D36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E62-A602-4724-A5B2-43355364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FD3E-16C6-4C1E-8E03-72AF32CA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27F-94BF-45C0-9AFF-E23ACFDB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31A1-5CB1-4C3B-A0D3-E3C1112D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7310-58EC-42AB-B128-BB94299C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1874-FEFF-4113-A0B0-001667D3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B987-C2AD-472C-9A86-82DA4966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CA85-B1A3-4A47-94D1-235C979A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3D6-416B-4EE4-8A04-D57CBE68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691-DD0B-4C6B-A700-1458FB60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E7B0-800D-4455-A9C5-3844E0AB2B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lifecyc"/>
          <p:cNvPicPr/>
          <p:nvPr/>
        </p:nvPicPr>
        <p:blipFill>
          <a:blip r:embed="rId1"/>
          <a:stretch/>
        </p:blipFill>
        <p:spPr>
          <a:xfrm>
            <a:off x="1692360" y="1484280"/>
            <a:ext cx="5715000" cy="51721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A cartoon.  A man wearing a hat which is labeled “The Public” holds a handkerchief.  He says “Use the Handkerchief and Do Your Bit to Protect Me!”  A young boy listens.  At the bottom of the image, a caption reads “Colds, Influenza, Pneumonia and Tuberculosis are spread this way.”"/>
          <p:cNvPicPr/>
          <p:nvPr/>
        </p:nvPicPr>
        <p:blipFill>
          <a:blip r:embed="rId1"/>
          <a:stretch/>
        </p:blipFill>
        <p:spPr>
          <a:xfrm>
            <a:off x="4896000" y="1557360"/>
            <a:ext cx="3808440" cy="4464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es are offered to people aged 65 or over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 Currently this group has some immunity and are not being target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en and women stand and sit in front of the Clarendon Store wearing masks. "/>
          <p:cNvPicPr/>
          <p:nvPr/>
        </p:nvPicPr>
        <p:blipFill>
          <a:blip r:embed="rId1"/>
          <a:stretch/>
        </p:blipFill>
        <p:spPr>
          <a:xfrm>
            <a:off x="4716360" y="2133720"/>
            <a:ext cx="3743280" cy="28558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influenza-virus-82101"/>
          <p:cNvPicPr/>
          <p:nvPr/>
        </p:nvPicPr>
        <p:blipFill>
          <a:blip r:embed="rId1"/>
          <a:stretch/>
        </p:blipFill>
        <p:spPr>
          <a:xfrm>
            <a:off x="4643280" y="2206800"/>
            <a:ext cx="4032360" cy="2990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8:34:50Z</dcterms:created>
  <dc:creator>idavies</dc:creator>
  <dc:description/>
  <dc:language>en-US</dc:language>
  <cp:lastModifiedBy>LEGION2</cp:lastModifiedBy>
  <dcterms:modified xsi:type="dcterms:W3CDTF">2016-01-14T10:15:57Z</dcterms:modified>
  <cp:revision>8</cp:revision>
  <dc:subject/>
  <dc:title>Influenza</dc:title>
</cp:coreProperties>
</file>