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A6BA-6676-4E9A-8328-291089BAB4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221-0C0B-4E84-A2AC-F17760B8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AEE-0E99-4B26-A02E-51E1D908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D98-329E-4D5F-991F-BCDE1517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AEC-0073-4145-B60F-44B823A3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7B8-E5FD-4D20-B493-0AF3BA34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32E7-3A76-44FF-AEDA-EE30F1C2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B714-A141-4109-8113-9FB16BEF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762-65CB-4196-8D42-F796E755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B1B-4CA5-413A-8F53-28B9E33B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53E-F74E-48E2-8AD0-F54BC571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3E7-0BA9-42E4-A830-729675B4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AC1-7241-4D87-B429-7346D95B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A28B-0B89-4C67-9A86-2EA07385CD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ifecyc"/>
          <p:cNvPicPr/>
          <p:nvPr/>
        </p:nvPicPr>
        <p:blipFill>
          <a:blip r:embed="rId1"/>
          <a:stretch/>
        </p:blipFill>
        <p:spPr>
          <a:xfrm>
            <a:off x="1692360" y="1484280"/>
            <a:ext cx="5715000" cy="5172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 cartoon.  A man wearing a hat which is labeled “The Public” holds a handkerchief.  He says “Use the Handkerchief and Do Your Bit to Protect Me!”  A young boy listens.  At the bottom of the image, a caption reads “Colds, Influenza, Pneumonia and Tuberculosis are spread this way.”"/>
          <p:cNvPicPr/>
          <p:nvPr/>
        </p:nvPicPr>
        <p:blipFill>
          <a:blip r:embed="rId1"/>
          <a:stretch/>
        </p:blipFill>
        <p:spPr>
          <a:xfrm>
            <a:off x="4896000" y="1557360"/>
            <a:ext cx="3808440" cy="4464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s are offered to people aged 65 or over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 Currently this group has some immunity and are not being targe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en and women stand and sit in front of the Clarendon Store wearing masks. "/>
          <p:cNvPicPr/>
          <p:nvPr/>
        </p:nvPicPr>
        <p:blipFill>
          <a:blip r:embed="rId1"/>
          <a:stretch/>
        </p:blipFill>
        <p:spPr>
          <a:xfrm>
            <a:off x="4716360" y="2133720"/>
            <a:ext cx="3743280" cy="28558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influenza-virus-82101"/>
          <p:cNvPicPr/>
          <p:nvPr/>
        </p:nvPicPr>
        <p:blipFill>
          <a:blip r:embed="rId1"/>
          <a:stretch/>
        </p:blipFill>
        <p:spPr>
          <a:xfrm>
            <a:off x="4643280" y="2206800"/>
            <a:ext cx="4032360" cy="2990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8:34:50Z</dcterms:created>
  <dc:creator>idavies</dc:creator>
  <dc:description/>
  <dc:language>en-US</dc:language>
  <cp:lastModifiedBy>LEGION2</cp:lastModifiedBy>
  <dcterms:modified xsi:type="dcterms:W3CDTF">2016-01-14T10:15:57Z</dcterms:modified>
  <cp:revision>8</cp:revision>
  <dc:subject/>
  <dc:title>Influenza</dc:title>
</cp:coreProperties>
</file>