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7A24-6B01-4985-B89D-020D2CC572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1CD-2006-43F0-B108-F1AC4E43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C221-92A5-4D12-A856-26AB952F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4A4-AA43-4448-85BB-A2A8810E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2D2-F7D6-4FBA-A6A9-92BD6594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2C5-84CD-4381-8A75-C4DCDAF2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1C0-B82A-4D74-BE1E-E4167CBA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D53-B39D-4F41-9262-F257A58D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6F5-C472-4AA4-BFBF-B175C9AA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5A0-5FDD-4B90-A269-C04145F4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936-EEC9-4A09-B3E4-63B41C9B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0C2-C103-4A45-BFC0-DCAFF892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E3A-90E9-44DE-AD14-03A867A9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7ED0-336A-4B76-846A-6A8ADAB128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ifecyc"/>
          <p:cNvPicPr/>
          <p:nvPr/>
        </p:nvPicPr>
        <p:blipFill>
          <a:blip r:embed="rId1"/>
          <a:stretch/>
        </p:blipFill>
        <p:spPr>
          <a:xfrm>
            <a:off x="1692360" y="1484280"/>
            <a:ext cx="5715000" cy="5172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 cartoon.  A man wearing a hat which is labeled “The Public” holds a handkerchief.  He says “Use the Handkerchief and Do Your Bit to Protect Me!”  A young boy listens.  At the bottom of the image, a caption reads “Colds, Influenza, Pneumonia and Tuberculosis are spread this way.”"/>
          <p:cNvPicPr/>
          <p:nvPr/>
        </p:nvPicPr>
        <p:blipFill>
          <a:blip r:embed="rId1"/>
          <a:stretch/>
        </p:blipFill>
        <p:spPr>
          <a:xfrm>
            <a:off x="4896000" y="1557360"/>
            <a:ext cx="3808440" cy="4464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s are offered to people aged 65 or over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Currently this group has some immunity and are not being targe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en and women stand and sit in front of the Clarendon Store wearing masks. "/>
          <p:cNvPicPr/>
          <p:nvPr/>
        </p:nvPicPr>
        <p:blipFill>
          <a:blip r:embed="rId1"/>
          <a:stretch/>
        </p:blipFill>
        <p:spPr>
          <a:xfrm>
            <a:off x="4716360" y="2133720"/>
            <a:ext cx="3743280" cy="28558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influenza-virus-82101"/>
          <p:cNvPicPr/>
          <p:nvPr/>
        </p:nvPicPr>
        <p:blipFill>
          <a:blip r:embed="rId1"/>
          <a:stretch/>
        </p:blipFill>
        <p:spPr>
          <a:xfrm>
            <a:off x="4643280" y="2206800"/>
            <a:ext cx="4032360" cy="2990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8:34:50Z</dcterms:created>
  <dc:creator>idavies</dc:creator>
  <dc:description/>
  <dc:language>en-US</dc:language>
  <cp:lastModifiedBy>LEGION2</cp:lastModifiedBy>
  <dcterms:modified xsi:type="dcterms:W3CDTF">2016-01-14T10:15:57Z</dcterms:modified>
  <cp:revision>8</cp:revision>
  <dc:subject/>
  <dc:title>Influenza</dc:title>
</cp:coreProperties>
</file>