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3B26-0435-42AF-AA7C-1627EE8EB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HIV spread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dily Flu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men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aginal secre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reast milk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HIV spread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ly Fl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ginal secre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 intercour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ral sex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al sex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inter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l se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l s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lood to Blood Contac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haring needles or syring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ttooing - Pierc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ccidental needle stick in a medical set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o Blood Co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ing needles or syri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ttooing - Pierc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idental needle stick in a medical 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idental Cas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 to baby during pregnancy and deliver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ther’s milk to bab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uring Dental Procedur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idental C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 to baby during pregnancy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her’s milk to ba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Dental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following body fluids are NOT infectiou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aliv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ar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we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ec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rin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llowing body fluids are NOT infecti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true signs of having HIV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ne may experience flu – like symptoms of chills, fever, night sweats, rashes, etc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ome will have no signs or symptom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true signs of having HIV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ill have no signs or sympto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HIV Work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gets into the bloodstrea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targets white blood cells (T4 cells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 slowly destroys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rces T4 cells to make copies of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ventually the cell di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ves on to other T4 cell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n be up to 10 years before person shows sig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IV Wor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gets into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targets white blood cells (T4 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lowly destroys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T4 cells to make copies of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the cell 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on to other T4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p to 10 years before person shows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hases of HIV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n with no signs or symptoms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– does not mean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– T4 cells are less than 200 cells per microliter of blood or serious conditions from long-term, damage to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Opportunistic Infection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of HIV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n with no signs or sympto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– does not mean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ic Infec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esting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LISA – blood test that identifies whether a person has antibodies for 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stern Blot Test – done to confirm the results of the Elisa test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cubation Window – it can take 6 wks to 6 mths for anti. to form after exposure to HIV. This test should be done at least 6 wks after a person is or thinks they are infecte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ISA – blood test that identifies whether a person has antibodies for 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ern Blot Test – done to confirm the results of the Elisa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ectious Diseases - A disease caused by an agent that can pass from one living thing to anoth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mmunicable disease – an infectious disease that is passed from one person to another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cable disease – an infectious disease that is passed from one person to anothe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 – Acquired: a condition one must acquire or get infected with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e: it affects the body’s immune system, the part of the body which usually works to fight off germs such as bacteria and viruse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 – Deficiency: makes it not work properly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 – Syndrome: a group of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– Acquired: a condition one must acquire or get infected wi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– Deficiency: makes it not work proper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– Syndrome: a group of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igns and symptoms of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re are no common signs or symptoms for A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ople may experience opportunistic infections – when the immune system is weakened and can attack the body.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EX.- pneumon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s and symptoms of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no common signs or symptoms for A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- pneu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DS is not spread by: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asual contact – dry mouth kissing, hugging, being sneezed on or coughed 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quito bit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S is not sprea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 contact – dry mouth kissing, hugging, being sneezed on or coughed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quito b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bstinence -  100%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ave Safe Sex - Practice Monogamy –  (when two people have intercourse with only each other for their entire lives)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use dirty needl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este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tinence -  10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afe Sex - Practice Monogamy –  (when two people have intercourse with only each other for their entire liv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dirty nee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e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Now that we have covered HIV and AIDS, 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the difference in them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re they the same thing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y do these two things always get linked together?</a:t>
            </a: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s one more dangerous then the other?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 we have covered HIV and AID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difference in them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y the same thing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se two things always get linked together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e more dangerous then the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acts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is an STD?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exually Transmitted Disease - is serious, sometimes painful, and can cause a lot of serious damage.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STD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ly Transmitted Disease - is serious, sometimes painful, and can cause a lot of serious damag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is STD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D is spread during close, sexual activity.  It is spread during vaginal, anal and oral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 and Hepatitis are also spread by contact with infected bloo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STD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and Hepatitis are also spread by contact with infec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ost STD germs need to live in warm, moist areas.  That’s why they infect the mouth, rectum and sex orga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do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ou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on’t hope the STD will go away.  It won’t!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hope the STD will go away.  It won’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causes Inf.Di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acteria - a type of microorganism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rep throat, food poisoning, urinary tract infection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iruses – a type of agent that can cause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ld, flu, cold sores, measles, mon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uses Inf.D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- a type of microorganism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p throat, food poisoning, urinary tract inf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 – a type of agent that can cause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, flu, cold sores, measles, m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n unusual discharge or smell from your vagin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in your pelvic area – the area   between your belly button and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or itching around your vagina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n unusual discharge or smell from your vag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in your pelvic area – the area   between your belly button and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or itching around your va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leeding from your vagina that is not your regular period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Pain deep inside your vagina when you have sex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leeding from your vagina that is not your regular peri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Pain deep inside your vagina when you have se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hat to watch for </a:t>
            </a:r>
            <a:br>
              <a:rPr sz="1200"/>
            </a:b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a drip or discharge from the penis, sores, bumps, or redness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watch fo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 drip or discharge from the penis, sores, bumps, or red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oth 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Sores, bumps or blisters near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burning and pain when you urinate or have a bowel movemen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Need to urinate oft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Sores, bumps or blisters near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burning and pain when you urinate or have a bowel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eed to urinate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 ……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Itching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a swelling or redness in your throat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 Flu-like feelings with fever, chills and ache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Itching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a swelling or redness in your thr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 Flu-like feelings with fever, chills and a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inued…..men and wome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* swelling in your groin, the area around your sex org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…..men and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welling in your groin, the area around your sex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to 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alk to your partn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Look closely at your partner – signs of ST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Use a latex cond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checked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your part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closely at your partner – signs of ST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latex co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check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rotect yourself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Know the signs and sympto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Get treated - don’t have sex until your treatment is complete. Your partner needs to be treated too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the signs and symp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reated - don’t have sex until your treatment is complete. Your partner needs to be treated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ow are they spread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i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ontact with contaminated object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Person to pers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imals that spread disease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Food and water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re they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with contaminate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 to p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s that spread disea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Defens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ki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Chemical warfare on germs (sweat and oils produce acids that kill bacterial)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Mucus membranes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Stomach acid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elpful microorganism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nflammati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fens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emical warfare on germs (sweat and oils produce acids that kill bacter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ucus membra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mach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lpful micro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mm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Weapo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T-cells – cells that regulate the action of the immune syste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odies – substances that stick to the surface of pathogens slowing their action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B-cells – cells in the immune system that produce antibodies against infection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ap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-cells – cells that regulate the action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-cells – cells in the immune system that produce antibodies against inf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mmunization – injection of a small amount of a pathogen that will provide protection against an infectious disease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Antibiotics – drugs that kill or limit the growth of bacteria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drugs that kill or limit the growth of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              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IV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H – Human: virus can only infect humans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I – Immuno-deficiency: the effect of the virus is to create a deficiency, a failure to work properly with the body’s immune system.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ff"/>
                </a:solidFill>
                <a:uFillTx/>
                <a:latin typeface="Times New Roman"/>
              </a:rPr>
              <a:t>V – Virus: one of its characteristics is that it is incapable reproducing by itself.  It reproduces by taking over the machinery of the human cell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– Human: virus can only infect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– Immuno-deficiency: the effect of the virus is to create a deficiency, a failure to work properly with the body’s immune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 – Virus: one of its characteristics is that it is incapable reproducing by itself.  It reproduces by taking over the machinery of the human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565E-BDF3-44AE-A8B5-CAB8A252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E9F-97EE-4A72-B481-FBE07385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EA1-93B7-4AA5-882A-A8DBBDD15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2D4-603C-4C6A-9566-64733375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4D7D-E137-40FD-ADBC-3AAF6AD6A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77EE7-6331-4545-A46E-875F6C12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66CD-A3F7-4DA2-9FAD-7F9722542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AC52-F736-41F9-86E4-FCAD002F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D1ED-866B-4145-BEA7-6A5DFBE7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C1A6-8C48-42AE-A49D-51EA8168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A564-3F7D-4E92-ACBA-72275A28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3672-1B3F-416D-B75E-220A2DDE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DAAB-61BB-47FD-BC63-DD87DE01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3C85F-68BB-4875-A47B-22F6F262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EFFD7-7AE7-48D8-8B3F-424FA528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F674-1970-4032-A6A7-B69312BB8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7D889-0FD5-4522-B74C-638BA69E4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5938-E24B-4B55-A398-50D64F21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1CC2-C80D-48EC-8009-2EEE36D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2B8C-5D63-4464-AE09-7DD123A6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586-C2C2-402F-8D7C-E83C31C7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B847-7D58-495F-AB93-4A7A86E0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D72-F537-4145-B9B7-2C55A630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8E5D-C380-484D-8A85-8B80ADB3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C55E-CE9E-4B82-8C98-C5F20DAA79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 u="sng">
                  <a:solidFill>
                    <a:srgbClr val="ffffff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C005F-4948-4BC3-925B-D07E26E39E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is HIV spread</a:t>
            </a:r>
            <a:br>
              <a:rPr sz="6600"/>
            </a:b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dily Flu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lood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men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Vaginal secretion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1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Breast milk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Sexual Contac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exual intercours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Oral sex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nal sex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Bloo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o Blood Contac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haring needles or syring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ttooing - Pierc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Accidental needle stick in a medical sett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Incidental Cas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 to baby during pregnancy and delive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ther’s milk to bab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uring Dental Procedur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following body fluids ar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NOT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fectio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aliv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ea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wea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ec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Signs and symptoms HIV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re are no true signs of having HIV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ne may experience flu – like symptoms of chills, fever, night sweats, rashes, etc.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ome will have no signs or symptom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How HIV Work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gets into the bloodstre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targets white blood cells (T4 cell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Virus slowly destroys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ces T4 cells to make copies of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ventually the cell di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ves on to other T4 cel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 be up to 10 years before person shows sig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hases of HIV infectio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ection with no signs or symptom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– does not mean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gns and symptom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IDS – T4 cells are less than 200 cells per microliter of blood or serious conditions from long-term, damage to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pportunistic Infect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est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LISA – blood test that identifies whether a person has antibodies for H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estern Blot Test – done to confirm the results of the Elisa tes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ubation Window – it can take 6 wks to 6 mths for anti. to form after exposure to HIV. This test should be done at least 6 wks after a person is or thinks they are infect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AIDS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533520"/>
            <a:ext cx="8229600" cy="60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fectious Diseases - A disease caused by an agent that can pass from one living thing to anoth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ble disease – an infectious disease that is passed from one person to anothe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– Acquired: a condition one must acquire or get infected wi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 – Immune: it affects the body’s immune system, the part of the body which usually works to fight off germs such as bacteria and virus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 – Deficiency: makes it not work proper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 – Syndrome: a group of sympto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igns and symptoms of AID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re are no common signs or symptoms for A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eople may experience opportunistic infections – when the immune system is weakened and can attack the body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.- pneumonia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IDS is not spread by: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sual contact – dry mouth kissing, hugging, being sneezed on or coughed on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squito bit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ff"/>
                </a:solidFill>
                <a:uFillTx/>
                <a:latin typeface="Arial"/>
              </a:rPr>
              <a:t>Abstinence -  100%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ve Safe Sex - Practice Monogamy –  (when two people have intercourse with only each other for their entire liv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n’t use dirty need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t teste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Now that we have covered HIV and AIDS, 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at is the difference in them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Are they the same thing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Why do these two things always get linked together?</a:t>
            </a:r>
            <a:br>
              <a:rPr sz="5200"/>
            </a:br>
            <a:r>
              <a:rPr b="0" lang="en-US" sz="5200" spc="-1" strike="noStrike">
                <a:solidFill>
                  <a:srgbClr val="ffffff"/>
                </a:solidFill>
                <a:latin typeface="Arial"/>
              </a:rPr>
              <a:t>Is one more dangerous then the other?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STD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800" spc="-1" strike="noStrike">
                <a:solidFill>
                  <a:srgbClr val="ffffff"/>
                </a:solidFill>
                <a:latin typeface="Arial"/>
              </a:rPr>
              <a:t>Facts</a:t>
            </a:r>
            <a:br>
              <a:rPr sz="4000"/>
            </a:b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xual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mitted Dise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is an STD?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Sexually Transmitted Disease - is serious, sometimes painful, and can cause a lot of serious damage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is STD Spread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D is spread during close, sexual activity.  It is spread during vaginal, anal and oral sex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V and Hepatitis are also spread by contact with infected bloo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61760" y="685800"/>
            <a:ext cx="7848360" cy="53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ost STD germs need to live in warm, moist areas.  That’s why they infect the mouth, rectum and sex organ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What to do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Get checked ou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Don’t hope the STD will go away.  It won’t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auses Inf.Di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ria - a type of microorganism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trep throat, food poisoning, urinary tract infec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ruses – a type of agent that can cause disea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ld, flu, cold sores, measles, mon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om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 unusual discharge or smell from your vagin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ain in your pelvic area – the area   between your belly button and sex orga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urning or itching around your vagin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leeding from your vagina that is not your regular period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* Pain deep inside your vagina when you have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sex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What to watch fo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a drip or discharge from the penis, sores, bumps, or redness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Both men and wom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Sores, bumps or blisters near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burning and pain when you urinate or have a bowel move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Need to urinate oft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 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Itching around your sex orga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a swelling or redness in your thro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  Flu-like feelings with fever, chills and ach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inued…..men and w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* swelling in your groin, the area around your sex orga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 to protect yourself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alk to your partn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ok closely at your partner – signs of ST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Use a latex cond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t checked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otect yourself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Know the signs and symptom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Get treated -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on’t have sex until your treatment is complete. Your partner needs to be treated too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are they sp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ct with contaminated objec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rson to pers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imals that spread diseas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ood and wat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fenses against infe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ki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emical warfare on germs (sweat and oils produce acids that kill bacterial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cus membran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tomach acid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elpful micro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flamma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immune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ap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-cells – cells that regulate the action of the immune 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bodies – substances that stick to the surface of pathogens slowing their actio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-cells – cells in the immune system that produce antibodies against infe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3520" y="533520"/>
            <a:ext cx="7696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mmunization – injection of a small amount of a pathogen that will provide protection against an infectious disease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tibiotics – drugs that kill or limit the growth of bacteria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     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9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1700" spc="-1" strike="noStrike">
                <a:solidFill>
                  <a:srgbClr val="ffffff"/>
                </a:solidFill>
                <a:latin typeface="Arial"/>
              </a:rPr>
              <a:t>HIV</a:t>
            </a:r>
            <a:endParaRPr b="0" lang="en-US" sz="1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Human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virus can only infect huma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Immuno-deficiency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the effect of the virus is to create a deficiency, a failure to work properly with the body’s immune system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Viru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: one of its characteristics is that it is incapable reproducing by itself.  It reproduces by taking over the machinery of the human cel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1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1T16:42:26Z</dcterms:created>
  <dc:creator>workshop</dc:creator>
  <dc:description/>
  <dc:language>en-US</dc:language>
  <cp:lastModifiedBy>LEGION2</cp:lastModifiedBy>
  <dcterms:modified xsi:type="dcterms:W3CDTF">2016-01-14T10:13:31Z</dcterms:modified>
  <cp:revision>37</cp:revision>
  <dc:subject/>
  <dc:title>STD Facts</dc:title>
</cp:coreProperties>
</file>