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C430-916F-46F2-97D0-C5A3FCB9B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HIV spread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dily Flu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men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ginal secre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reast milk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ly Fl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ginal secre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intercour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ral sex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al sex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inter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l s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to Blood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haring needles or syring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ttooing - Pierc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ccidental needle stick in a medical set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o Blood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needles or sy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ing - Pie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idental needle stick in a medical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idental Cas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 to baby during pregnancy and deliver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’s milk to bab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uring Dental Procedur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al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to baby during pregnancy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’s milk to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Dent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following body fluids are NOT infectiou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aliv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ar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we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ec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rin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body fluids are NOT infect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true signs of having HIV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ne may experience flu – like symptoms of chills, fever, night sweats, rashes, etc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me will have no signs or symptom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true signs of having H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ll have no signs o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HIV Work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gets into the bloodstrea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targets white blood cells (T4 cells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 slowly destroys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rces T4 cells to make copies of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ventually the cell di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ves on to other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n be up to 10 years before person shows sig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IV 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gets into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targets white blood cells (T4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lowly destroys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T4 cells to make copie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e cell 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on to other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p to 10 years before person shows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hases of HIV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n with no signs or symptoms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– does not mean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– T4 cells are less than 200 cells per microliter of blood or serious conditions from long-term, damage to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pportunistic Infection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n with no signs or sympto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– does not mean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ic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s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LISA – blood test that identifies whether a person has antibodies for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stern Blot Test – done to confirm the results of the Elisa test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ubation Window – it can take 6 wks to 6 mths for anti. to form after exposure to HIV. This test should be done at least 6 wks after a person is or thinks they are infecte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 – blood test that identifies whether a person has antibodies for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Blot Test – done to confirm the results of the Elisa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 - A disease caused by an agent that can pass from one living thing to anoth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mmunicable disease – an infectious disease that is passed from one person to another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ble disease – an infectious disease that is passed from one person to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 – Acquired: a condition one must acquire or get infected with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e: it affects the body’s immune system, the part of the body which usually works to fight off germs such as bacteria and viruse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 – Deficiency: makes it not work properl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 – Syndrome: a group of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Acquired: a condition one must acquire or get infected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– Deficiency: makes it not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– Syndrome: a group of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of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common signs or symptoms for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ople may experience opportunistic infections – when the immune system is weakened and can attack the body.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X.- pneumon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common signs or symptoms for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-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is not spread by: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sual contact – dry mouth kissing, hugging, being sneezed on or coughed 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quito bit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is not sprea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 contact – dry mouth kissing, hugging, being sneezed on or cough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bstinence -  100%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ave Safe Sex - Practice Monogamy –  (when two people have intercourse with only each other for their entire lives)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use dirty needl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este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-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afe Sex - Practice Monogamy –  (when two people have intercourse with only each other for their entire liv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dirty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Now that we have covered HIV and AIDS, 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ference in them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re they the same thing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y do these two things always get linked together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s one more dangerous then the other?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covered HIV and AI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in them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y the same thing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se two things always get linked together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more dangerous then the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acts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an STD?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 - is serious, sometimes painful, and can cause a lot of serious damage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STD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 - is serious, sometimes painful, and can cause a lot of serious dam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STD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 is spread during close, sexual activity.  It is spread during vaginal, anal and oral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and Hepatitis are also spread by contact with infected bloo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T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and Hepatitis are also spread by contact with infec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t STD germs need to live in warm, moist areas.  That’s why they infect the mouth, rectum and sex orga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do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ou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hope the STD will go away.  It won’t!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hope the STD will go away.  It won’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causes Inf.Di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cteria - a type of microorganism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rep throat, food poisoning, urinary tract infectio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es – a type of agent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ld, flu, cold sores, measles, mon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Inf.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- a type of microorganism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p throat, food poisoning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– a type of agent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, flu, cold sores, measles, m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n unusual discharge or smell from your vagin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in your pelvic area – the area   between your belly button and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or itching around your vagin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 unusual discharge or smell from your vag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in your pelvic area – the area   between your belly button and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or itching around your v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leeding from your vagina that is not your regular perio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deep inside your vagina when you have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leeding from your vagina that is not your regular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deep inside your vagina when you have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 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 drip or discharge from the penis, sores, bumps, or rednes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drip or discharge from the penis, sores, bumps, or red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th 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Sores, bumps or blisters near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and pain when you urinate or have a bowel movemen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Need to urinate oft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ores, bumps or blisters near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and pain when you urinate or have a bowel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ed to urinat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 ……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Itching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a swelling or redness in your thro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Flu-like feelings with fever, chills and ach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Itching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a swelling or redness in your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Flu-like feelings with fever, chills and 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…..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swelling in your groin, the area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..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welling in your groin, the area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lk to your partn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Look closely at your partner – signs of ST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se a latex cond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your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your partner – signs of S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latex co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Know the signs and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reated - don’t have sex until your treatment is complete. Your partner needs to be treated to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e 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reated - don’t have sex until your treatment is complete. Your partner needs to be treated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are they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act with contaminated object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rson to pers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imals that spread disease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od and wat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with contaminate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spread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efens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arfare on germs (sweat and oils produce acids that kill bacterial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ucus membrane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omach ac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elpful microorganis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lamma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warfare on germs (sweat and oils produce acids that kill bac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membra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ful micro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m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ap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-cells – cells that regulate the action of 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odies – substances that stick to the surface of pathogens slowing their acti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-cells – cells in the immune system that produce antibodi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cells – cells that regulate the action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cells – cells in the immune system that produce antibodi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mmunization – injection of a small amount of a pathogen that will provide protection against an infectious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iotics – drugs that kill or limit the growth of bacter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drugs that kill or limit the growth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 – Human: virus can only infect hum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o-deficiency: the effect of the virus is to create a deficiency, a failure to work properly with the body’s immune system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 – Virus: one of its characteristics is that it is incapable reproducing by itself.  It reproduces by taking over the machinery of the human cell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Human: virus can only infect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o-deficiency: the effect of the virus is to create a deficiency, a failure to work properly with the body’s immun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– Virus: one of its characteristics is that it is incapable reproducing by itself.  It reproduces by taking over the machinery of the huma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40E-99BB-4E2E-9612-FFB9867B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74C-7A95-4B91-949D-13CEA780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1E3-B1DB-4262-90E4-0D572B62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588-B011-4F73-BF21-B01282A3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70BE-B7C9-4813-AAF7-C07F8A7B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F0C5-9FFA-4324-B7FA-E83D0EA6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8B71-01A8-48E9-AF5D-51633F3F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9AF5-6D7A-4B37-B3B6-52C14442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429E-7073-47DA-93E1-680B256D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044D-1E43-47EC-A231-10F0E9F6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34D0-6C74-4355-B9DF-4AD8034F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BA9-A2DB-4911-8DAA-9D96EABC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2DA9-C69E-43CD-98F9-B1A5609C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C272-256B-41DD-93D9-04AD596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48A1-5AD2-4BFA-91C3-C29A5560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B6EF-6313-4B74-A1F8-B824EA92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989A-0815-4CB1-8673-A7835155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AAF-FD0F-458B-8C2A-A81AFCBE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E12-2042-4079-A17F-DA1DD105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944-5FDC-4921-A006-12FE8F4C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678-9DCB-4AD2-BF8D-4495986C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1BF-B96B-47C4-88BE-16435F5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B61-EB80-4E26-83BB-C3DAAD4A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556-A23C-4700-9084-61953EDD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6999-5470-4327-80A3-413784A9F2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9C0F-8EBA-482F-AC12-F066F2F20B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is HIV spread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dily Flu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me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ginal secre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exual Contac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xual intercour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al sex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al se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lood Cont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aring needles or syring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ttooing - Pierc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cidental needle stick in a medical set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cidental C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 to baby during pregnancy and delive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’s milk to bab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Dental 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ollowing body fluids ar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ecti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liv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igns and symptoms H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no true signs of having HIV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will have no signs or sympto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HIV Work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gets into the blood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targets white blood cells (T4 cel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us slowly destroys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ces T4 cells to make copies of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ually the cell 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ves on to other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be up to 10 years before person shows sig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ases of HIV inf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ection with no signs or symptom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– does not mean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ns and sympto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portunistic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SA – blood test that identifies whether a person has antibodies for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lot Test – done to confirm the results of the Elisa te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AID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ble disease – an infectious disease that is passed from one person to anoth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– Acquired: a condition one must acquire or get infected wi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 – Deficiency: makes it not work proper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– Syndrome: a group of symp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and symptoms of A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no common signs or symptoms for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.- pneumon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IDS is not spread by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sual contact – dry mouth kissing, hugging, being sneezed on or coughed 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squito bi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Abstinence -  10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Safe Sex - Practice Monogamy –  (when two people have intercourse with only each other for their entire l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use dirty need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 tes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Now that we have covered HIV and AIDS, 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at is the difference in them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Are they the same thing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y do these two things always get linked together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Is one more dangerous then the other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TD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acts</a:t>
            </a: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tted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an STD?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xually Transmitted Disease - is serious, sometimes painful, and can cause a lot of serious damage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STD Sp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and Hepatitis are also spread by contact with infected bl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8483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hat to d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checked 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on’t hope the STD will go away.  It won’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Inf.D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 - a type of microorganism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p throat, food poisoning, urinary tract inf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ruses – a type of agent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, flu, cold sores, measles, mo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unusual discharge or smell from your va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in your pelvic area – the area   between your belly button and sex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ning or itching around your vag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leeding from your vagina that is not your regular perio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Pain deep inside your vagina when you ha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e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a drip or discharge from the penis, sores, bumps, or redne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th men and w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Sores, bumps or blisters near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burning and pain when you urinate or have a bowel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Need to urinate of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Itching around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a swelling or redness in your thr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Flu-like feelings with fever, chills and 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…..men and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swelling in your groin, the area around your sex orga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lk to your part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ok closely at your partner – signs of ST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a latex con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t check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tect yourse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now the signs and sympto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t treated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have sex until your treatment is complete. Your partner needs to be treated to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y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with contaminated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to per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that spread disea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enses against inf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warfare on germs (sweat and oils produce acids that kill bacteri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cus membra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mach ac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lpful micro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am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cells – cells that regulate the action of the immune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-cells – cells in the immune system that produce antibodies against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biotics – drugs that kill or limit the growth of bacter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uma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virus can only infect huma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mmuno-deficiency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the effect of the virus is to create a deficiency, a failure to work properly with the body’s immune system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iru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one of its characteristics is that it is incapable reproducing by itself.  It reproduces by taking over the machinery of the human cel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6:42:26Z</dcterms:created>
  <dc:creator>workshop</dc:creator>
  <dc:description/>
  <dc:language>en-US</dc:language>
  <cp:lastModifiedBy>LEGION2</cp:lastModifiedBy>
  <dcterms:modified xsi:type="dcterms:W3CDTF">2016-01-14T10:13:31Z</dcterms:modified>
  <cp:revision>37</cp:revision>
  <dc:subject/>
  <dc:title>STD Facts</dc:title>
</cp:coreProperties>
</file>