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4D09-28B6-432C-BA74-E62A02F196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8CE-C5FF-47A9-80A4-128A5420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E511-103F-4F8E-977C-629F4A79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A5E-D1A1-4B3B-9121-6178E332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110B-036A-4492-BA83-9D1EC272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7B45-73B4-49AD-A626-FA2B596F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4641-FEE0-4ED8-8F94-49B02D38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F1E6-492A-42B5-81D1-31063788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A7B8-6D5C-46E9-A45C-06CB3B9D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305C-3BB1-42C3-B00B-A06B7A63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B95F-FD5A-49F0-AFBB-CEB239DB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A3C1-BF23-4FE0-AE95-DF666447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0EAE-3CEE-4DBA-A1DA-33B65783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B73B-4B15-443D-BEB9-EEF5C031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5DEB-591D-4670-8244-59974C6F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5CD3-5135-4974-80DF-DA4744B0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B4E6-7BE0-4300-AE5C-1897C42A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90FF-BE18-4DD2-8B3F-B372D8F3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5C4-C25E-4F5D-90E8-A51CDEB6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FE7-4F1A-4BE2-BCD5-076A41C1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46EE-3EEC-428B-A301-29E4FD6B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488-B0D5-42D2-BDEE-2D6FF351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C3F-C555-48BC-B77D-FF33AC2E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7F8E-1E4A-4027-AA89-C838320E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2477-19E9-43C3-A63D-D53BE1DC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56F7-32D6-43AC-852B-3770D60354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47F5-A27F-4F99-AAB8-4ABE32C79B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45720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HIV Note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249800" y="0"/>
            <a:ext cx="4894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962520" y="56386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does HIV look like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itial infectio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lu like symptoms a few weeks after inf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1-HIV positive with no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stay at this stage for up to 10 years, but still can pass on the vir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2-HIV positive with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is point the person is said to hav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I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Symptoms inclu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ath and AI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ge III-Full blown AIDS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of rar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opportunistic infe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take advantage the weakened immune syst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609480" y="13716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def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rcRect l="1200" t="1664" r="1200" b="4323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523880" y="152280"/>
            <a:ext cx="6375600" cy="40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s of HIV Inf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V 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HIV_sta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IDS</a:t>
            </a:r>
            <a:br>
              <a:rPr sz="40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quir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yndrom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mmune crippling disease caused by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 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which the body becomes unable to protect itself against any secondary inf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-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uma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od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V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V infects the immune system cell called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elper T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-most important white blood cell involved in identifying infections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685800" y="17524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ody Fluids with High Concentrations of HIV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01-01_microorganisms_1"/>
          <p:cNvPicPr/>
          <p:nvPr/>
        </p:nvPicPr>
        <p:blipFill>
          <a:blip r:embed="rId1"/>
          <a:srcRect l="68232" t="47288" r="1795" b="13729"/>
          <a:stretch/>
        </p:blipFill>
        <p:spPr>
          <a:xfrm>
            <a:off x="3962520" y="2895480"/>
            <a:ext cx="4876560" cy="37353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ow concentrations of HI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762120" y="14479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not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685800" y="12952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n HIV be cure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rugs are available to manage the disease, but HIV stays in the body forev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L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RNA viruses mutate at a very high rate.  A person with HIV under control can evolve resistance to the drug trea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5720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3:18:47Z</dcterms:created>
  <dc:creator>Allen Berard</dc:creator>
  <dc:description>HIV retrovirus disease</dc:description>
  <cp:keywords>HIV retrovirus disease</cp:keywords>
  <dc:language>en-US</dc:language>
  <cp:lastModifiedBy>LEGION2</cp:lastModifiedBy>
  <dcterms:modified xsi:type="dcterms:W3CDTF">2016-01-14T10:08:40Z</dcterms:modified>
  <cp:revision>13</cp:revision>
  <dc:subject>HIV retrovirus disease</dc:subject>
  <dc:title>HIV retrovirus disease</dc:title>
</cp:coreProperties>
</file>