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E6D1-4EF9-402C-8A0C-AC2DBA22C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8E4-5989-47CD-96A8-3CA16135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93D-93BC-4963-8AFB-2B71AFDE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692-8DA3-44AE-AA9E-EEC79A84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C45-EB91-4B1C-8BDB-3609537B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692C-D8C8-42AF-8070-7595B13C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DC36-C946-4FDF-9AC5-60A84BF7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2375-840F-4267-9F5A-91EBDAD9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624E-A881-4B91-87A1-5AE07FF4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F65A-560D-43A4-921B-F0F52383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73BF-B5D9-4CDD-934E-B0F47FEA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A17B-C5C2-4CB0-8D9D-C70A9AA1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DFD-17A8-4B0A-8A71-2D1F0030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CF4E-3002-45F5-8511-8FEB2595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D6F5-4D7B-474F-A8D3-0201A7E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64A7-010A-49CF-B6B9-6D470D51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D1A3-DD03-40C9-8BAA-769C36A5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697A-D85F-46E6-96E9-0681F4DF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B296A-6A7E-439D-86FD-56455D2F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B360-B719-4830-BCB2-DF4BEAE5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7382-4433-4087-800A-685BBCD0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260C8-0758-429A-9F9E-4A7257BE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551F-1D81-46D7-8499-CC7E7EA0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E2A-E8FD-4DFB-8A2D-03F5CD3F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82FDF-65D6-4C69-B8C8-6526B176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E96A-F74D-4B22-AFB9-9B86D34B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94E4-B7DD-4163-9693-1BBBCCC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8484-4970-4328-A328-E71F9E18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9AE9C-3767-4424-9533-D8DA6B53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C44B-D468-465E-85D9-7062A13C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B793-7215-4E6D-A807-14BB4428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ADE4B-67F2-4CBB-82C6-26D39EE3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3E63-AC73-494A-8994-CD0C5F65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C0433-5C51-4D7D-855F-AC4319D9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2A2-FCD3-4707-8F86-35E72E44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9673-E521-44E1-AEB3-0E21F898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FE7E2-09CA-4C92-A34C-8A45C7B8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D7B0C-6857-42E6-88E5-A7883EB9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BB888-5BC1-4CC4-88EC-BD0982A9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97DFD-2884-437D-A001-FC09061F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AA2E4-6E6F-462C-8A06-D93730D1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23EC9-3607-4C8F-9732-11A65212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665CD-5A1F-46E2-B674-D8768B26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3255-C1EC-4C9C-B7DF-FD7E7647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1EA-0932-4868-A2F1-B45D95A6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ADA-A5CC-4719-B95D-D5C49645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1D3-F0B8-4D32-BC48-D08497D4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685-283E-480A-AA6F-F35660B0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C9F-8E16-4B20-B4B3-FED0DCB3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61B7-85B8-4045-A925-26C551A8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9726-4961-4059-9E17-40C1380ACB8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2725-083E-491C-81D5-86699A46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0476-281A-4077-9A9B-218F69C7CC4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ametes…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s Develop in the 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rm is produced in the male scro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wo Types of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371600" y="2362320"/>
            <a:ext cx="2133720" cy="7617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5791320" y="2362320"/>
            <a:ext cx="2133360" cy="6858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048120" y="3124080"/>
            <a:ext cx="9144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7467480" y="2971800"/>
            <a:ext cx="838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781680" y="33526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51460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895480" y="4648320"/>
            <a:ext cx="198144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934320" y="4648320"/>
            <a:ext cx="198108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34160" y="48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6171840" y="54864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2057400" y="541008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5780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838080" y="5791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609480" y="57913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5486400" y="2971440"/>
            <a:ext cx="5335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762120" y="3047760"/>
            <a:ext cx="83808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5105520" y="32767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111"/>
                </a:solidFill>
                <a:latin typeface="Arial"/>
              </a:rPr>
              <a:t>Inhibits (stops) further release of the original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80880" y="32004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motes or encourages more of the original substance to b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imary Hormones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f Sexu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e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o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67080" y="1600200"/>
          <a:ext cx="410076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41007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Fe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uberty, triggers lengthening of long bones, and changes in pelv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puberty stimulates the growth of axillary, pubic, facial and ches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Larynx (deepening v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s Skin and Increases Oi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s Growth and Density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Muscles in Size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s the Basal Metabolic Rate and Influences Behavior (Sex Dr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izes” the Brain (Promotes Aggress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Hormo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 (Estro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reproductive cycles w/Progester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Skin and feminize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fetal growth and phys. changes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 (Test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growth of facial &amp; chest hair &amp; growth  of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mass and density of muscles &amp;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s BMR, &amp; Masculinize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ffects common to both sex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ex Hormones…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Maturation and Growth of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growth of Pubic and Axillar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6:56Z</dcterms:created>
  <dc:creator>John Bojnowski</dc:creator>
  <dc:description/>
  <dc:language>en-US</dc:language>
  <cp:lastModifiedBy>LEGION2</cp:lastModifiedBy>
  <dcterms:modified xsi:type="dcterms:W3CDTF">2016-01-14T10:06:26Z</dcterms:modified>
  <cp:revision>6</cp:revision>
  <dc:subject/>
  <dc:title>Gametes… of the sexes</dc:title>
</cp:coreProperties>
</file>