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1434-2C05-4068-AFA3-D49B1886A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CC7-2677-42DF-AA9C-A1E89CE3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1C3-C1E2-4A2C-B3CF-E4278697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DC9-4A55-4E61-A67C-D9669D33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6B0-F0CD-4EB5-A1DD-72854B69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50C7-4160-4680-8BCE-0345C350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0082-7AAF-4A9B-B7B0-181A29B6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18DF-6166-4C50-A094-79A5AA87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D194-8701-48EC-A6B7-3E85D8E1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650E-23F4-4D91-9F77-D16C0789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17A3-6E63-4816-BEB0-5A32FD90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45D8-70A6-41A3-B9B0-D170525D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E7C-B47E-498C-8381-A76605CC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BAA9-C700-4B70-B569-BA70DA99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D5FB-1ACF-4DD3-9E3E-6D7B44EC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73CC-DCEE-49EC-901D-F2EAF211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A646-2C52-4CF7-9981-72686BAE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3DCF-0AEC-4C01-B328-7C8548E0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190C2-F894-4BDF-9783-1FD60A28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C6652-1D47-4F4A-8104-9995C437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FE8E7-CBD6-402A-9C63-1A3F2EF4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8E32A-B1DD-45BB-BCB1-63090A51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FA65E-28A0-48BA-B8C3-2DE9DFDC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F7F-AA23-4B64-8137-2E2DF58C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5723A-9A1E-40C6-AE2E-8F8075DA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A0D6-DC79-415F-9C20-F89A6EF4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C19CD-1351-4C9D-AC34-6D073183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24DDC-75E9-407E-9537-CE4A17DD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C4060-75EA-4F8E-B087-EC187CFD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6C62B-C431-4396-BD66-626EF988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54904-406C-4C91-A1E6-28CF1326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1DD56-B2B1-4F99-81E2-7FA1D7A9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5FAE1-2D3D-45B0-A64B-5AB59428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E4B24-51D9-46A4-8C1F-7D42660E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240-F388-4086-BE53-7A7A05AF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E0630-9579-4A48-AA0A-CC353CC2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46346-A0B6-48C7-BFAD-DD972DD8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23BDF-F2B5-4506-A8DA-7D00C227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48B75-0E0E-43A3-BF26-1BB6CF59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A4E41-F03D-40E0-98E4-355BB5DB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1E08E-94B8-4B88-A339-9BF127F3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D9CB5-CB9D-4F05-8FF6-F23D96F3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F9A6F-5822-4630-86D0-AF3FB811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7ECD5-B21D-4A5D-A55F-CD97CBA3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D94-888D-4A51-B996-CCCBE82D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A33-2FEC-47D9-9064-C5F95D04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3B0-4F2D-48F7-8002-5D23783A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7C5-718B-4C58-98BE-2803922E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2B3-EE64-496D-88F1-9CD76387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9E10-3D96-40FA-BA74-4EDEFC9E3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FEA0-41AE-4F75-95BE-EEAE70E7F3A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370C-DDAC-44A0-9D05-46B9C0DC1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5234-4F7C-4608-8056-1D2607208E7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Gametes… of the s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gs Develop in the Ov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rm is produced in the male scro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wo Types of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1371600" y="2362320"/>
            <a:ext cx="2133720" cy="7617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5791320" y="2362320"/>
            <a:ext cx="2133360" cy="6858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3048120" y="3124080"/>
            <a:ext cx="91440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7467480" y="2971800"/>
            <a:ext cx="83844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781680" y="33526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514600" y="3429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895480" y="4648320"/>
            <a:ext cx="198144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934320" y="4648320"/>
            <a:ext cx="198108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734160" y="484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6171840" y="548640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 flipH="1">
            <a:off x="2057400" y="5410080"/>
            <a:ext cx="8380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257800" y="5867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838080" y="5791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609480" y="57913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 flipV="1">
            <a:off x="5486400" y="2971440"/>
            <a:ext cx="533520" cy="297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 flipV="1">
            <a:off x="762120" y="3047760"/>
            <a:ext cx="83808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5105520" y="327672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111"/>
                </a:solidFill>
                <a:latin typeface="Arial"/>
              </a:rPr>
              <a:t>Inhibits (stops) further release of the original sub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80880" y="320040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motes or encourages more of the original substance to be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ree Primary Hormones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f Sexu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e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sto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267080" y="1600200"/>
          <a:ext cx="4100760" cy="366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00200"/>
                    <a:ext cx="41007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Fe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uberty, triggers lengthening of long bones, and changes in pelv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puberty stimulates the growth of axillary, pubic, facial and chest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argement of Larynx (deepening vo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ens Skin and Increases Oi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s Growth and Density of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Muscles in Size and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sts the Basal Metabolic Rate and Influences Behavior (Sex Dr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culinizes” the Brain (Promotes Aggress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mmary of Hormon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 (Estrog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s reproductive cycles w/Progester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istens Skin and feminize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fetal growth and phys. changes during pregna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 (Testoster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growth of facial &amp; chest hair &amp; growth  of 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mass and density of muscles &amp; b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sts BMR, &amp; Masculinizes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ffects common to both sexe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ex Hormones…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Maturation and Growth of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growth of Pubic and Axillary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8:56:56Z</dcterms:created>
  <dc:creator>John Bojnowski</dc:creator>
  <dc:description/>
  <dc:language>en-US</dc:language>
  <cp:lastModifiedBy>LEGION2</cp:lastModifiedBy>
  <dcterms:modified xsi:type="dcterms:W3CDTF">2016-01-14T10:06:26Z</dcterms:modified>
  <cp:revision>6</cp:revision>
  <dc:subject/>
  <dc:title>Gametes… of the sexes</dc:title>
</cp:coreProperties>
</file>