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D5C4-9E70-46D1-9646-E80E57466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… of the se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s Develop in the Ov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gametes an individual will ever produce are already present at birth and are stored as undeveloped foll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is produced in the male scro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gametes arise from undifferentiated stem cells that continually divide and regenerate over the male’s life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tes… of the se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s Develop in the Ov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gametes an individual will ever produce are already present at birth and are stored as undeveloped foll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is produced in the male scrot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gametes arise from undifferentiated stem cells that continually divide and regenerate over the male’s life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ypes of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or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or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ubstance to act on a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ubstance to act on a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econdary substance which acts on the gland or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econdary substance which acts on the gland or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ibits (stops) further release of the original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or encourages more of the original substance to be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ypes of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or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 or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ubstance to act on a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ubstance to act on a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Ac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econdary substance which acts on the gland or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eases a secondary substance which acts on the gland or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hibits (stops) further release of the original sub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or encourages more of the original substance to be rel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Primary Hormon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Primary Hormon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exual Develop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’s Effects on Female Sexu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with Progesterone through “Feedback Loops” to establish regular reproductive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and Maturation of Female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Puberty, triggers lengthening of long bones, and changes in pelv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’s Effects on Female Sexu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 with Progesterone through “Feedback Loops” to establish regular reproductive cy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and Maturation of Female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Puberty, triggers lengthening of long bones, and changes in pelvic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’s effects on Female Sexual Development (cont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s: the appearance of Axillary and Pubic hair, Hydration of the Skin and Female patterns of fat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pregnancy Estrogen also plays a major role (with Progesterone) in Embryonic Development and physical adaptations needed to accommodate Pregnancy and Child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’s effects on Female Sexual Development (cont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s: the appearance of Axillary and Pubic hair, Hydration of the Skin and Female patterns of fat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pregnancy Estrogen also plays a major role (with Progesterone) in Embryonic Development and physical adaptations needed to accommodate Pregnancy and Child Bi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’s Effects on Male Sexu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and Maturation of Male Sex Organs, Must be held at Adequate levels to maintain functioning of Male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puberty stimulates the growth of axillary, pubic, facial and chest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largement of Larynx (deepening vo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’s Effects on Male Sexual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and Maturation of Male Sex Organs, Must be held at Adequate levels to maintain functioning of Male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puberty stimulates the growth of axillary, pubic, facial and chest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largement of Larynx (deepening voi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’s Effects on Male Sexual Development (cont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ens Skin and Increases Oi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s Growth and Density of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Muscles in Size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sts the Basal Metabolic Rate and Influences Behavior (Sex Dr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culinizes” the Brain (Promotes Aggressivene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osterone’s Effects on Male Sexual Development (cont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ens Skin and Increases Oil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s Growth and Density of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Muscles in Size an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sts the Basal Metabolic Rate and Influences Behavior (Sex Dri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culinizes” the Brain (Promotes Aggressivene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Hormonal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s (Estroge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s reproductive cycles w/Progester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istens Skin and feminize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fetal growth and phys. changes during pregna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s (Testoster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growth of facial &amp; chest hair &amp; growth  of 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s mass and density of muscles &amp;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sts BMR, &amp; Masculinizes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y of Hormonal Eff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males (Estroge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stablishes reproductive cycles w/Progester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istens Skin and feminize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motes fetal growth and phys. changes during pregna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les (Testostero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motes growth of facial &amp; chest hair &amp; growth  of pharyn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reases mass and density of muscles &amp;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osts BMR, &amp; Masculinizes B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common to both sex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Hormones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Maturation and Growth of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Elongation of the long bones and eventually trigger the termination of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 the growth of Pubic and Axillary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common to both sex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 Hormones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Maturation and Growth of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 Elongation of the long bones and eventually trigger the termination of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 the growth of Pubic and Axillary Hai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BD07-9263-4EEE-8CE6-A61CD79A8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64EB-768F-4851-8209-68BCD90E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3550-3A06-4EB1-BE5D-3D7825D1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5403-6548-4C5C-ACF2-CD70EC0F4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4865-9663-4F6E-8721-6B22DE9BD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B647-FC5D-4172-8723-B54B3AEE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FDCB-BD98-4178-ADD5-657ED904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E0EE5-8B3B-4617-8BF7-D366208C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8AFB-FE56-40F4-B46B-9C2CEB27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18550-5F61-4199-9C7B-7D4AF8D7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B62E-3828-404D-A1D0-4C8DB1C5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657A-6CAA-40C9-BD94-260B7413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06BF-0D4F-4E78-8886-EDC6A1A8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B1D5-920E-470C-A949-28F59272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581B-31F6-49C2-9833-B430FB21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7BA6-6A24-4613-925E-883B1532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91F7-229A-4055-A99E-CCEDE3E1C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D3EB9-E704-419A-9D54-C818187EE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69BAF-A2B5-407E-95E1-F3909BDE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EF3B2-9953-4D2B-9E45-35D4B035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5C96B-D741-4EFB-AC82-3D10DCB6B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741A6-F71C-4F04-A9D9-FE0919D7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22DB-D889-4AE0-9F61-54DFAC62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23DB7-A756-4E9A-A445-D75601E9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7A668-624A-4DE9-95F5-D33AEEA4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7B3D6-67A5-4CCD-86DC-7E7E14FA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0B767-57F7-49B8-8F75-6890626B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CA94C-FC12-49B3-884A-67F3D8B2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18C3A-D632-485E-AA90-858D3A3F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625A3-D174-4B63-BA71-55AC53D8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0D447-390A-4882-A39B-143AD14DD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12868-1AFD-4A42-8EE1-26ED1468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0A8A2-7D7E-49BC-A34A-6FA749588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B56A-CCE9-4001-863E-951170E4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64815-CD2C-49CF-9384-8CBD2DA3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AF4F0-D43F-4D8F-B81C-1F4C90FF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BB6EB-6606-45DD-B2A0-061AC237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59F10-39E7-4319-883E-5ACF6D7E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F75CF-351A-49A6-B9D9-F17FF765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5CB38-6CCD-4885-AFA2-67ECA6B3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B62F8-F4A2-40D5-BE04-E2925596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0FA26-033E-4EBA-B082-66E93E3E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6C386-FBB7-46A1-B425-49F526107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C810-261F-4B70-A6F0-4A702E04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450B-086E-4812-A153-12C63091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2562-EE3C-4D4B-94C0-841B1A753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93BF-7526-4D8B-B842-E56DFCF1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7A96-EBEA-4B9E-8206-61E1DF48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AB7E-6E45-4A80-821A-7EDDF8E76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6EA1-907E-41AA-B682-BB8F3E7F6AB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0E98-CA4A-4534-915D-5211AF457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A324-ACF7-4302-B890-0703AD9BFF8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d6fc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Gametes… of the sex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e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gs Develop in the Ov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the gametes an individual will ever produce are already present at birth and are stored as undeveloped foll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rm is produced in the male scro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e gametes arise from undifferentiated stem cells that continually divide and regenerate over the male’s life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1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wo Types of 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ative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5"/>
          <p:cNvSpPr/>
          <p:nvPr/>
        </p:nvSpPr>
        <p:spPr>
          <a:xfrm>
            <a:off x="1371600" y="2362320"/>
            <a:ext cx="2133720" cy="76176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 or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5791320" y="2362320"/>
            <a:ext cx="2133360" cy="685800"/>
          </a:xfrm>
          <a:prstGeom prst="ellipse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gan or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"/>
          <p:cNvSpPr/>
          <p:nvPr/>
        </p:nvSpPr>
        <p:spPr>
          <a:xfrm>
            <a:off x="3048120" y="3124080"/>
            <a:ext cx="914400" cy="1524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7467480" y="2971800"/>
            <a:ext cx="83844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6781680" y="33526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s a substance to act on a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2514600" y="34290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s a substance to act on a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2895480" y="4648320"/>
            <a:ext cx="1981440" cy="7617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tem A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6934320" y="4648320"/>
            <a:ext cx="1981080" cy="761760"/>
          </a:xfrm>
          <a:prstGeom prst="rect">
            <a:avLst/>
          </a:prstGeom>
          <a:solidFill>
            <a:srgbClr val="00646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stem A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6734160" y="4848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4"/>
          <p:cNvSpPr/>
          <p:nvPr/>
        </p:nvSpPr>
        <p:spPr>
          <a:xfrm flipH="1">
            <a:off x="6171840" y="548640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5"/>
          <p:cNvSpPr/>
          <p:nvPr/>
        </p:nvSpPr>
        <p:spPr>
          <a:xfrm flipH="1">
            <a:off x="2057400" y="5410080"/>
            <a:ext cx="8380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5257800" y="586728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s a secondary substance which acts on the gland or 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838080" y="5791320"/>
            <a:ext cx="266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609480" y="5791320"/>
            <a:ext cx="259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eases a secondary substance which acts on the gland or 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9"/>
          <p:cNvSpPr/>
          <p:nvPr/>
        </p:nvSpPr>
        <p:spPr>
          <a:xfrm flipV="1">
            <a:off x="5486400" y="2971440"/>
            <a:ext cx="533520" cy="297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0"/>
          <p:cNvSpPr/>
          <p:nvPr/>
        </p:nvSpPr>
        <p:spPr>
          <a:xfrm flipV="1">
            <a:off x="762120" y="3047760"/>
            <a:ext cx="838080" cy="2819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5105520" y="3276720"/>
            <a:ext cx="129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1111"/>
                </a:solidFill>
                <a:latin typeface="Arial"/>
              </a:rPr>
              <a:t>Inhibits (stops) further release of the original sub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80880" y="3200400"/>
            <a:ext cx="167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omotes or encourages more of the original substance to be rele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ree Primary Hormones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f Sexual Developm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stro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gester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stoster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4267080" y="1600200"/>
          <a:ext cx="4100760" cy="366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600200"/>
                    <a:ext cx="410076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8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8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800" fill="hold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trogen’s Effects on Female Sexual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s with Progesterone through “Feedback Loops” to establish regular reproductive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th and Maturation of Female Sex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Puberty, triggers lengthening of long bones, and changes in pelvic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strogen’s effects on Female Sexual Development (cont…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mulates: the appearance of Axillary and Pubic hair, Hydration of the Skin and Female patterns of fat depos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pregnancy Estrogen also plays a major role (with Progesterone) in Embryonic Development and physical adaptations needed to accommodate Pregnancy and Child Bi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estosterone’s Effects on Male Sexual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wth and Maturation of Male Sex Organs, Must be held at Adequate levels to maintain functioning of Male Sex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puberty stimulates the growth of axillary, pubic, facial and chest 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largement of Larynx (deepening voi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estosterone’s Effects on Male Sexual Development (cont…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ckens Skin and Increases Oil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hances Growth and Density of B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reases Muscles in Size and M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osts the Basal Metabolic Rate and Influences Behavior (Sex Dr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sculinizes” the Brain (Promotes Aggressiven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d6fc7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ummary of Hormonal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emales (Estrog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ablishes reproductive cycles w/Progester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istens Skin and feminizes sh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otes fetal growth and phys. changes during pregna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ales (Testostero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otes growth of facial &amp; chest hair &amp; growth  of phary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s mass and density of muscles &amp; b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osts BMR, &amp; Masculinizes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75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Effects common to both sexes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Sex Hormones…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Maturation and Growth of Sex Org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Elongation of the long bones and eventually trigger the termination of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mulate the growth of Pubic and Axillary H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18:56:56Z</dcterms:created>
  <dc:creator>John Bojnowski</dc:creator>
  <dc:description/>
  <dc:language>en-US</dc:language>
  <cp:lastModifiedBy>LEGION2</cp:lastModifiedBy>
  <dcterms:modified xsi:type="dcterms:W3CDTF">2016-01-14T10:06:26Z</dcterms:modified>
  <cp:revision>6</cp:revision>
  <dc:subject/>
  <dc:title>Gametes… of the sexes</dc:title>
</cp:coreProperties>
</file>