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D8EF-F08B-41B6-9002-4DFEAB1A8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… of the s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Develop in the O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is produced in the male scro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… of the s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Develop in the O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is produced in the male scro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s (stops) further release of the original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or encourages more of the original substance to b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s (stops) further release of the original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or encourages more of the original substance to b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Primary Hormon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Primary Hormon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Fe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uberty, triggers lengthening of long bones, and changes in pelv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Fe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uberty, triggers lengthening of long bones, and changes in pelv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puberty stimulates the growth of axillary, pubic, facial and chest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argement of Larynx (deepening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puberty stimulates the growth of axillary, pubic, facial and chest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argement of Larynx (deepening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ens Skin and Increases Oi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s Growth and Density of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uscles in Size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the Basal Metabolic Rate and Influences Behavior (Sex Dr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ulinizes” the Brain (Promotes Aggressiven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ens Skin and Increases Oi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s Growth and Density of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uscles in Size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the Basal Metabolic Rate and Influences Behavior (Sex Dr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ulinizes” the Brain (Promotes Aggressiven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Hormona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 (Estrog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s reproductive cycles w/Progeste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istens Skin and feminiz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fetal growth and phys. changes during pregna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 (Testoster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growth of facial &amp; chest hair &amp; growth  of 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ass and density of muscles &amp;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BMR, &amp; Masculinize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 of Hormona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males (Estrog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ablishes reproductive cycles w/Progeste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ens Skin and feminiz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motes fetal growth and phys. changes during pregna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s (Testoster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motes growth of facial &amp; chest hair &amp; growth  of 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mass and density of muscles &amp;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osts BMR, &amp; Masculinize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common to both sex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Hormones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Maturation and Growth of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growth of Pubic and Axillary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common to both sex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Hormones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Maturation and Growth of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growth of Pubic and Axillary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A50-D4F6-4AAD-8C7B-AFCFD084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7277-30EC-40CC-8531-F1BACC9D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998-E240-486C-819C-55A7308A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195-3A5C-4404-9425-80660F90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77FC-042A-423D-A1C0-3CFF1221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924A-1538-4253-8EC6-66E1C066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6F0A-9B97-4A91-A440-73DEA098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3A47-1567-48BC-8E70-74E08D34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2158-F580-43A7-86E7-9525ABB1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BFC1-E351-4805-A28E-B8DE8718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6AE2-6B9F-406C-A712-102F5C32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5706-840A-45B6-9052-8BD538C5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DE98-05DD-473C-854B-C4B60794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C3BA-0EDD-4596-ABCF-1CE59A49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8A00-113F-4212-8D80-96A7CAA3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3391-CDFA-4612-BC23-EE92FCA5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D181-E0C9-400C-96E3-CF5E7B95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58833-6293-4A55-B221-72C287C0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1AAA-C604-472C-998C-A7BAA5A8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E455C-196F-4059-B591-EE74C0A2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8ECB3-B56C-4605-9CB8-0E07C594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7482D-BADC-4521-B9A3-C0223B21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8F2A-A8E5-48E5-A763-19FE2DA7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A5280-B7A0-4B8E-A8EF-E65D5B3B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C1D5E-3194-467B-860C-6AF52A22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BEC66-CEDB-4653-8485-AB575808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C9194-DAFE-4A6F-BF30-CA16D37F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D204F-4678-41F9-9DE5-D80912D6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765BC-3DBC-470C-8F9C-7F2E5D5B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4D13F-039D-423F-8483-86CA42B1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0C330-E22C-40DA-98BA-EED4F4A3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DE98E-ADF1-4B50-A010-10FB9602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C50D4-5EB7-4F89-BA7B-D1E73177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D94-D24A-4912-A317-114C5D41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FB70E-F665-4281-87F0-24AF69B2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7B8B7-CD46-40B1-86D4-31040497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D1082-701B-45B1-A6EF-33E34713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858CA-5D32-452F-93F6-D07CF2A3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9760C-E33B-45DF-8098-7D87DDC6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7E7A5-2162-4318-98D9-844EA9DA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8AD6E-980A-47D6-9C3C-EB6018AD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7B0DD-B027-4535-9E5A-012DE729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BB940-A6CC-4375-B47F-E39F9E6F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D11-0781-4854-87B2-5C9CB070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4E4-6A24-445C-A5C8-15C12966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D8F-EEED-43B5-98E7-FE960CFD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B865-0F68-4762-8436-0C588DB3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B0FF-BED8-4E94-83F3-BE301DC8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DDFA-F785-404E-B461-575FD6A96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906D-024D-48AC-AC11-135CAF7D34D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A9EB-4A6C-492F-AD54-DA6455B97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5212-D429-4661-B4BD-29EAAD19690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d6fc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Gametes… of the s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gs Develop in the Ov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rm is produced in the male scro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wo Types of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1371600" y="2362320"/>
            <a:ext cx="2133720" cy="76176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 or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5791320" y="2362320"/>
            <a:ext cx="2133360" cy="68580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 or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3048120" y="3124080"/>
            <a:ext cx="91440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7467480" y="2971800"/>
            <a:ext cx="83844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781680" y="33526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ubstance to act o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514600" y="3429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ubstance to act o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2895480" y="4648320"/>
            <a:ext cx="1981440" cy="7617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A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934320" y="4648320"/>
            <a:ext cx="1981080" cy="7617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A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734160" y="484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 flipH="1">
            <a:off x="6171840" y="548640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 flipH="1">
            <a:off x="2057400" y="5410080"/>
            <a:ext cx="8380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5257800" y="58672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econdary substance which acts on the gland or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838080" y="5791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609480" y="57913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econdary substance which acts on the gland or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 flipV="1">
            <a:off x="5486400" y="2971440"/>
            <a:ext cx="533520" cy="297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 flipV="1">
            <a:off x="762120" y="3047760"/>
            <a:ext cx="83808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5105520" y="3276720"/>
            <a:ext cx="129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111"/>
                </a:solidFill>
                <a:latin typeface="Arial"/>
              </a:rPr>
              <a:t>Inhibits (stops) further release of the original sub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80880" y="320040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motes or encourages more of the original substance to be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ree Primary Hormones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f Sexu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ester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stoster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267080" y="1600200"/>
          <a:ext cx="4100760" cy="366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00200"/>
                    <a:ext cx="41007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8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trogen’s Effects on Female Sexua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and Maturation of Female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Puberty, triggers lengthening of long bones, and changes in pelv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trogen’s effects on Female Sexual Development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stosterone’s Effects on Male Sexua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puberty stimulates the growth of axillary, pubic, facial and chest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largement of Larynx (deepening vo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stosterone’s Effects on Male Sexual Development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ens Skin and Increases Oi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s Growth and Density of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Muscles in Size and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sts the Basal Metabolic Rate and Influences Behavior (Sex Dr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culinizes” the Brain (Promotes Aggressive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d6fc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mmary of Hormon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males (Estrog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es reproductive cycles w/Progester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istens Skin and feminize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s fetal growth and phys. changes during pregna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es (Testoster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s growth of facial &amp; chest hair &amp; growth  of ph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mass and density of muscles &amp; b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sts BMR, &amp; Masculinizes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Effects common to both sexe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ex Hormones…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Maturation and Growth of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 the growth of Pubic and Axillary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8:56:56Z</dcterms:created>
  <dc:creator>John Bojnowski</dc:creator>
  <dc:description/>
  <dc:language>en-US</dc:language>
  <cp:lastModifiedBy>LEGION2</cp:lastModifiedBy>
  <dcterms:modified xsi:type="dcterms:W3CDTF">2016-01-14T10:06:26Z</dcterms:modified>
  <cp:revision>6</cp:revision>
  <dc:subject/>
  <dc:title>Gametes… of the sexes</dc:title>
</cp:coreProperties>
</file>