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BA1A-000B-48BD-96EA-56CFD4A30A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V and A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V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n South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 Africa has an estimated five million people living with HIV - more than any other 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ists say some 600 South Africans die from Aids-related diseases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is predicted to cause a huge rise in the country's death rate over the next two decad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ers say that people who use and abuse alcohol are at both greater risk of contracting Aids, and infecting oth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rvey conducted in Carltonville in South Africa revealed that men who drink are four times more likely to be HIV posit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fe Sex in South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at unsafe sex is so prevalent in South Afric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women in South Africa feel they must have sex when as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 government do to change these statis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prevalence rates in women under 20 have fallen since 1998, suggesting that Aids awareness campaigns are having an imp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– Human Immunodeficiency Viru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– Auto Immune Deficiency Syndrome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he name given to a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affects your immune system (the way your body fights illness and inf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 so that your body can no longer defend itself. This is A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– Human Immunodeficiency Viru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– Auto Immune Deficiency Syndrome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he name given to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affects your immune system (the way your body fights illness and inf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 so that your body can no longer defend itself. This is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enza (flu), Polio, Smallp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are mic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sist of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or RNA (which hold the information about the virus, like your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at (to protect the DNA/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enza (flu), Polio, 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are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sist of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or RNA (which hold the information about the virus, like your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at (to protect the DNA/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is a parasite which cannot reproduce on its ow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eeds another living thing to surv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nfects the cells of your body and ‘hijacks’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sorption &amp; Ent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cells stop doing what they’re supposed to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make copies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plication &amp; Assemb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ruses are released and 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infect oth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lea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is a parasite which cannot reproduce on its ow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eeds another living thing to surv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nfects the cells of your body and ‘hijacks’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sorption &amp; En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cells stop doing what they’re supposed to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make copies of the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plication &amp; Assemb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ruses are released and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l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IDS affect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an illness that is not very serious for you and me can become life threatening to someone with H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do not die from AIDS, they die because their bodies cannot fight off infections from other disease-causing organ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nuemo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367-9E7E-49D6-99F0-48148A3D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6C5-FDFC-493F-B220-75214DD6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259-CC21-4756-96F7-09FE5B98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8F8-3278-44FE-B1DD-8EDA216D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AE6-7CD4-4A2C-9EB6-A73D3670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247-8D15-4493-897B-12E08466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176-F01F-4640-95DB-4C4565DB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E12-5E1E-4388-BD07-979B6EA7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81E-D164-4AF7-806F-DF2A4F50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98F-D35E-4D6D-A0E2-79EFBD5F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F06-287F-4EC9-A65A-698E4C46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245-2C05-4B58-9720-90A82D73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A7AF-81AA-422B-A3DF-E9FA18359E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857680" y="1752480"/>
            <a:ext cx="3429000" cy="3353040"/>
          </a:xfrm>
          <a:prstGeom prst="rect">
            <a:avLst/>
          </a:prstGeom>
          <a:ln w="0">
            <a:noFill/>
          </a:ln>
        </p:spPr>
      </p:pic>
      <p:pic>
        <p:nvPicPr>
          <p:cNvPr id="49" name="Title 1" descr=""/>
          <p:cNvPicPr/>
          <p:nvPr/>
        </p:nvPicPr>
        <p:blipFill>
          <a:blip r:embed="rId2"/>
          <a:stretch/>
        </p:blipFill>
        <p:spPr>
          <a:xfrm>
            <a:off x="689040" y="2359080"/>
            <a:ext cx="7772400" cy="146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V in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uth Africa has an estimated five million people living with HIV - more than any other n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ivists say some 600 South Africans die from Aids-related diseases each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8" descr="aids_by_age"/>
          <p:cNvPicPr/>
          <p:nvPr/>
        </p:nvPicPr>
        <p:blipFill>
          <a:blip r:embed="rId1"/>
          <a:stretch/>
        </p:blipFill>
        <p:spPr>
          <a:xfrm>
            <a:off x="2411280" y="3390840"/>
            <a:ext cx="4430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ids is predicted to cause a huge rise in the country's death rate over the next two decades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0" descr="2"/>
          <p:cNvPicPr/>
          <p:nvPr/>
        </p:nvPicPr>
        <p:blipFill>
          <a:blip r:embed="rId1"/>
          <a:srcRect l="0" t="0" r="0" b="10506"/>
          <a:stretch/>
        </p:blipFill>
        <p:spPr>
          <a:xfrm>
            <a:off x="1763640" y="1509840"/>
            <a:ext cx="5975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searchers say that people who use and abuse alcohol are at both greater risk of contracting Aids, and infecting othe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survey conducted in Carltonville in South Africa revealed that men who drink are four times more likely to be HIV positiv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4"/>
          <p:cNvPicPr/>
          <p:nvPr/>
        </p:nvPicPr>
        <p:blipFill>
          <a:blip r:embed="rId1"/>
          <a:srcRect l="0" t="0" r="0" b="17221"/>
          <a:stretch/>
        </p:blipFill>
        <p:spPr>
          <a:xfrm>
            <a:off x="2195640" y="2467080"/>
            <a:ext cx="53053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safe Sex in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5"/>
          <p:cNvPicPr/>
          <p:nvPr/>
        </p:nvPicPr>
        <p:blipFill>
          <a:blip r:embed="rId1"/>
          <a:srcRect l="0" t="0" r="0" b="9284"/>
          <a:stretch/>
        </p:blipFill>
        <p:spPr>
          <a:xfrm>
            <a:off x="179280" y="1413000"/>
            <a:ext cx="5832720" cy="5290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940360" y="1628640"/>
            <a:ext cx="3203640" cy="71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y do you think that unsafe sex is so prevalent in South Afric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y do you think women in South Africa feel they must have sex when ask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at could the government do to change these statist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IV prevalence rates in women under 20 have fallen since 1998, suggesting that Aids awareness campaigns are having an imp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6"/>
          <p:cNvPicPr/>
          <p:nvPr/>
        </p:nvPicPr>
        <p:blipFill>
          <a:blip r:embed="rId1"/>
          <a:srcRect l="0" t="0" r="0" b="17221"/>
          <a:stretch/>
        </p:blipFill>
        <p:spPr>
          <a:xfrm>
            <a:off x="1332000" y="1197000"/>
            <a:ext cx="669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21528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HIV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H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man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munodeficiency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V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ru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AIDS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to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mune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D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ficiency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yndrome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57120" y="27860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is the name given to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affects your immune system (the way your body fights illness and inf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stops your immune system from working properly so that your body can no longer defend itself. This is A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258920" y="2773440"/>
            <a:ext cx="6572160" cy="2600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668840" y="4799160"/>
            <a:ext cx="314316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42960" y="55087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fluenza (flu), Polio, Smallp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79280" y="1117440"/>
            <a:ext cx="7643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ruses are mic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y consist of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NA or RNA (which hold the information about the virus, like your D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protein coat (to protect the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57120" y="1500120"/>
            <a:ext cx="835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A virus is a parasite which cannot reproduce on its ow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t needs another living thing to surv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t infects the cells of your body and ‘hijacks’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dsorption &amp; Entr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Your cells stop doing what they’re supposed to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nstead make copies of th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eplication &amp; Assembl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The new viruses are released and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on to infect oth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eleas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6227640" y="1081080"/>
            <a:ext cx="2332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es AIDS affect yo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V stops your immune system from working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means an illness that is not very serious for you and me can become life threatening to someone with H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ople do not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di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rom AIDS, they die because their bodies cannot fight off infections from other disease-causing org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nuemo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tubercul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AIDS_Map_Adults1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aids_africa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6:31:29Z</dcterms:created>
  <dc:creator>Philip Robinson</dc:creator>
  <dc:description/>
  <dc:language>en-US</dc:language>
  <cp:lastModifiedBy>RomaK</cp:lastModifiedBy>
  <dcterms:modified xsi:type="dcterms:W3CDTF">2015-09-04T12:21:32Z</dcterms:modified>
  <cp:revision>11</cp:revision>
  <dc:subject/>
  <dc:title>HIV and AIDS</dc:title>
</cp:coreProperties>
</file>