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944E-C8C2-4293-9A17-7EA8A57615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at unsafe sex is so prevalent in South Afr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women in South Africa feel they must have sex when as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 government do to change these statis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do not die from AIDS, they die because their bodies cannot fight off infections from other disease-causing 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566-C3F0-4E2B-8341-566CB40B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D7A-780F-47AF-A16B-DB65816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D90-881D-4C06-86C4-67F69A09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EA9-3EDA-4132-9E7F-5C605F28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D91-D16C-4C3A-8E8A-994B748E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A81-BA0D-457D-8DAB-57D3F75D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9BE-D063-4891-A81D-A4F1E471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4C6-8C3B-42DE-ABE4-67DB2E9E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F6D-20E2-4024-A53C-3E2906C4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A6F-34C7-43DE-9D60-59CE240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AF5-C116-4C3C-BAC1-6DA18572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EEF-967F-41BF-AD30-D2959AB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3BF6-3D5B-486F-9E84-0CBBFECEC7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7680" y="17524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2"/>
          <a:stretch/>
        </p:blipFill>
        <p:spPr>
          <a:xfrm>
            <a:off x="689040" y="235908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aids_by_age"/>
          <p:cNvPicPr/>
          <p:nvPr/>
        </p:nvPicPr>
        <p:blipFill>
          <a:blip r:embed="rId1"/>
          <a:stretch/>
        </p:blipFill>
        <p:spPr>
          <a:xfrm>
            <a:off x="2411280" y="3390840"/>
            <a:ext cx="443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2"/>
          <p:cNvPicPr/>
          <p:nvPr/>
        </p:nvPicPr>
        <p:blipFill>
          <a:blip r:embed="rId1"/>
          <a:srcRect l="0" t="0" r="0" b="10506"/>
          <a:stretch/>
        </p:blipFill>
        <p:spPr>
          <a:xfrm>
            <a:off x="1763640" y="1509840"/>
            <a:ext cx="5975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4"/>
          <p:cNvPicPr/>
          <p:nvPr/>
        </p:nvPicPr>
        <p:blipFill>
          <a:blip r:embed="rId1"/>
          <a:srcRect l="0" t="0" r="0" b="17221"/>
          <a:stretch/>
        </p:blipFill>
        <p:spPr>
          <a:xfrm>
            <a:off x="2195640" y="2467080"/>
            <a:ext cx="53053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5"/>
          <p:cNvPicPr/>
          <p:nvPr/>
        </p:nvPicPr>
        <p:blipFill>
          <a:blip r:embed="rId1"/>
          <a:srcRect l="0" t="0" r="0" b="9284"/>
          <a:stretch/>
        </p:blipFill>
        <p:spPr>
          <a:xfrm>
            <a:off x="179280" y="1413000"/>
            <a:ext cx="5832720" cy="52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940360" y="1628640"/>
            <a:ext cx="320364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that unsafe sex is so prevalent in South Afr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women in South Africa feel they must have sex when ask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at could the government do to change these statist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"/>
          <p:cNvPicPr/>
          <p:nvPr/>
        </p:nvPicPr>
        <p:blipFill>
          <a:blip r:embed="rId1"/>
          <a:srcRect l="0" t="0" r="0" b="17221"/>
          <a:stretch/>
        </p:blipFill>
        <p:spPr>
          <a:xfrm>
            <a:off x="1332000" y="1197000"/>
            <a:ext cx="66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152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I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an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od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ru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ID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to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e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D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ndrome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57120" y="2786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is the name given to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affects your immune system (the way your body fights illness and inf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stops your immune system from working properly so that your body can no longer defend itself. This is A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58920" y="2773440"/>
            <a:ext cx="6572160" cy="260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668840" y="4799160"/>
            <a:ext cx="31431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2960" y="55087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fluenza (flu), Polio,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9280" y="1117440"/>
            <a:ext cx="7643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uses are mic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nsist of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NA or RNA (which hold the information about the virus, like your D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protein coat (to protect the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7120" y="150012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A virus is a parasite which cannot reproduce on its 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needs another living thing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infects the cells of your body and ‘hijacks’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dsorption &amp; Entr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Your cells stop doing what they’re supposed to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nstead make copies of th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plication &amp; Assembl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The new viruses are released and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on to infect oth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lea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227640" y="1081080"/>
            <a:ext cx="2332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do not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om AIDS, they die because their bodies cannot fight off infections from other disease-caus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IDS_Map_Adults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ids_africa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1:29Z</dcterms:created>
  <dc:creator>Philip Robinson</dc:creator>
  <dc:description/>
  <dc:language>en-US</dc:language>
  <cp:lastModifiedBy>RomaK</cp:lastModifiedBy>
  <dcterms:modified xsi:type="dcterms:W3CDTF">2015-09-04T12:21:32Z</dcterms:modified>
  <cp:revision>11</cp:revision>
  <dc:subject/>
  <dc:title>HIV and AIDS</dc:title>
</cp:coreProperties>
</file>