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842E-22DD-44A9-90C9-D2FF10CC0E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025-C696-40FF-8E9A-12B783F9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98B-FB95-4BA8-B797-B1866229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554-9A34-4461-AF6C-D88C41D0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1B1-5D5A-46DF-B4D6-06E32B7E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0FB0-D1CB-468A-AC5C-1EE3E676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04E4-9C22-4ADC-AFB0-463EF435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427E-85D5-4782-AB0E-C1CDC4A9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C4C8-67CF-4CD9-BB6B-CE15B776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99E7-E01B-4935-A40E-4AF1B364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4900-7D65-420F-9992-7B95E292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112F-29B1-4313-900A-37F0A568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005-8C29-4F25-8F84-C7D8273F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548B-1A41-41C5-BC30-57BE15C7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0DF7-5F4E-407C-BA87-26C81E26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EBA3-350D-488F-A5A4-9FFA69DC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6B8C-9634-4832-AE3A-2B25C328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109E-087F-4431-8B8D-CADAEE3F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686-33BF-4D9F-85E1-4B8A2AC2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C09-26C7-4B70-AA36-C9C71088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C60A-DF96-4727-8AA5-9AABA35C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BE5-6DA5-4D7C-9AC4-26FA50D5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621-99FF-4E7A-877E-126BE294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092-91BC-408A-A12D-2F60CADB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9A9-C426-46C1-A90A-4C02080F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3529-EDD1-46CC-B7AC-0D26A02148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03AB-5B62-4E82-9BAF-7240704E58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86728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91636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eartjigsaw"/>
          <p:cNvPicPr/>
          <p:nvPr/>
        </p:nvPicPr>
        <p:blipFill>
          <a:blip r:embed="rId1"/>
          <a:stretch/>
        </p:blipFill>
        <p:spPr>
          <a:xfrm>
            <a:off x="1619280" y="277920"/>
            <a:ext cx="6048360" cy="62467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uman_heart"/>
          <p:cNvPicPr/>
          <p:nvPr/>
        </p:nvPicPr>
        <p:blipFill>
          <a:blip r:embed="rId1"/>
          <a:stretch/>
        </p:blipFill>
        <p:spPr>
          <a:xfrm>
            <a:off x="111600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 vess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artery-vein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826920" y="620640"/>
          <a:ext cx="7632720" cy="4603680"/>
        </p:xfrm>
        <a:graphic>
          <a:graphicData uri="http://schemas.openxmlformats.org/drawingml/2006/table">
            <a:tbl>
              <a:tblPr/>
              <a:tblGrid>
                <a:gridCol w="2544840"/>
                <a:gridCol w="2543400"/>
                <a:gridCol w="2544480"/>
              </a:tblGrid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 blood away from the 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mus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elastic- walls can stre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y so that substances can pass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67"/>
          <p:cNvSpPr/>
          <p:nvPr/>
        </p:nvSpPr>
        <p:spPr>
          <a:xfrm>
            <a:off x="6012000" y="530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8"/>
          <p:cNvSpPr/>
          <p:nvPr/>
        </p:nvSpPr>
        <p:spPr>
          <a:xfrm>
            <a:off x="82692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9"/>
          <p:cNvSpPr/>
          <p:nvPr/>
        </p:nvSpPr>
        <p:spPr>
          <a:xfrm>
            <a:off x="334800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0"/>
          <p:cNvSpPr/>
          <p:nvPr/>
        </p:nvSpPr>
        <p:spPr>
          <a:xfrm>
            <a:off x="826920" y="645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1"/>
          <p:cNvSpPr/>
          <p:nvPr/>
        </p:nvSpPr>
        <p:spPr>
          <a:xfrm>
            <a:off x="594036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"/>
          <p:cNvSpPr/>
          <p:nvPr/>
        </p:nvSpPr>
        <p:spPr>
          <a:xfrm>
            <a:off x="845964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teriolosclero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disease where the arteries harden or th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Pipe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MPLETE FO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humheart"/>
          <p:cNvPicPr/>
          <p:nvPr/>
        </p:nvPicPr>
        <p:blipFill>
          <a:blip r:embed="rId1"/>
          <a:stretch/>
        </p:blipFill>
        <p:spPr>
          <a:xfrm>
            <a:off x="2195640" y="907920"/>
            <a:ext cx="482436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keyimg20050620_5884652_0"/>
          <p:cNvPicPr/>
          <p:nvPr/>
        </p:nvPicPr>
        <p:blipFill>
          <a:blip r:embed="rId1"/>
          <a:stretch/>
        </p:blipFill>
        <p:spPr>
          <a:xfrm>
            <a:off x="684360" y="641520"/>
            <a:ext cx="7920000" cy="568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16000" y="14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419640" y="981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9:54:51Z</dcterms:modified>
  <cp:revision>15</cp:revision>
  <dc:subject/>
  <dc:title>Exercise and Health</dc:title>
</cp:coreProperties>
</file>