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E7DC-FCB3-437C-8524-3E74350A16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losclerosis is a disease where the arteries harden or thic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FOR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903-D9A8-40F0-8ACA-67251C13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91D-07E4-4904-92CF-FB69A63D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115-B069-45B4-9AAA-44185FB5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41C-DF7B-4D1F-8999-25390A46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EE1B-7566-46AE-8666-6EA7F6C1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A14F-BF30-4671-B7BD-DF909D19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A286-7BAD-41D8-B609-A496AF98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930B-8A88-4CC7-BC16-D4008370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9E71-507E-4A2F-9590-DEFFA5F2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4072-D08A-4C7A-8E25-2A1BD5F6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71E8-D060-4B1C-ABF2-A3EDD62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F91-65A0-4B33-B543-18D8443F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1DBC-1958-480D-B1D3-E72B541C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4E8F-934E-4DB8-A49E-C8A1FCCA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1964-C788-4075-A15A-563E3933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99FB-04F3-49F9-88F8-8486AF31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1543-DB88-4162-89AD-02A54630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69B-48CB-4C4E-8ECA-38A8FD7B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C22-5A26-4901-A3AF-2ABDC494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688-79D8-44B2-A4C6-961B0F1E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133-709C-4918-ABBC-D194E6DB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F83-260C-46BD-A717-DE09DAA1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978-08CB-4BF8-A4D5-BD7FF503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AB6-DD6F-44A5-9AB3-551168C6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EB88-1A09-4CFD-9778-4C28802E22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5013-0145-4E79-9C51-290DB4AD39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rt, Blood Vessels &amp;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86728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eart"/>
          <p:cNvPicPr/>
          <p:nvPr/>
        </p:nvPicPr>
        <p:blipFill>
          <a:blip r:embed="rId1"/>
          <a:stretch/>
        </p:blipFill>
        <p:spPr>
          <a:xfrm>
            <a:off x="501480" y="189000"/>
            <a:ext cx="8642520" cy="6119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5651640" y="76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084720" y="19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8436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796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300720" y="234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348000" y="530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51672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132000" y="4581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877080" y="292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5724000" y="3499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694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91636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eartjigsaw"/>
          <p:cNvPicPr/>
          <p:nvPr/>
        </p:nvPicPr>
        <p:blipFill>
          <a:blip r:embed="rId1"/>
          <a:stretch/>
        </p:blipFill>
        <p:spPr>
          <a:xfrm>
            <a:off x="1619280" y="277920"/>
            <a:ext cx="6048360" cy="62467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uman_heart"/>
          <p:cNvPicPr/>
          <p:nvPr/>
        </p:nvPicPr>
        <p:blipFill>
          <a:blip r:embed="rId1"/>
          <a:stretch/>
        </p:blipFill>
        <p:spPr>
          <a:xfrm>
            <a:off x="111600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 vess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to p27 of Biology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etch a diagram to show the structure of an artery, vein an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y and complete the table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artery-vein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826920" y="620640"/>
          <a:ext cx="7632720" cy="4603680"/>
        </p:xfrm>
        <a:graphic>
          <a:graphicData uri="http://schemas.openxmlformats.org/drawingml/2006/table">
            <a:tbl>
              <a:tblPr/>
              <a:tblGrid>
                <a:gridCol w="2544840"/>
                <a:gridCol w="2543400"/>
                <a:gridCol w="2544480"/>
              </a:tblGrid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 blood away from the 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mus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elastic- walls can stre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y so that substances can pass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 Box 67"/>
          <p:cNvSpPr/>
          <p:nvPr/>
        </p:nvSpPr>
        <p:spPr>
          <a:xfrm>
            <a:off x="6012000" y="530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valves that stop blood moving the wrong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8"/>
          <p:cNvSpPr/>
          <p:nvPr/>
        </p:nvSpPr>
        <p:spPr>
          <a:xfrm>
            <a:off x="82692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9"/>
          <p:cNvSpPr/>
          <p:nvPr/>
        </p:nvSpPr>
        <p:spPr>
          <a:xfrm>
            <a:off x="334800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0"/>
          <p:cNvSpPr/>
          <p:nvPr/>
        </p:nvSpPr>
        <p:spPr>
          <a:xfrm>
            <a:off x="826920" y="6453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1"/>
          <p:cNvSpPr/>
          <p:nvPr/>
        </p:nvSpPr>
        <p:spPr>
          <a:xfrm>
            <a:off x="594036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"/>
          <p:cNvSpPr/>
          <p:nvPr/>
        </p:nvSpPr>
        <p:spPr>
          <a:xfrm>
            <a:off x="8459640" y="522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teriolosclero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disease where the arteries harden or thi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d by smoking and cholesterol in the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s to high blood pressure and increased risk of heart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Pipe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Heart 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 the work sheet entitled “Heart Dise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it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fully questions number 1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MPLETE FO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humheart"/>
          <p:cNvPicPr/>
          <p:nvPr/>
        </p:nvPicPr>
        <p:blipFill>
          <a:blip r:embed="rId1"/>
          <a:stretch/>
        </p:blipFill>
        <p:spPr>
          <a:xfrm>
            <a:off x="2195640" y="907920"/>
            <a:ext cx="482436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keyimg20050620_5884652_0"/>
          <p:cNvPicPr/>
          <p:nvPr/>
        </p:nvPicPr>
        <p:blipFill>
          <a:blip r:embed="rId1"/>
          <a:stretch/>
        </p:blipFill>
        <p:spPr>
          <a:xfrm>
            <a:off x="684360" y="641520"/>
            <a:ext cx="7920000" cy="568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eart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16000" y="14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419640" y="98100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124000" y="1484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oxygenated blood to the lu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eart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120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564000" y="112536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ated blood to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71640" y="177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9:54:51Z</dcterms:modified>
  <cp:revision>15</cp:revision>
  <dc:subject/>
  <dc:title>Exercise and Health</dc:title>
</cp:coreProperties>
</file>