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CCC36-3136-444F-B033-C78422CA12B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rcise and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t, Blood Vessels &amp; Heart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rcise and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t, Blood Vessels &amp; Heart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n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n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n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n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vess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 to p27 of Biology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etch a diagram to show the structure of an artery, vein and capill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 and complete the table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vess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 to p27 of Biology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etch a diagram to show the structure of an artery, vein and capill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 and complete the table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valves that stop blood moving the wrong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valves that stop blood moving the wrong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t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olosclerosis is a disease where the arteries harden or thick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d by smoking and cholesterol in the di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s to high blood pressure and increased risk of heart att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t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olosclerosis is a disease where the arteries harden or thick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d by smoking and cholesterol in the di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s to high blood pressure and increased risk of heart att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t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 the work sheet entitled “Heart Diseas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it carefu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fully questions number 1 to 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t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 the work sheet entitled “Heart Diseas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it carefu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fully questions number 1 to 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t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 the work sheet entitled “Heart Diseas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it carefu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fully questions number 1 to 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FOR 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t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 the work sheet entitled “Heart Diseas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it carefu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fully questions number 1 to 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FOR 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oxygenated blood to the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oxygenated blood to the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oxygenated blood to the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oxygenated blood to the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oxygenated blood to the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oxygenated blood to the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AAA1-5C11-4E5D-AAB9-A7CA03898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7A7C-FD5B-49F8-9BDA-CE3F6A396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28AF-BC83-409C-A9B4-70730FFEE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F06E-0C36-41E0-AE78-67D6A26B2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DA3C0-7458-4100-91B3-B87EE4878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B41F9-1E92-4E93-89D4-BAE878448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47B3F-E7A5-4D59-9BC5-F332455FF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CC574-A5D7-48D6-8C08-EA99157AA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2F617-ACA3-4246-B6F0-3542F5559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3AE6B-BD4F-4837-AF95-C6D238C67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03602-01CF-4BA4-8A05-4EC3C90B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048A-2980-4E20-8661-60EEAAA20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841B3-FEFE-4FDC-AA14-5A75A5BD8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2C409-1051-40F2-83A1-64A10B6E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9D5C5-8DC9-44B7-9186-1150E95A2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A0500-B791-4CBF-ACC9-AF99624CB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C1917-828E-4509-A534-ED7380172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65A6-C305-4B49-8649-92930E591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A2AA-FCD4-44BA-B461-DD8449D75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D41A-D1B4-4880-B312-47A7FB95A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64AA-0076-4099-AE2E-909D9D107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7769-8E1E-4833-A223-161AF8E6B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D446-8B40-4423-A69E-C2A653051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D356-3193-431C-BF85-7C8E8B8A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A9786-5F72-48F8-8833-19E19B36758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79124-D73B-4F9D-B431-3E823359139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0033"/>
                </a:solidFill>
                <a:latin typeface="Times New Roman"/>
              </a:rPr>
              <a:t>Exercise and Health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eart, Blood Vessels &amp; Heart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heart"/>
          <p:cNvPicPr/>
          <p:nvPr/>
        </p:nvPicPr>
        <p:blipFill>
          <a:blip r:embed="rId1"/>
          <a:stretch/>
        </p:blipFill>
        <p:spPr>
          <a:xfrm>
            <a:off x="324000" y="260280"/>
            <a:ext cx="8642160" cy="6120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"/>
          <p:cNvSpPr/>
          <p:nvPr/>
        </p:nvSpPr>
        <p:spPr>
          <a:xfrm>
            <a:off x="3564000" y="112536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971640" y="1773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5651640" y="765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heart"/>
          <p:cNvPicPr/>
          <p:nvPr/>
        </p:nvPicPr>
        <p:blipFill>
          <a:blip r:embed="rId1"/>
          <a:stretch/>
        </p:blipFill>
        <p:spPr>
          <a:xfrm>
            <a:off x="324000" y="260280"/>
            <a:ext cx="8642160" cy="61200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"/>
          <p:cNvSpPr/>
          <p:nvPr/>
        </p:nvSpPr>
        <p:spPr>
          <a:xfrm>
            <a:off x="3564000" y="112536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971640" y="1773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5651640" y="765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5867280" y="1989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heart"/>
          <p:cNvPicPr/>
          <p:nvPr/>
        </p:nvPicPr>
        <p:blipFill>
          <a:blip r:embed="rId1"/>
          <a:stretch/>
        </p:blipFill>
        <p:spPr>
          <a:xfrm>
            <a:off x="501480" y="189000"/>
            <a:ext cx="8642520" cy="61196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3"/>
          <p:cNvSpPr/>
          <p:nvPr/>
        </p:nvSpPr>
        <p:spPr>
          <a:xfrm>
            <a:off x="3564000" y="112536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971640" y="1773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5651640" y="765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6084720" y="1989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684360" y="3716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heart"/>
          <p:cNvPicPr/>
          <p:nvPr/>
        </p:nvPicPr>
        <p:blipFill>
          <a:blip r:embed="rId1"/>
          <a:stretch/>
        </p:blipFill>
        <p:spPr>
          <a:xfrm>
            <a:off x="501480" y="189000"/>
            <a:ext cx="8642520" cy="611964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3"/>
          <p:cNvSpPr/>
          <p:nvPr/>
        </p:nvSpPr>
        <p:spPr>
          <a:xfrm>
            <a:off x="3564000" y="112536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971640" y="1773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5651640" y="765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6084720" y="1989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684360" y="3716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1979640" y="4149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eart"/>
          <p:cNvPicPr/>
          <p:nvPr/>
        </p:nvPicPr>
        <p:blipFill>
          <a:blip r:embed="rId1"/>
          <a:stretch/>
        </p:blipFill>
        <p:spPr>
          <a:xfrm>
            <a:off x="501480" y="189000"/>
            <a:ext cx="8642520" cy="61196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3"/>
          <p:cNvSpPr/>
          <p:nvPr/>
        </p:nvSpPr>
        <p:spPr>
          <a:xfrm>
            <a:off x="3564000" y="112536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971640" y="1773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5651640" y="765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6084720" y="1989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684360" y="3716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1979640" y="4149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6300720" y="2349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heart"/>
          <p:cNvPicPr/>
          <p:nvPr/>
        </p:nvPicPr>
        <p:blipFill>
          <a:blip r:embed="rId1"/>
          <a:stretch/>
        </p:blipFill>
        <p:spPr>
          <a:xfrm>
            <a:off x="501480" y="189000"/>
            <a:ext cx="8642520" cy="611964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3"/>
          <p:cNvSpPr/>
          <p:nvPr/>
        </p:nvSpPr>
        <p:spPr>
          <a:xfrm>
            <a:off x="3564000" y="112536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971640" y="1773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5651640" y="765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6084720" y="1989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684360" y="3716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979640" y="4149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6300720" y="2349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3348000" y="530064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6516720" y="4508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heart"/>
          <p:cNvPicPr/>
          <p:nvPr/>
        </p:nvPicPr>
        <p:blipFill>
          <a:blip r:embed="rId1"/>
          <a:stretch/>
        </p:blipFill>
        <p:spPr>
          <a:xfrm>
            <a:off x="501480" y="189000"/>
            <a:ext cx="8642520" cy="611964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3"/>
          <p:cNvSpPr/>
          <p:nvPr/>
        </p:nvSpPr>
        <p:spPr>
          <a:xfrm>
            <a:off x="3564000" y="112536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971640" y="1773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5651640" y="765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6084720" y="1989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684360" y="3716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1979640" y="4149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6300720" y="2349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3348000" y="530064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6516720" y="4508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2"/>
          <p:cNvSpPr/>
          <p:nvPr/>
        </p:nvSpPr>
        <p:spPr>
          <a:xfrm>
            <a:off x="3132000" y="4581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3"/>
          <p:cNvSpPr/>
          <p:nvPr/>
        </p:nvSpPr>
        <p:spPr>
          <a:xfrm>
            <a:off x="6877080" y="29242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heart"/>
          <p:cNvPicPr/>
          <p:nvPr/>
        </p:nvPicPr>
        <p:blipFill>
          <a:blip r:embed="rId1"/>
          <a:stretch/>
        </p:blipFill>
        <p:spPr>
          <a:xfrm>
            <a:off x="501480" y="189000"/>
            <a:ext cx="8642520" cy="611964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3"/>
          <p:cNvSpPr/>
          <p:nvPr/>
        </p:nvSpPr>
        <p:spPr>
          <a:xfrm>
            <a:off x="3564000" y="112536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971640" y="1773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5651640" y="765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6084720" y="1989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684360" y="3716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1979640" y="4149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9"/>
          <p:cNvSpPr/>
          <p:nvPr/>
        </p:nvSpPr>
        <p:spPr>
          <a:xfrm>
            <a:off x="6300720" y="2349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0"/>
          <p:cNvSpPr/>
          <p:nvPr/>
        </p:nvSpPr>
        <p:spPr>
          <a:xfrm>
            <a:off x="3348000" y="530064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1"/>
          <p:cNvSpPr/>
          <p:nvPr/>
        </p:nvSpPr>
        <p:spPr>
          <a:xfrm>
            <a:off x="6516720" y="4508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2"/>
          <p:cNvSpPr/>
          <p:nvPr/>
        </p:nvSpPr>
        <p:spPr>
          <a:xfrm>
            <a:off x="3132000" y="4581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3"/>
          <p:cNvSpPr/>
          <p:nvPr/>
        </p:nvSpPr>
        <p:spPr>
          <a:xfrm>
            <a:off x="6877080" y="29242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5"/>
          <p:cNvSpPr/>
          <p:nvPr/>
        </p:nvSpPr>
        <p:spPr>
          <a:xfrm flipH="1" flipV="1">
            <a:off x="5724000" y="3499920"/>
            <a:ext cx="1295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6"/>
          <p:cNvSpPr/>
          <p:nvPr/>
        </p:nvSpPr>
        <p:spPr>
          <a:xfrm>
            <a:off x="6948360" y="393372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nd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heart"/>
          <p:cNvPicPr/>
          <p:nvPr/>
        </p:nvPicPr>
        <p:blipFill>
          <a:blip r:embed="rId1"/>
          <a:stretch/>
        </p:blipFill>
        <p:spPr>
          <a:xfrm>
            <a:off x="501480" y="189000"/>
            <a:ext cx="8642520" cy="611964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3"/>
          <p:cNvSpPr/>
          <p:nvPr/>
        </p:nvSpPr>
        <p:spPr>
          <a:xfrm>
            <a:off x="3564000" y="112536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971640" y="1773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5651640" y="765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6084720" y="1989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684360" y="3716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1979640" y="4149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6300720" y="2349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0"/>
          <p:cNvSpPr/>
          <p:nvPr/>
        </p:nvSpPr>
        <p:spPr>
          <a:xfrm>
            <a:off x="3348000" y="530064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6516720" y="4508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2"/>
          <p:cNvSpPr/>
          <p:nvPr/>
        </p:nvSpPr>
        <p:spPr>
          <a:xfrm>
            <a:off x="3132000" y="4581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3"/>
          <p:cNvSpPr/>
          <p:nvPr/>
        </p:nvSpPr>
        <p:spPr>
          <a:xfrm>
            <a:off x="6877080" y="29242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4"/>
          <p:cNvSpPr/>
          <p:nvPr/>
        </p:nvSpPr>
        <p:spPr>
          <a:xfrm flipH="1" flipV="1">
            <a:off x="5724000" y="3499920"/>
            <a:ext cx="1295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5"/>
          <p:cNvSpPr/>
          <p:nvPr/>
        </p:nvSpPr>
        <p:spPr>
          <a:xfrm>
            <a:off x="6948360" y="393372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nd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6"/>
          <p:cNvSpPr/>
          <p:nvPr/>
        </p:nvSpPr>
        <p:spPr>
          <a:xfrm>
            <a:off x="2916360" y="2349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5" descr="heartjigsaw"/>
          <p:cNvPicPr/>
          <p:nvPr/>
        </p:nvPicPr>
        <p:blipFill>
          <a:blip r:embed="rId1"/>
          <a:stretch/>
        </p:blipFill>
        <p:spPr>
          <a:xfrm>
            <a:off x="1619280" y="277920"/>
            <a:ext cx="6048360" cy="624672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human_heart"/>
          <p:cNvPicPr/>
          <p:nvPr/>
        </p:nvPicPr>
        <p:blipFill>
          <a:blip r:embed="rId1"/>
          <a:stretch/>
        </p:blipFill>
        <p:spPr>
          <a:xfrm>
            <a:off x="1116000" y="0"/>
            <a:ext cx="662472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Blood vessel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urn to p27 of Biology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ketch a diagram to show the structure of an artery, vein and capill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py and complete the table on the next sl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8" descr="artery-vein"/>
          <p:cNvPicPr/>
          <p:nvPr/>
        </p:nvPicPr>
        <p:blipFill>
          <a:blip r:embed="rId1"/>
          <a:stretch/>
        </p:blipFill>
        <p:spPr>
          <a:xfrm>
            <a:off x="900000" y="1628640"/>
            <a:ext cx="3816360" cy="4464360"/>
          </a:xfrm>
          <a:prstGeom prst="rect">
            <a:avLst/>
          </a:prstGeom>
          <a:ln w="0">
            <a:noFill/>
          </a:ln>
        </p:spPr>
      </p:pic>
      <p:sp>
        <p:nvSpPr>
          <p:cNvPr id="22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826920" y="620640"/>
          <a:ext cx="7632720" cy="4603680"/>
        </p:xfrm>
        <a:graphic>
          <a:graphicData uri="http://schemas.openxmlformats.org/drawingml/2006/table">
            <a:tbl>
              <a:tblPr/>
              <a:tblGrid>
                <a:gridCol w="2544840"/>
                <a:gridCol w="2543400"/>
                <a:gridCol w="2544480"/>
              </a:tblGrid>
              <a:tr h="898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e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ill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ry blood away from the hea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ck musc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y elastic- walls can stret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ky so that substances can pass 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8" name="Text Box 67"/>
          <p:cNvSpPr/>
          <p:nvPr/>
        </p:nvSpPr>
        <p:spPr>
          <a:xfrm>
            <a:off x="6012000" y="5300640"/>
            <a:ext cx="237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ve valves that stop blood moving the wrong 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68"/>
          <p:cNvSpPr/>
          <p:nvPr/>
        </p:nvSpPr>
        <p:spPr>
          <a:xfrm>
            <a:off x="826920" y="522936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9"/>
          <p:cNvSpPr/>
          <p:nvPr/>
        </p:nvSpPr>
        <p:spPr>
          <a:xfrm>
            <a:off x="3348000" y="522936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70"/>
          <p:cNvSpPr/>
          <p:nvPr/>
        </p:nvSpPr>
        <p:spPr>
          <a:xfrm>
            <a:off x="826920" y="6453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71"/>
          <p:cNvSpPr/>
          <p:nvPr/>
        </p:nvSpPr>
        <p:spPr>
          <a:xfrm>
            <a:off x="5940360" y="522936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72"/>
          <p:cNvSpPr/>
          <p:nvPr/>
        </p:nvSpPr>
        <p:spPr>
          <a:xfrm>
            <a:off x="8459640" y="522936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Heart diseas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rteriolosclerosi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s a disease where the arteries harden or thick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used by smoking and cholesterol in the di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ads to high blood pressure and increased risk of heart at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11" descr="Pipe"/>
          <p:cNvPicPr/>
          <p:nvPr/>
        </p:nvPicPr>
        <p:blipFill>
          <a:blip r:embed="rId1"/>
          <a:stretch/>
        </p:blipFill>
        <p:spPr>
          <a:xfrm>
            <a:off x="971640" y="1628640"/>
            <a:ext cx="3744720" cy="439272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Heart diseas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llect the work sheet entitled “Heart Diseas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it carefu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wer fully questions number 1 to 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Heart diseas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llect the work sheet entitled “Heart Diseas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it carefu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wer fully questions number 1 to 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COMPLETE FOR HO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humheart"/>
          <p:cNvPicPr/>
          <p:nvPr/>
        </p:nvPicPr>
        <p:blipFill>
          <a:blip r:embed="rId1"/>
          <a:stretch/>
        </p:blipFill>
        <p:spPr>
          <a:xfrm>
            <a:off x="2195640" y="907920"/>
            <a:ext cx="4824360" cy="496908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7" descr="keyimg20050620_5884652_0"/>
          <p:cNvPicPr/>
          <p:nvPr/>
        </p:nvPicPr>
        <p:blipFill>
          <a:blip r:embed="rId1"/>
          <a:stretch/>
        </p:blipFill>
        <p:spPr>
          <a:xfrm>
            <a:off x="684360" y="641520"/>
            <a:ext cx="7920000" cy="568008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heart"/>
          <p:cNvPicPr/>
          <p:nvPr/>
        </p:nvPicPr>
        <p:blipFill>
          <a:blip r:embed="rId1"/>
          <a:stretch/>
        </p:blipFill>
        <p:spPr>
          <a:xfrm>
            <a:off x="250920" y="333360"/>
            <a:ext cx="8642160" cy="612000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heart"/>
          <p:cNvPicPr/>
          <p:nvPr/>
        </p:nvPicPr>
        <p:blipFill>
          <a:blip r:embed="rId1"/>
          <a:stretch/>
        </p:blipFill>
        <p:spPr>
          <a:xfrm>
            <a:off x="250920" y="333360"/>
            <a:ext cx="8642160" cy="6120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1116000" y="141300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oxygenated blood to the 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heart"/>
          <p:cNvPicPr/>
          <p:nvPr/>
        </p:nvPicPr>
        <p:blipFill>
          <a:blip r:embed="rId1"/>
          <a:stretch/>
        </p:blipFill>
        <p:spPr>
          <a:xfrm>
            <a:off x="324000" y="260280"/>
            <a:ext cx="8642160" cy="6120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2124000" y="1484280"/>
            <a:ext cx="180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oxygenated blood to the lu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3419640" y="981000"/>
            <a:ext cx="19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heart"/>
          <p:cNvPicPr/>
          <p:nvPr/>
        </p:nvPicPr>
        <p:blipFill>
          <a:blip r:embed="rId1"/>
          <a:stretch/>
        </p:blipFill>
        <p:spPr>
          <a:xfrm>
            <a:off x="324000" y="260280"/>
            <a:ext cx="8642160" cy="6120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3"/>
          <p:cNvSpPr/>
          <p:nvPr/>
        </p:nvSpPr>
        <p:spPr>
          <a:xfrm>
            <a:off x="2124000" y="1484280"/>
            <a:ext cx="180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oxygenated blood to the lu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3564000" y="112536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heart"/>
          <p:cNvPicPr/>
          <p:nvPr/>
        </p:nvPicPr>
        <p:blipFill>
          <a:blip r:embed="rId1"/>
          <a:stretch/>
        </p:blipFill>
        <p:spPr>
          <a:xfrm>
            <a:off x="324000" y="260280"/>
            <a:ext cx="8642160" cy="6120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4"/>
          <p:cNvSpPr/>
          <p:nvPr/>
        </p:nvSpPr>
        <p:spPr>
          <a:xfrm>
            <a:off x="3564000" y="112536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971640" y="1773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2T19:51:23Z</dcterms:created>
  <dc:creator>Keith Hicks</dc:creator>
  <dc:description/>
  <dc:language>en-US</dc:language>
  <cp:lastModifiedBy>LEGION2</cp:lastModifiedBy>
  <dcterms:modified xsi:type="dcterms:W3CDTF">2016-01-14T09:54:51Z</dcterms:modified>
  <cp:revision>15</cp:revision>
  <dc:subject/>
  <dc:title>Exercise and Health</dc:title>
</cp:coreProperties>
</file>