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8768-79F1-4D47-BA5D-A5F9E2B788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and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Year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and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Year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blood from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connect arteries and 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have very thick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no va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have valves to prevent the backflow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a large spac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de-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carry blood towards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blood from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connect arteries and 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have very thick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no va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have valves to prevent the backflow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a large spac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de-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carry blood towards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heart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is a muscle that pumps blood around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umps oxygenated blood from the lungs around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umps deoxygenated blood from the body back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ook at the heart anima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heart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is a muscle that pumps blood around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umps oxygenated blood from the lungs around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umps deoxygenated blood from the body back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ook at the heart anima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at the heart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side of my heart pumps blood to my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ft side of my heart pumps blood to the rest of my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contains four valves to stop the backflow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at the heart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side of my heart pumps blood to my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ft side of my heart pumps blood to the rest of my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contains four valves to stop the backflow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5360-0D72-4E88-815A-23A324C5A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F906-A7C6-4C99-9618-81C43C7C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5B77-3F51-42C7-820F-C3B3E37F4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526C-882D-46B9-8A8D-6AFCB6FBB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9B2C-853A-4459-B779-6BCA2881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ED17-432A-466B-958A-91218C34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70CA-49BE-417E-B4B2-136673CF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709D-CE12-4C31-BEDF-904E4FD0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2B2C-0112-4A52-91AB-AE987419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FD2E-8600-4EB9-9081-E2702553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7888-45E8-4A93-90F5-C138717C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22AF-0253-4AAA-96F1-148C537E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16E9-3B8C-41D9-817A-13D8FCBB866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Heart and Circulato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Year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611280" y="1773360"/>
            <a:ext cx="1512720" cy="119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teries carry blood from the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611280" y="4365720"/>
            <a:ext cx="1512720" cy="119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teries carry oxygenated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5292720" y="1989000"/>
            <a:ext cx="1512720" cy="119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illaries connect arteries and v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3132000" y="1557360"/>
            <a:ext cx="151308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illaries have very thick w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3059280" y="3141720"/>
            <a:ext cx="15127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ins have no va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7093080" y="5013360"/>
            <a:ext cx="1512720" cy="1465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illaries have valves to prevent the backflow of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3059280" y="5229360"/>
            <a:ext cx="151272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ins have a large space in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4859280" y="3789360"/>
            <a:ext cx="1513080" cy="119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teries carry de-oxygenated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7164360" y="2637000"/>
            <a:ext cx="1513080" cy="119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ins carry blood towards the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es the heart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heart is a muscle that pumps blood around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pumps oxygenated blood from the lungs around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pumps deoxygenated blood from the body back to the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Now look at the heart anim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ooking at the heart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right side of my heart pumps blood to my lu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left side of my heart pumps blood to the rest of my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eart contains four valves to stop the backflow of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14:50:31Z</dcterms:created>
  <dc:creator>CEC</dc:creator>
  <dc:description/>
  <dc:language>en-US</dc:language>
  <cp:lastModifiedBy>LEGION2</cp:lastModifiedBy>
  <dcterms:modified xsi:type="dcterms:W3CDTF">2016-01-14T09:48:44Z</dcterms:modified>
  <cp:revision>8</cp:revision>
  <dc:subject/>
  <dc:title>The Heart and Circulatory System</dc:title>
</cp:coreProperties>
</file>