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9B36-F5FB-4631-8F06-046D1D158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697-725B-4084-9429-4C65A68E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947-3D7A-4ED5-9C3B-D10CF5E3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CDD-2F25-4CFA-83D3-135F7B62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E6E-71A1-415E-A995-9AEB275E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504-0FAA-4712-BE48-5DE9AC89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B75-86A1-4B20-9E23-48FF0856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B1E-BBC6-4B1E-95DB-5CC52EE2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22E-F6AE-42FA-AC41-4174C2F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A1B-7268-4113-9AA3-6D6B771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95D-2539-4828-9A76-F6BD617F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0CA-2D00-48D2-8AAC-50EA89F1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ABF-7348-46B7-A771-6606C633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BD2D-CD5D-462E-B9EE-3F416D2082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77336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436572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292720" y="198900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132000" y="1557360"/>
            <a:ext cx="1513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59280" y="3141720"/>
            <a:ext cx="15127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093080" y="5013360"/>
            <a:ext cx="1512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059280" y="5229360"/>
            <a:ext cx="1512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859280" y="378936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164360" y="263700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0:31Z</dcterms:created>
  <dc:creator>CEC</dc:creator>
  <dc:description/>
  <dc:language>en-US</dc:language>
  <cp:lastModifiedBy>LEGION2</cp:lastModifiedBy>
  <dcterms:modified xsi:type="dcterms:W3CDTF">2016-01-14T09:48:44Z</dcterms:modified>
  <cp:revision>8</cp:revision>
  <dc:subject/>
  <dc:title>The Heart and Circulatory System</dc:title>
</cp:coreProperties>
</file>