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335F-2924-437C-975E-E15048A791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740-589B-4632-88C6-B4F109D5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47BC-85DF-499B-8D2D-9A89FCEA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B70-ED6B-42DA-BF7D-2D223F71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A787-98A5-4D76-9951-4FB87BD5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01DC-A866-4602-B351-34CE16E9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2458-0D38-4E75-9CB1-32DE7F32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82E9-78D5-43E0-B7BB-52C92EA3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257-4E46-4C48-8B9E-E9CA3566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9A5-07BD-48D9-A6B3-542E9B7F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E89A-C1F2-46CF-996A-676208AB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193-6BA6-43C8-A712-0E83B2CD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C03-84F6-47E3-9BB0-ECBDD021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7FCF-E787-42F1-AE0C-FB0E06F77F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11280" y="177336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11280" y="436572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292720" y="198900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132000" y="1557360"/>
            <a:ext cx="1513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059280" y="3141720"/>
            <a:ext cx="15127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093080" y="5013360"/>
            <a:ext cx="1512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059280" y="5229360"/>
            <a:ext cx="1512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4859280" y="3789360"/>
            <a:ext cx="1513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7164360" y="2637000"/>
            <a:ext cx="1513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4:50:31Z</dcterms:created>
  <dc:creator>CEC</dc:creator>
  <dc:description/>
  <dc:language>en-US</dc:language>
  <cp:lastModifiedBy>LEGION2</cp:lastModifiedBy>
  <dcterms:modified xsi:type="dcterms:W3CDTF">2016-01-14T09:48:44Z</dcterms:modified>
  <cp:revision>8</cp:revision>
  <dc:subject/>
  <dc:title>The Heart and Circulatory System</dc:title>
</cp:coreProperties>
</file>