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1D39-0299-4984-936A-6207FB62A2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body temperature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is is usually higher tha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,you are 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owerpoint is hosted on www.worldofteaching.c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contr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hot,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k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co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cold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make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iver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us heat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                     Diet and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makes up a healthy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too much can causes he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causes anorexi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alcohol consumption can a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t and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many alcohol units are containe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r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how many alcohol units are in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 of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information on alcohol in graph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should contain the following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foods that are quite high in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good for storing energy during win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is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any fat based foods can make peop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also cause cholesterol in the vei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tarch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like bre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toes and pas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a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energ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lories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m can be burned of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 they appear as fat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used for the growth and repair of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 deficiency can result in malnutr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supplies or alternatives give us 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y of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sist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, B ,C ,D E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se pla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rts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icture shown is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bones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ith rick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ccurs through lac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tamin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alts that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ed by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calciu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milk for bon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 and oth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cont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d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fatty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ch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help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bility to maintain body tempera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to save a person suffering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burn up the food we 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us energy for our muscles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our muscles work,the more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od we n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more food than we need,the extra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ed into f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ing fat is unhealthy and affects our he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mo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eats more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ould yo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er?Expl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ould it be b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erson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y do to lo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nergy K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erious eating disorder which main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s young gir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bulimia,another eating dis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cs believe they need to lose weight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ally diet to do 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psychological problem and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 can lead to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ffects of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a dr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ffects your brain by bloc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sages to your sen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slows down you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measured in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unit of alcohol consists of  a) a smal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s of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problems at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od chang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ney trou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affect personal saf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death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name 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regular exercise improves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be described as having staying po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 which you need to have stami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wimming ,jogging , rowing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and lungs need to be in good wor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very rate is usually quick from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scles need to be strong and in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clude  weight lifting, row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and gymna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dy can be capable of being moved in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ositions without being sti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stretching exercises are neede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 this aspect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needing suppleness include danc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mnastics, judo, swimming and yog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 Blooded Animal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lizard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 make enoug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rom their f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nable them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er than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i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end to be more active during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opical fish from the Amazon wou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urvive in Scot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at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n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where the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warm blooded animal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constant temperature of 37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are able to make and lose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lose excess heat by sweating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ody temperature goes above 37 C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you are suffering from a 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end to sweat a lot as the body tries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your temperatur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creases in temperature are caused b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appens when the body falls below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ain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ody is too low in temperature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long, it can result in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mostly occurs with elder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are signs of hypothermia and actions to be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rring of spee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ly ina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becom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to rea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 in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n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a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et drink bu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4,5 Increase ro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eating slow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C9D-1A71-460C-B438-9705BC10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605-38A8-457B-B4FE-82B4ECC0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162-B56D-41D4-AC4A-4D0A92B2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51F-76D1-4AA5-8792-7A79F8B4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0B23-3615-4AFE-A162-DA95470C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986E-403C-45E1-A52E-E2628008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AE1C-4370-4442-87D5-1572933B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C5D3-0198-4934-8ECD-6F757C84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EB63-E17C-4C36-A9C2-44380EA8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9E62-EFD0-42BC-AE5E-D035CB6F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2C9-1E08-40DC-A196-74F408F9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7E8-2C4A-49B3-AD72-EDF7B2CE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0A12-BB8A-4004-A186-06E1E9E3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837D-4C0C-42F8-ACC5-95FC55D8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0371-AFC8-4E36-8C1B-9EF95F5A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634A-B5AB-47E6-A1E5-9CE70BB4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143E-D8FA-459F-B61A-F88BC87E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E3A-FAFF-40A7-A15B-7E341D37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C96-55A4-42FB-8EA7-974D0555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B54-5000-41CF-8DEF-A173A280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870-6697-4063-A657-B5D6C2CD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5AD-C854-4F58-8DC7-5A6A1837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035-5091-4046-B55F-46CCB6FB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5F4-6973-4CB9-9233-5BF36CFF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1029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34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035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036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037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042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043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2AB7-C0BF-43E0-91CF-773359543B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0548-6656-420C-86F2-856BB0B9DA4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8027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65948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80272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4800600" y="2552760"/>
            <a:ext cx="3886200" cy="347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5181120" y="2743200"/>
            <a:ext cx="160020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943600" y="4191120"/>
            <a:ext cx="15238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562720" y="4952880"/>
            <a:ext cx="22860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8534520" y="2743200"/>
            <a:ext cx="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7984080" y="2251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66153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615360" y="36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6913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6615360" y="491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 flipV="1">
            <a:off x="8534520" y="5181120"/>
            <a:ext cx="30456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2057040"/>
            <a:ext cx="4876920" cy="42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29"/>
          <p:cNvSpPr/>
          <p:nvPr/>
        </p:nvSpPr>
        <p:spPr>
          <a:xfrm flipH="1" flipV="1">
            <a:off x="8152920" y="5181120"/>
            <a:ext cx="38124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7832520" y="57564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257800" y="5486400"/>
            <a:ext cx="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6781680" y="2743200"/>
            <a:ext cx="121932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6400800" y="34290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>
            <a:off x="5181480" y="5486400"/>
            <a:ext cx="289584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72160" y="22096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6172200" y="2819520"/>
            <a:ext cx="0" cy="2895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172200" y="5715000"/>
            <a:ext cx="2438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640080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6400800" y="3352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670572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6934320" y="3123720"/>
            <a:ext cx="0" cy="2590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7238880" y="3124080"/>
            <a:ext cx="0" cy="2514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V="1">
            <a:off x="746748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7467480" y="39625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777240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800100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8001000" y="35053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830592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6233760" y="568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7452000" y="5680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36"/>
          <p:cNvSpPr/>
          <p:nvPr/>
        </p:nvSpPr>
        <p:spPr>
          <a:xfrm flipH="1">
            <a:off x="6019560" y="31240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7"/>
          <p:cNvSpPr/>
          <p:nvPr/>
        </p:nvSpPr>
        <p:spPr>
          <a:xfrm flipH="1">
            <a:off x="6019560" y="44197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38"/>
          <p:cNvSpPr/>
          <p:nvPr/>
        </p:nvSpPr>
        <p:spPr>
          <a:xfrm flipH="1">
            <a:off x="6019560" y="51055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Line 39"/>
          <p:cNvSpPr/>
          <p:nvPr/>
        </p:nvSpPr>
        <p:spPr>
          <a:xfrm flipH="1">
            <a:off x="6019560" y="38098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5015160" y="2860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091120" y="3546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5091120" y="41562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167440" y="484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6934320" y="32767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6934320" y="35812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Line 48"/>
          <p:cNvSpPr/>
          <p:nvPr/>
        </p:nvSpPr>
        <p:spPr>
          <a:xfrm flipH="1">
            <a:off x="6934320" y="37339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Line 49"/>
          <p:cNvSpPr/>
          <p:nvPr/>
        </p:nvSpPr>
        <p:spPr>
          <a:xfrm>
            <a:off x="6934320" y="40384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Line 50"/>
          <p:cNvSpPr/>
          <p:nvPr/>
        </p:nvSpPr>
        <p:spPr>
          <a:xfrm flipH="1">
            <a:off x="6933960" y="42670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51"/>
          <p:cNvSpPr/>
          <p:nvPr/>
        </p:nvSpPr>
        <p:spPr>
          <a:xfrm>
            <a:off x="6934320" y="44956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55"/>
          <p:cNvSpPr/>
          <p:nvPr/>
        </p:nvSpPr>
        <p:spPr>
          <a:xfrm flipH="1">
            <a:off x="6934320" y="46483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6934320" y="48769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Line 57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58"/>
          <p:cNvSpPr/>
          <p:nvPr/>
        </p:nvSpPr>
        <p:spPr>
          <a:xfrm>
            <a:off x="6934320" y="53341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Line 59"/>
          <p:cNvSpPr/>
          <p:nvPr/>
        </p:nvSpPr>
        <p:spPr>
          <a:xfrm>
            <a:off x="8001000" y="365760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Line 60"/>
          <p:cNvSpPr/>
          <p:nvPr/>
        </p:nvSpPr>
        <p:spPr>
          <a:xfrm flipH="1">
            <a:off x="8000640" y="388620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61"/>
          <p:cNvSpPr/>
          <p:nvPr/>
        </p:nvSpPr>
        <p:spPr>
          <a:xfrm>
            <a:off x="8001000" y="4191120"/>
            <a:ext cx="30492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Line 63"/>
          <p:cNvSpPr/>
          <p:nvPr/>
        </p:nvSpPr>
        <p:spPr>
          <a:xfrm flipH="1">
            <a:off x="8000640" y="44956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Line 64"/>
          <p:cNvSpPr/>
          <p:nvPr/>
        </p:nvSpPr>
        <p:spPr>
          <a:xfrm>
            <a:off x="8001000" y="47242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Line 65"/>
          <p:cNvSpPr/>
          <p:nvPr/>
        </p:nvSpPr>
        <p:spPr>
          <a:xfrm flipH="1">
            <a:off x="8000640" y="49528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Line 66"/>
          <p:cNvSpPr/>
          <p:nvPr/>
        </p:nvSpPr>
        <p:spPr>
          <a:xfrm>
            <a:off x="8001000" y="518148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5242320" y="621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6858000" y="6324480"/>
            <a:ext cx="22860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70"/>
          <p:cNvSpPr/>
          <p:nvPr/>
        </p:nvSpPr>
        <p:spPr>
          <a:xfrm>
            <a:off x="6858000" y="63244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Line 71"/>
          <p:cNvSpPr/>
          <p:nvPr/>
        </p:nvSpPr>
        <p:spPr>
          <a:xfrm flipH="1">
            <a:off x="6857640" y="6324480"/>
            <a:ext cx="1522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72"/>
          <p:cNvSpPr/>
          <p:nvPr/>
        </p:nvSpPr>
        <p:spPr>
          <a:xfrm>
            <a:off x="7224120" y="62136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74"/>
          <p:cNvSpPr/>
          <p:nvPr/>
        </p:nvSpPr>
        <p:spPr>
          <a:xfrm>
            <a:off x="8915400" y="6248520"/>
            <a:ext cx="228600" cy="380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14:30:48Z</dcterms:created>
  <dc:creator>Catherine</dc:creator>
  <dc:description>Cold  Blooded Animals 1.</dc:description>
  <cp:keywords>Cold  Blooded Animals 1.</cp:keywords>
  <dc:language>en-US</dc:language>
  <cp:lastModifiedBy>LEGION2</cp:lastModifiedBy>
  <dcterms:modified xsi:type="dcterms:W3CDTF">2016-01-14T09:35:29Z</dcterms:modified>
  <cp:revision>22</cp:revision>
  <dc:subject>Cold  Blooded Animals 1.</dc:subject>
  <dc:title>Cold  Blooded Animals 1.</dc:title>
</cp:coreProperties>
</file>