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F71A-9D1A-4F10-80DF-8BDB78C9C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A90-144D-417F-9B36-828D6FD6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7F6-8BEA-4898-B2CE-E3B9DF01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A2B-7136-48B4-BCCF-069F5944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99D-5F2D-4398-B046-64587FFF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2771-2D9F-4172-9B05-1D4ECBBF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8F25-5A27-4494-BE14-47C77426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9DE6-3B78-4636-9971-33B7C236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A3C4-4935-4962-9F2C-2001CB4E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6B2D-A6F4-424A-B869-597278A1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1D3B-1793-407A-BB05-076EF5C6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17AB-FE1D-4D4A-A43B-3A964C1C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A79-DBC1-45DB-A578-358360DC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C3FD-81DD-489D-A3F2-41D614C8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C408-A554-4716-B77B-ABBF16EC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E340-C3AE-47BA-B2D2-F6D644CE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CA0A-C50F-48D7-8BC1-E3941234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BDF2-1287-4318-92C1-5C357EAD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358-8C31-4B9E-B467-3238C37E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3F0-8053-43B5-BB28-0151D3D7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312-A795-4261-A410-A471CE09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CB4-93DF-4B3B-9328-7F30B150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3F6-404C-49A1-BAFE-63C851C2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2D3-7AA6-49E3-9C85-F885D0C4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440-C32F-4294-9C32-AD8C1960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8EC7-2D94-48C4-BF3D-5DA9CC0BA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8458-D42F-46E3-AC0E-27D9B1BB29E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5000" y="2422440"/>
            <a:ext cx="889632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876920" y="2778120"/>
            <a:ext cx="373356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914400" y="2392200"/>
            <a:ext cx="7543800" cy="44658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4876920" y="2486160"/>
            <a:ext cx="4038480" cy="315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24080" cy="2776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60680" cy="4135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81560" y="2346120"/>
            <a:ext cx="3749760" cy="39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09:55:04Z</dcterms:created>
  <dc:creator>Physics Department</dc:creator>
  <dc:description>Healthy Bodies. The Lungs and Breathing.</dc:description>
  <cp:keywords>Healthy Bodies. The Lungs and Breathing.</cp:keywords>
  <dc:language>en-US</dc:language>
  <cp:lastModifiedBy>LEGION2</cp:lastModifiedBy>
  <dcterms:modified xsi:type="dcterms:W3CDTF">2016-01-14T09:31:28Z</dcterms:modified>
  <cp:revision>63</cp:revision>
  <dc:subject/>
  <dc:title>Healthy Bodies. The Lungs and Breathing.</dc:title>
</cp:coreProperties>
</file>