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5AB1-C43E-4BA8-B681-376D5EF39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DDB-0575-4F09-91EE-102804C3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1E6-4A62-44B3-9176-3BD48587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FD8-8E3D-4615-AD98-AA26D09B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AD7-05E9-4E06-A886-6C045691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69CC-E85F-4E61-9B26-02D0CF84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D0BE-2EF2-4C75-AD3E-E293A755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A817-7480-450C-86C6-3EF0A301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C3FD-1FAB-4A93-AAD3-193076EC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3AE6-941C-4642-9229-9BF4C131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EA74-C9DE-4857-8E9D-4BC0F127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A0B1-70D7-489A-8414-7C67BA66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FF4-71F6-4DF6-BDF2-204718C5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F150-0671-4274-BFA5-98D0CF29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4D2F-820F-4545-AD58-754EF9C6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E141-23F2-4145-961A-7E2CF6D3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3D05-5B92-4B55-BCAB-30A2A59D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4D12-F5E0-44DD-9FC1-A6D465C6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119-54E0-44F8-BEA2-A2DEDC5D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A49-7A35-41A1-BFEF-95B35C63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53B-BDAE-46D6-A992-057E6156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233-082F-4DB2-8CCF-0A49DCC8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E68-F229-448A-B08C-DA5883E4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974-E073-468B-99B5-FEF548C3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4C7-4908-4E0D-86E9-BE04D9BA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A61F-84B0-464F-A97A-ABEEA86DE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1869-B3BE-41C6-962B-95308FFE013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000" y="2422440"/>
            <a:ext cx="889632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876920" y="2778120"/>
            <a:ext cx="373356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914400" y="2392200"/>
            <a:ext cx="7543800" cy="44658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4038480" cy="315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24080" cy="2776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60680" cy="4135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81560" y="2346120"/>
            <a:ext cx="3749760" cy="39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9:55:04Z</dcterms:created>
  <dc:creator>Physics Department</dc:creator>
  <dc:description>Healthy Bodies. The Lungs and Breathing.</dc:description>
  <cp:keywords>Healthy Bodies. The Lungs and Breathing.</cp:keywords>
  <dc:language>en-US</dc:language>
  <cp:lastModifiedBy>LEGION2</cp:lastModifiedBy>
  <dcterms:modified xsi:type="dcterms:W3CDTF">2016-01-14T09:31:28Z</dcterms:modified>
  <cp:revision>63</cp:revision>
  <dc:subject/>
  <dc:title>Healthy Bodies. The Lungs and Breathing.</dc:title>
</cp:coreProperties>
</file>