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90B2-82E9-41CF-B014-F19113BE7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Born 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next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vocabula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ontamination - moving bacteria from one source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 - responsible party (object, machine) that actually carries the bacteria from source to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- original source of cont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ame symptoms as Salmone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S you CAN have….bloody diarrh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ldren under 5 years old &amp; in the elderly it can cause kidney failure, &amp; destroy red blood cells - RARE, only 2-7% of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E.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usually lasts 5-10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recover w/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NOT use anti-diarrhea med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keeps BAC in body &amp; allows BAC to grow in warm, moist, conditions (&amp; the BAC has lots of nutrients!) so it GROWS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 all meat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Use meat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Thickest part of meat should be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60° - b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70° - poul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f you don’t have a meat thermometer, cut into center of meat &amp; make sure it is NOT p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Keep raw meats separate from ready-to-eat foods (salads, breads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, counter &amp; utensils with hot, soapy water after touching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lace cooked meat on the same plate that held raw m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 only pasteurized milk and juic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ducts that have been pasteuriz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ill say “pasteurized”  on the 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May be sold at 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fruits &amp; vegetables well (dry with paper towe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hands after using restroom or changing diapers to reduce risk of spreading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food born illne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ness resulting from eating food contaminated w/ a bacteria or vir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cause outbreaks where many people become sick, with the same illness at the same time. (about 10% of a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Usually contaminated food comes from a location away from home (restaurant, baseball game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cking of outbreaks of illness (not always food illness) to discover where the original source of contamination came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it from happening agai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mo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ny types live in poultry &amp; swine (birds &amp; pi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n be found i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nimal f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meats,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1 in every 3 eggs is contamin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Illness can be avoided if eggs are cook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ditions BAC need to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s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factors that kill BA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heat (this is BEST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ization - a heat treatment used to kill bacteria.  (commonly used with milk &amp; ju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r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fatal - R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Ingestion of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sick within 6-72 hours after eating contaminated food.  (NOT usually sick immediately after eating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 usually last 4-7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over without antibio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 can be severe enough to hospitalize person 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 that produces a powerful toxin &amp; can cause severe il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st strains harm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ive in intestines of healthy humans &amp;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ound in undercooked ground beef &amp; non-pasteurized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eat can become contaminated during cattle sl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Bacteria on cow’s udders or on equipment can get into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C13-8989-4ED8-901A-B79C16B1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B41-8740-4F7C-9CC5-EC831109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79C-C7DA-4E41-9489-9828C09B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6B0-072B-4A3B-90A3-A8B8D4DE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264E-E9D4-42F0-871D-652B3F18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E777-3A6E-40E8-A820-D13AF107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AC81-1372-40A4-93C9-492CF6AD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CA22-B188-4281-8E1C-D4B424ED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29F6-4A07-49CE-8E18-E909C39B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851B-DFDB-4341-A300-31B8C6ED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4AFF-62FA-491B-BD20-C2BED7AE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219-9F71-48D2-9BB5-74482723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77F7-90BC-44F1-A50D-CC4A940F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7FF6-1547-463E-AE68-2515DF8E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0D50-7BDD-4646-ABDB-5F59D7FA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8579-C82C-465F-8F6C-0821D621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ED1A-29CA-490B-917B-F59884E4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58A-446A-4044-8C74-853C0042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F6B-B2F3-4654-8954-A4C357C8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A7C-AF45-4417-83A3-8EF6D7DA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E68-7E26-4F5F-87BE-335AD41A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743-B700-45B6-9982-BF44C183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F4C-B1FB-4560-884C-652E469C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620-E765-4DC0-8685-F0B57D87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BABD-6AB7-415C-AC4E-09783EEE7F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Chalkboard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eaeaea"/>
                    </a:solidFill>
                    <a:latin typeface="Chalkboard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eaeaea"/>
                  </a:solidFill>
                  <a:latin typeface="Chalkboar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halkboar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88A5-CFC8-4E19-985D-9D22AB0581B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Food Born Illnes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YOU could be next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ORTANT vocabulary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Cross Contamin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moving bacteria from one source to anoth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Vector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sponsible party (object, machine) that actually carries the bacteria from source to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Host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original source of contamina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ll the same symptoms as Salmonella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US you CAN have….bloody diarrhea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 children under 5 years old &amp; in the elderly it can cause kidney failure, &amp; destroy red blood cells - RARE, only 2-7% of case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E.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usually lasts 5-10 day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ost people recover w/out antibiotic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-5482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ould NOT use anti-diarrhea medication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keeps BAC in body &amp; allows BAC to grow in warm, moist, conditions (&amp; the BAC has lots of nutrients!) so it GROWS!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-305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ok all meat we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. Use meat thermome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.  Thickest part of meat should be -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60° - bee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170° - poul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.  If you don’t have a meat thermometer, cut into center of meat &amp; make sure it is NOT pink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9568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ep raw meats separate from ready-to-eat foods (salads, breads etc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sh hands, counter &amp; utensils with hot, soapy water after touching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53240" indent="-45324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ver place cooked meat on the same plate that held raw me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revention (continued)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28600" y="6854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rink only pasteurized milk and juice.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- Products that have been pasteurized…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 Will say “pasteurized”  on the labe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 May be sold at room temperatur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495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fruits &amp; vegetables well (dry with paper towel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ash hands after using restroom or changing diapers to reduce risk of spreading infection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What is food born illness?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llness resulting from eating food contaminated w/ a bacteria or viru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ay cause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outbreaks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where many people become sick, with the same illness at the same time. (about 10% of a population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 Usually contaminated food comes from a location away from home (restaurant, baseball game etc.)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pidemiology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tracking of outbreaks of illness (not always food illness) to discover where the original source of contamination came from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y?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 PREVENT it from happening again!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-3812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almonell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any types live in poultry &amp; swine (birds &amp; pigs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Can be found in environm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wat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soi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. insec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. animal fec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495680" y="1142640"/>
            <a:ext cx="46483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meats, egg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1 in every 3 eggs is contaminated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Illness can be avoided if eggs are cooked properly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Conditions BAC need to liv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armth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isture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Nutrient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 factors that kill BAC!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heat</a:t>
            </a:r>
            <a:r>
              <a:rPr b="0" lang="en-US" sz="4000" spc="-1" strike="noStrike">
                <a:solidFill>
                  <a:srgbClr val="ea0b1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(this is BEST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treme col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Pasteurization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- a heat treatment used to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"/>
              </a:rPr>
              <a:t>kill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bacteria.  (commonly used with milk &amp; juice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ymptoms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Naus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Vomit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omach cramp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iarrhea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Headach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AN be fatal - RARE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fter Ingestion of bacteria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ll be sick within 6-72 hours after eating contaminated food.  (NOT usually sick immediately after eating!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ymptoms usually last 4-7 day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st recover without antibiotic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iarrhea can be severe enough to hospitalize person (dehydration)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. coli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572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spcBef>
                <a:spcPts val="901"/>
              </a:spcBef>
              <a:buClr>
                <a:srgbClr val="ccecff"/>
              </a:buClr>
              <a:buSzPct val="11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acteria that produces a powerful toxin &amp; can cause severe illnes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1. Most strains harmles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58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. Live in intestines of healthy humans &amp; animal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43040" y="990720"/>
            <a:ext cx="4800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3. Found in undercooked ground beef &amp; non-pasteurized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A. Meat can become contaminated during cattle slaughter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B. Bacteria on cow’s udders or on equipment can get into milk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4:45:42Z</dcterms:created>
  <dc:creator>Wydown Middle School</dc:creator>
  <dc:description/>
  <dc:language>en-US</dc:language>
  <cp:lastModifiedBy>LEGION2</cp:lastModifiedBy>
  <cp:lastPrinted>2008-07-28T19:25:33Z</cp:lastPrinted>
  <dcterms:modified xsi:type="dcterms:W3CDTF">2016-01-14T09:20:23Z</dcterms:modified>
  <cp:revision>17</cp:revision>
  <dc:subject/>
  <dc:title>Food Born Illness</dc:title>
</cp:coreProperties>
</file>