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46D0-AE71-46D6-8B43-7B07EF02D8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66C-CFDD-4D9A-B7EA-C5DE3696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DC2-35DB-48D5-8522-9FCD30CF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2D6-FA28-466B-AA71-B8D3FDCB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BE4-6648-4577-9F84-02B97A3C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17B9-DD11-45D0-9652-4D3102C6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4AE1-20B8-45E1-BCEA-C1CE2E63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31F5-00D5-4789-AF01-919B3925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D0C3-70C0-449D-B6F2-33F231D8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FADA-9183-49EF-B8E4-C4783A6C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22B2-FA2E-4E0D-B138-A6FEA39B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2239-BBE2-4CFE-AF83-2B61538B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7ED-B916-4240-BAD8-5E29188D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D7B3-62F9-4358-B651-0F859484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ABFA-2991-42D7-A0D6-98635BB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8C24-701B-4C2C-975A-A9E169D7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989A-7C7F-4778-97D6-F0982833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8B3A-DF87-4E63-AB53-28D18978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0C0-0D29-4B14-A67F-E95CA38B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269-CE80-43B9-ADE7-A6537FCD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38F-AFDC-4D8D-8C68-18628F17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9F2-AFE8-48F3-9AC6-82FC0577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D27-1209-40E0-9862-11325F4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B69-E281-4A6D-8624-E5DF701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804-C864-48D9-9720-339D14BC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70ED-6A4F-4975-9DCC-F0FFC410FC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7378-FF16-4C48-9C79-40A14D28EBE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2</cp:lastModifiedBy>
  <dcterms:modified xsi:type="dcterms:W3CDTF">2016-01-14T09:17:36Z</dcterms:modified>
  <cp:revision>15</cp:revision>
  <dc:subject/>
  <dc:title>The Eye</dc:title>
</cp:coreProperties>
</file>