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9D3A-345E-4E1B-817E-6DBE015F1B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648-AC52-4293-AA2F-B7A36782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AEE-D4BA-4DAF-84E8-77F26506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9776-3244-4546-86F0-1091318A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02B2-029D-4384-A735-B17A6D44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5D3C-7931-4D3D-A151-C5A01916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EE13-3441-48DC-B996-1A26D028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2FE0-23B6-48A8-BBB6-54E2B487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9AB0-C098-4CD3-9572-163255AA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C7E6-23BC-45BF-A0E2-70CDED8B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FD77-284A-4B0E-8DF9-B27B8DD8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DB7F-2848-456F-86DB-ABA217E2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446-90CC-4CF4-8877-16E448B5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2FEE-50B5-46AF-83D1-839E34FB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6B52-DD14-4074-8089-B612C2A0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9D6F-8309-439E-907F-9131840F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E136-A340-4F99-B2A0-F004314D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348F-D8EC-4EE1-BBC9-1812CE19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1CB-1564-4697-B0A3-71882939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5AE-D3A2-437F-8418-B1068A20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D74-FDF4-4E40-B9B0-6F72E280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5C88-CF11-4952-A110-A6926750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80F8-7B44-4727-9885-AED4B273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BEA-5935-4EA5-941A-9A4A2273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FA31-29F1-46F8-9708-66EE4A51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F559-63A2-4283-B675-7F1AAD8AC1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8670-0DF0-4231-A11B-326613B5B84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1029" descr="Eye Brain"/>
          <p:cNvPicPr/>
          <p:nvPr/>
        </p:nvPicPr>
        <p:blipFill>
          <a:blip r:embed="rId1"/>
          <a:stretch/>
        </p:blipFill>
        <p:spPr>
          <a:xfrm>
            <a:off x="2438280" y="380880"/>
            <a:ext cx="601992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1"/>
          <p:cNvSpPr/>
          <p:nvPr/>
        </p:nvSpPr>
        <p:spPr>
          <a:xfrm>
            <a:off x="304920" y="2209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stance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eyeparts"/>
          <p:cNvPicPr/>
          <p:nvPr/>
        </p:nvPicPr>
        <p:blipFill>
          <a:blip r:embed="rId1"/>
          <a:stretch/>
        </p:blipFill>
        <p:spPr>
          <a:xfrm>
            <a:off x="3886200" y="1981080"/>
            <a:ext cx="4724280" cy="40388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anging lens thick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181480" y="990720"/>
            <a:ext cx="3962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eye lens move"/>
          <p:cNvPicPr/>
          <p:nvPr/>
        </p:nvPicPr>
        <p:blipFill>
          <a:blip r:embed="rId1"/>
          <a:stretch/>
        </p:blipFill>
        <p:spPr>
          <a:xfrm>
            <a:off x="1447920" y="2895480"/>
            <a:ext cx="61722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trolling light lev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eye front pic"/>
          <p:cNvPicPr/>
          <p:nvPr/>
        </p:nvPicPr>
        <p:blipFill>
          <a:blip r:embed="rId1"/>
          <a:stretch/>
        </p:blipFill>
        <p:spPr>
          <a:xfrm>
            <a:off x="3809880" y="2743200"/>
            <a:ext cx="510552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 pupil"/>
          <p:cNvPicPr/>
          <p:nvPr/>
        </p:nvPicPr>
        <p:blipFill>
          <a:blip r:embed="rId2"/>
          <a:stretch/>
        </p:blipFill>
        <p:spPr>
          <a:xfrm>
            <a:off x="5562720" y="380880"/>
            <a:ext cx="1896840" cy="2133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brain proxom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819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photo brain eye"/>
          <p:cNvPicPr/>
          <p:nvPr/>
        </p:nvPicPr>
        <p:blipFill>
          <a:blip r:embed="rId1"/>
          <a:stretch/>
        </p:blipFill>
        <p:spPr>
          <a:xfrm>
            <a:off x="4076640" y="609480"/>
            <a:ext cx="407664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oss s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438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0" descr="eye2"/>
          <p:cNvPicPr/>
          <p:nvPr/>
        </p:nvPicPr>
        <p:blipFill>
          <a:blip r:embed="rId1"/>
          <a:stretch/>
        </p:blipFill>
        <p:spPr>
          <a:xfrm>
            <a:off x="3429000" y="10666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– receives th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retina"/>
          <p:cNvPicPr/>
          <p:nvPr/>
        </p:nvPicPr>
        <p:blipFill>
          <a:blip r:embed="rId1"/>
          <a:stretch/>
        </p:blipFill>
        <p:spPr>
          <a:xfrm>
            <a:off x="3505320" y="1752480"/>
            <a:ext cx="487656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71500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recep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48160" y="213336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eye retina receptor"/>
          <p:cNvPicPr/>
          <p:nvPr/>
        </p:nvPicPr>
        <p:blipFill>
          <a:blip r:embed="rId1"/>
          <a:stretch/>
        </p:blipFill>
        <p:spPr>
          <a:xfrm>
            <a:off x="609480" y="190512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 on obje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5" descr="eye focus"/>
          <p:cNvPicPr/>
          <p:nvPr/>
        </p:nvPicPr>
        <p:blipFill>
          <a:blip r:embed="rId1"/>
          <a:stretch/>
        </p:blipFill>
        <p:spPr>
          <a:xfrm>
            <a:off x="3809880" y="9907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38680" y="18284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eye xsect focus"/>
          <p:cNvPicPr/>
          <p:nvPr/>
        </p:nvPicPr>
        <p:blipFill>
          <a:blip r:embed="rId1"/>
          <a:stretch/>
        </p:blipFill>
        <p:spPr>
          <a:xfrm>
            <a:off x="609480" y="1981080"/>
            <a:ext cx="4419720" cy="358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ending l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lens focus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22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Near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ye focus book"/>
          <p:cNvPicPr/>
          <p:nvPr/>
        </p:nvPicPr>
        <p:blipFill>
          <a:blip r:embed="rId1"/>
          <a:stretch/>
        </p:blipFill>
        <p:spPr>
          <a:xfrm>
            <a:off x="2971800" y="1828800"/>
            <a:ext cx="5905440" cy="39560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9:03:31Z</dcterms:created>
  <dc:creator>RM</dc:creator>
  <dc:description/>
  <dc:language>en-US</dc:language>
  <cp:lastModifiedBy>LEGION2</cp:lastModifiedBy>
  <dcterms:modified xsi:type="dcterms:W3CDTF">2016-01-14T09:17:36Z</dcterms:modified>
  <cp:revision>15</cp:revision>
  <dc:subject/>
  <dc:title>The Eye</dc:title>
</cp:coreProperties>
</file>