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jpeg" ContentType="image/jpeg"/>
  <Override PartName="/ppt/media/image11.gif" ContentType="image/gif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F75A-FA08-4107-8CE6-401677A61D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Y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ye is an extension of the b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ye is an extension of the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stance 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s enter the eye closer toge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 less ben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nner lens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s enter the eye closer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less be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ner le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ing lens thickn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is slightly elastic, its relaxed state is short and fa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lens thic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is slightly elastic, its relaxed state is short and f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olling light lev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r eye are very sensitive and can be damaged by harsh light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ing light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 are very sensitive and can be damaged by harsh ligh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ye brain proxom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you see 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optic nerve bundl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al cord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brain proxom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se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tic nerve bund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al cor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must know the position of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lero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lary musc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spensory liga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know the position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lero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lary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pensory liga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 – receives the im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ll of light receptors which are sensitive to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lev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ssive blood supply is also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vea is the main focal point and has greatest density of light recep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 – receives the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of light receptors which are sensitiv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ive blood supply is also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vea is the main focal point and has greatest density of light 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 recep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receptors are called rods and c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 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receptors are called rods and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ing on obj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and cornea focus the light on the ret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ing on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and cornea focus the light on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job is to make the rays hit the same poi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red rays will be out of 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job is to make the rays hit the same poi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d rays will be out of f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nding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s refracted and bent to focus it as it passes through the l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 thickness can be changed so the amount of bending is chang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d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refracted and bent to focus it as it passes through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 thickness can be changed so the amount of bending is 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 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bend the light more to focus 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t lens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nd the light more to focu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le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EDE3-F6E0-4025-8BD2-D0DE302A5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BD88-31FD-4F9E-B26A-60344E69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A154-9F71-4BBC-A8DE-14CB213DF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F3B9-42D8-437F-AA26-6CED52276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3035-0673-44AE-82F1-69A51A93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96E4-AB0D-4D08-A105-91E95528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C0D1-E4CF-464E-8BB9-9E0A830D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96D4-C015-48C7-A6C2-9FCFCEE3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1232-1669-43C4-9FD9-3542061F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3EB7-BBA2-4C14-AF15-873FD5DD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6640-4771-470A-8B81-EFDCC5CD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D440-EBF0-46B0-8AAA-69B912AD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DFF1-3C9E-42F0-B15D-DE906458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2A46-CD83-45CB-BACE-8FB11BB6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AA72-3078-4307-9435-F8446FC1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60FB-A7D5-42B6-A941-3E30231FF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418A-11AF-4E1F-8367-32AA5BDB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F2B6-FD53-4855-A996-06D398A8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C676-F86C-4131-B08F-DBE0D0B6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C1C1-11BB-48E1-B8C1-CD31AFCB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3FCC-4B05-4D78-A75D-C4B68BA3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78FF-0444-42CD-9AF4-FB318B3C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0F3B-22D9-436B-B1E7-1C145624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33A1-536B-4A4A-8856-B0F24E0E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671B-DF53-40BC-BC7E-D5510F2909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3DBB-5610-4D87-96BF-921C0070641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2057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Y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Picture 1029" descr="Eye Brain"/>
          <p:cNvPicPr/>
          <p:nvPr/>
        </p:nvPicPr>
        <p:blipFill>
          <a:blip r:embed="rId1"/>
          <a:stretch/>
        </p:blipFill>
        <p:spPr>
          <a:xfrm>
            <a:off x="2438280" y="380880"/>
            <a:ext cx="6019920" cy="5943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031"/>
          <p:cNvSpPr/>
          <p:nvPr/>
        </p:nvSpPr>
        <p:spPr>
          <a:xfrm>
            <a:off x="304920" y="22096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eye is an extension of the br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Distance vi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276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ays enter the eye closer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ed less be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nner lens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5" descr="eyeparts"/>
          <p:cNvPicPr/>
          <p:nvPr/>
        </p:nvPicPr>
        <p:blipFill>
          <a:blip r:embed="rId1"/>
          <a:stretch/>
        </p:blipFill>
        <p:spPr>
          <a:xfrm>
            <a:off x="3886200" y="1981080"/>
            <a:ext cx="4724280" cy="40388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hanging lens thickn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is slightly elastic, its relaxed state is short and f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181480" y="990720"/>
            <a:ext cx="39625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7" descr="eye lens move"/>
          <p:cNvPicPr/>
          <p:nvPr/>
        </p:nvPicPr>
        <p:blipFill>
          <a:blip r:embed="rId1"/>
          <a:stretch/>
        </p:blipFill>
        <p:spPr>
          <a:xfrm>
            <a:off x="1447920" y="2895480"/>
            <a:ext cx="6172200" cy="3429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trolling light leve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r eye are very sensitive and can be damaged by harsh ligh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eye front pic"/>
          <p:cNvPicPr/>
          <p:nvPr/>
        </p:nvPicPr>
        <p:blipFill>
          <a:blip r:embed="rId1"/>
          <a:stretch/>
        </p:blipFill>
        <p:spPr>
          <a:xfrm>
            <a:off x="3809880" y="2743200"/>
            <a:ext cx="5105520" cy="3886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eye pupil"/>
          <p:cNvPicPr/>
          <p:nvPr/>
        </p:nvPicPr>
        <p:blipFill>
          <a:blip r:embed="rId2"/>
          <a:stretch/>
        </p:blipFill>
        <p:spPr>
          <a:xfrm>
            <a:off x="5562720" y="380880"/>
            <a:ext cx="1896840" cy="21337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ye brain proxom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8195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you see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ptic nerve bund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inal c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4" descr="photo brain eye"/>
          <p:cNvPicPr/>
          <p:nvPr/>
        </p:nvPicPr>
        <p:blipFill>
          <a:blip r:embed="rId1"/>
          <a:stretch/>
        </p:blipFill>
        <p:spPr>
          <a:xfrm>
            <a:off x="4076640" y="609480"/>
            <a:ext cx="4076640" cy="57913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ross se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243864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You must know the position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Re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rn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clero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ptic ner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ilary musc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uspensory liga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10" descr="eye2"/>
          <p:cNvPicPr/>
          <p:nvPr/>
        </p:nvPicPr>
        <p:blipFill>
          <a:blip r:embed="rId1"/>
          <a:stretch/>
        </p:blipFill>
        <p:spPr>
          <a:xfrm>
            <a:off x="3429000" y="1066680"/>
            <a:ext cx="5029200" cy="48769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tina – receives the ima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ull of light receptors which are sensitive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lo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ght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ssive blood supply is also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5" descr="retina"/>
          <p:cNvPicPr/>
          <p:nvPr/>
        </p:nvPicPr>
        <p:blipFill>
          <a:blip r:embed="rId1"/>
          <a:stretch/>
        </p:blipFill>
        <p:spPr>
          <a:xfrm>
            <a:off x="3505320" y="1752480"/>
            <a:ext cx="4876560" cy="39625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5715000" y="41911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ovea is the main focal point and has greatest density of light recep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tina recep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48160" y="2133360"/>
            <a:ext cx="2514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ght receptors are called rods and c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4" descr="eye retina receptor"/>
          <p:cNvPicPr/>
          <p:nvPr/>
        </p:nvPicPr>
        <p:blipFill>
          <a:blip r:embed="rId1"/>
          <a:stretch/>
        </p:blipFill>
        <p:spPr>
          <a:xfrm>
            <a:off x="609480" y="1905120"/>
            <a:ext cx="5486400" cy="38862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ocusing on objec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2743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and cornea focus the light on the ret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5" descr="eye focus"/>
          <p:cNvPicPr/>
          <p:nvPr/>
        </p:nvPicPr>
        <p:blipFill>
          <a:blip r:embed="rId1"/>
          <a:stretch/>
        </p:blipFill>
        <p:spPr>
          <a:xfrm>
            <a:off x="3809880" y="9907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ocus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38680" y="1828440"/>
            <a:ext cx="2819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job is to make the rays hit the same poi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red rays will be out of fo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5" descr="eye xsect focus"/>
          <p:cNvPicPr/>
          <p:nvPr/>
        </p:nvPicPr>
        <p:blipFill>
          <a:blip r:embed="rId1"/>
          <a:stretch/>
        </p:blipFill>
        <p:spPr>
          <a:xfrm>
            <a:off x="609480" y="1981080"/>
            <a:ext cx="4419720" cy="358164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Bending ligh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ght is refracted and bent to focus it as it passes through the le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ns thickness can be changed so the amount of bending is chan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6" descr="lens focus"/>
          <p:cNvPicPr/>
          <p:nvPr/>
        </p:nvPicPr>
        <p:blipFill>
          <a:blip r:embed="rId1"/>
          <a:stretch/>
        </p:blipFill>
        <p:spPr>
          <a:xfrm>
            <a:off x="4648320" y="1905120"/>
            <a:ext cx="3809880" cy="31226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Near vi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2590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o bend the light more to focus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at lens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6" descr="eye focus book"/>
          <p:cNvPicPr/>
          <p:nvPr/>
        </p:nvPicPr>
        <p:blipFill>
          <a:blip r:embed="rId1"/>
          <a:stretch/>
        </p:blipFill>
        <p:spPr>
          <a:xfrm>
            <a:off x="2971800" y="1828800"/>
            <a:ext cx="5905440" cy="39560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09:03:31Z</dcterms:created>
  <dc:creator>RM</dc:creator>
  <dc:description/>
  <dc:language>en-US</dc:language>
  <cp:lastModifiedBy>LEGION2</cp:lastModifiedBy>
  <dcterms:modified xsi:type="dcterms:W3CDTF">2016-01-14T09:17:36Z</dcterms:modified>
  <cp:revision>15</cp:revision>
  <dc:subject/>
  <dc:title>The Eye</dc:title>
</cp:coreProperties>
</file>