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542C-6088-4C31-AFD5-55A8CF0917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7A4-4AA0-4263-B864-15A5CAFC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85F-C96C-46B1-889A-973F5BF7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EAA-FC28-47CD-B19B-F6997B8A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9B9C-B09C-4776-8B9B-BC77DE5A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BF7-8451-42DE-AE31-E48BD9AA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65F-8113-43DE-9B42-8AD6478E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2B8-0B86-4495-AA4C-DBC16AFF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3A9D-5969-4312-8C6B-B6E06C65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D2D-2AB0-4045-A441-97242A51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913-99B6-4A66-8C01-233A34B5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2F2-99B2-4B92-A880-B1B20346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829-4D70-4F07-BB7D-22B404F2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1DB9-876B-48D5-911C-CDA9870AB1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77C5-A950-40ED-98EC-3525F73E7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11548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c00000"/>
                </a:solidFill>
                <a:latin typeface="Calibri"/>
              </a:rPr>
              <a:t>EVERYTHING YOU EVER WANTED TO KNOW ABOUT HEAR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491px-Heart_left-highlight_jon_01_svg.png"/>
          <p:cNvPicPr/>
          <p:nvPr/>
        </p:nvPicPr>
        <p:blipFill>
          <a:blip r:embed="rId1"/>
          <a:stretch/>
        </p:blipFill>
        <p:spPr>
          <a:xfrm>
            <a:off x="6215040" y="4000680"/>
            <a:ext cx="2766960" cy="23968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he heart is a hollow musc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divided into four sections called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wo chambers are on the left and right si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Each side has an upper and lower chamb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heart_chambers.jpg"/>
          <p:cNvPicPr/>
          <p:nvPr/>
        </p:nvPicPr>
        <p:blipFill>
          <a:blip r:embed="rId1"/>
          <a:stretch/>
        </p:blipFill>
        <p:spPr>
          <a:xfrm>
            <a:off x="1962000" y="1600200"/>
            <a:ext cx="52200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6" descr="ei_0329.gif"/>
          <p:cNvPicPr/>
          <p:nvPr/>
        </p:nvPicPr>
        <p:blipFill>
          <a:blip r:embed="rId1"/>
          <a:stretch/>
        </p:blipFill>
        <p:spPr>
          <a:xfrm>
            <a:off x="2071800" y="1428840"/>
            <a:ext cx="5357880" cy="4357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EART"/>
          <p:cNvPicPr/>
          <p:nvPr/>
        </p:nvPicPr>
        <p:blipFill>
          <a:blip r:embed="rId1"/>
          <a:stretch/>
        </p:blipFill>
        <p:spPr>
          <a:xfrm>
            <a:off x="2627280" y="1341360"/>
            <a:ext cx="380988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rio-ventricular valv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(AV valves) that prevent blood in the ventricles from flowing back into the at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miluna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half moon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ar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ulmonary and aortic 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found at the entrance of the pulmonary artery and aorta resp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2571840" y="1643040"/>
            <a:ext cx="4214880" cy="4500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4:22:27Z</dcterms:created>
  <dc:creator>Corporate Edition</dc:creator>
  <dc:description/>
  <dc:language>en-US</dc:language>
  <cp:lastModifiedBy>LEGION2</cp:lastModifiedBy>
  <dcterms:modified xsi:type="dcterms:W3CDTF">2016-01-14T09:15:29Z</dcterms:modified>
  <cp:revision>13</cp:revision>
  <dc:subject/>
  <dc:title>Slide 1</dc:title>
</cp:coreProperties>
</file>