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0325-91CB-455E-98AB-080C86C8B1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D30-1392-4C07-B483-911876E5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C80-2D2E-4019-98CC-992470B0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C13-96AD-4741-9CF5-0EE25EC1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C53-8774-4D19-A0AF-8E153400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3C1-DAD6-4942-AB0D-02519858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476-6DA4-41AE-9BB3-BA89B644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AAB-272C-41E5-8A8E-EC4F8030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B8C-EC51-4C75-A3F1-5B07E244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41C-F651-4EC1-8441-756863BF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96E-9377-4793-87ED-BFE6A4C5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34E-FDA1-4392-9330-D1246E1D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F05-F750-4281-A851-F37F8AA1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9D4E-46BA-4B4C-BBDE-73AD709D12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F027-550A-4664-9503-5C1C590DF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11548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c00000"/>
                </a:solidFill>
                <a:latin typeface="Calibri"/>
              </a:rPr>
              <a:t>EVERYTHING YOU EVER WANTED TO KNOW ABOUT HEAR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491px-Heart_left-highlight_jon_01_svg.png"/>
          <p:cNvPicPr/>
          <p:nvPr/>
        </p:nvPicPr>
        <p:blipFill>
          <a:blip r:embed="rId1"/>
          <a:stretch/>
        </p:blipFill>
        <p:spPr>
          <a:xfrm>
            <a:off x="6215040" y="4000680"/>
            <a:ext cx="2766960" cy="23968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he heart is a hollow musc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divided into four sections called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wo chambers are on the left and right si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Each side has an upper and lower chamb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heart_chambers.jpg"/>
          <p:cNvPicPr/>
          <p:nvPr/>
        </p:nvPicPr>
        <p:blipFill>
          <a:blip r:embed="rId1"/>
          <a:stretch/>
        </p:blipFill>
        <p:spPr>
          <a:xfrm>
            <a:off x="1962000" y="1600200"/>
            <a:ext cx="52200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6" descr="ei_0329.gif"/>
          <p:cNvPicPr/>
          <p:nvPr/>
        </p:nvPicPr>
        <p:blipFill>
          <a:blip r:embed="rId1"/>
          <a:stretch/>
        </p:blipFill>
        <p:spPr>
          <a:xfrm>
            <a:off x="2071800" y="1428840"/>
            <a:ext cx="5357880" cy="4357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EART"/>
          <p:cNvPicPr/>
          <p:nvPr/>
        </p:nvPicPr>
        <p:blipFill>
          <a:blip r:embed="rId1"/>
          <a:stretch/>
        </p:blipFill>
        <p:spPr>
          <a:xfrm>
            <a:off x="2627280" y="1341360"/>
            <a:ext cx="380988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rio-ventricular valv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(AV valves) that prevent blood in the ventricles from flowing back into the at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miluna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half moon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ar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ulmonary and aortic 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found at the entrance of the pulmonary artery and aorta resp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2571840" y="1643040"/>
            <a:ext cx="4214880" cy="4500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4:22:27Z</dcterms:created>
  <dc:creator>Corporate Edition</dc:creator>
  <dc:description/>
  <dc:language>en-US</dc:language>
  <cp:lastModifiedBy>LEGION2</cp:lastModifiedBy>
  <dcterms:modified xsi:type="dcterms:W3CDTF">2016-01-14T09:15:29Z</dcterms:modified>
  <cp:revision>13</cp:revision>
  <dc:subject/>
  <dc:title>Slide 1</dc:title>
</cp:coreProperties>
</file>