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CB8A-ED6F-4EBE-AB9F-686D6BE3C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ercentage to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ercentage to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O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P2O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O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P2O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ffeine is 49.48% C, 5.15% H, 28.87% N and 16.49% O. What is its empirical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ffeine is 49.48% C, 5.15% H, 28.87% N and 16.49% O. What is its empirical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.48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5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.87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49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.1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.2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.2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o wh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we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is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(1mol 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ati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n’t ch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.48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5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.87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49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.1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.2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.2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o wh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we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is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(1mol 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ati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n’t ch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4.12H5.15N2.1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mpirical mass = 97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R  C4H5N2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4.12H5.15N2.1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mpirical mass = 97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R  C4H5N2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ical to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empirical formula is the lowest ratio the actual molecule would weigh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a whole number multi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the actual molar mass by the mass of one mole of the empirical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ffeine has a molar mass of 194 g. what is its molecular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ical to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empirical formula is the lowest ratio the actual molecule would weigh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a whole number multi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the actual molar mass by the mass of one mole of the empirical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ffeine has a molar mass of 194 g. what is its molecular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ind x i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94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7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4H5N2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8H10N4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ind x i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94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7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4H5N2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8H10N4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known to be composed of 71.65 % Cl, 24.27% C and 4.07% H. Its molar mass is known (from gas density) is known to be 98.96 g. What is its molecular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known to be composed of 71.65 % Cl, 24.27% C and 4.07% H. Its molar mass is known (from gas density) is known to be 98.96 g. What is its molecular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.65  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.27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07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1.65  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4.27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07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2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2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4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2C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(2mol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1C1H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2C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(2mol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1C1H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whole number ratio of elements in a comp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lecular formula the actual ratio of elements in a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can be the sa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2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H4 molecular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H6 molecular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whole number ratio of elements in a comp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lecular formula the actual ratio of elements in a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can be the sa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2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H4 molecular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H6 molecular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  Cl1C1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Cl2C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X   Cl1C1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 Cl2C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find the lowest whole number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6H12O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not just the ratio of atoms, it is also the ratio of moles of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 mole of CO2 there is 1 mole of carbon and 2 mole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ne molecule of CO2 there is 1 atom of C and 2 atoms of 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find the lowest whole number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6H12O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not just the ratio of atoms, it is also the ratio of moles of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 mole of CO2 there is 1 mole of carbon and 2 mole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ne molecule of CO2 there is 1 atom of C and 2 atoms of 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tend that you have a 100 gram sample of the comp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, change the % to 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the grams to mols for each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number of mols as a subscript in a chemical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each number by the least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tend that you have a 100 gram sample of the comp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, change the % to 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the grams to mols for each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number of mols as a subscript in a chemical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each number by the least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empirical formula of a compound composed of 38.67 % C, 16.22 % H, and 45.11 %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100 g 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8.67 g C  x   1mol C      = 3.220 mole 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01 g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22 g H x   1mol H      = 16.09 mole 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1 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.11 g N  x   1mol N    = 3.219 mole 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01 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empirical formula of a compound composed of 38.67 % C, 16.22 % H, and 45.11 %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100 g 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8.67 g C  x   1mol C      = 3.220 mole 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01 g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22 g H x   1mol H      = 16.09 mole 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1 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.11 g N  x   1mol N    = 3.219 mole 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01 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20 mole 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09 mole 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19 mole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.22H16.09N3.2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divide all of these by the small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It will give u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20 mole 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09 mole 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19 mole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.22H16.09N3.2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divide all of these by the small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It will give u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3.220 mol C  = 1 mol 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16.09 mol H  = 5 mol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H5N1 i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43.64 % P and 56.36 % O. What is the empirical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3.220 mol C  = 1 mol 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16.09 mol H  = 5 mol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H5N1 i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43.64 % P and 56.36 % O. What is the empirical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3.6 g P x   1mol P      = 1.4 mole 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30.97 g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6.36 g O  x   1mol O    = 3.5 mole 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16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.4O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3.6 g P x   1mol P      = 1.4 mole P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30.97 g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6.36 g O  x   1mol O    = 3.5 mole O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16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1.4O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both by the lowe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 3.52 mol O  = 2.5 mol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1.42 mol P      1 mol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.4O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O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both by the lowe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 3.52 mol O  = 2.5 mol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1.42 mol P      1 mol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.4O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O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FD4B-07B0-4A89-B84D-E93D4A7A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3640-1F30-4AB3-AA3C-5FB7C0BB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428E-C45F-44A5-A4FE-46FE31EA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E31B-05F6-4771-9EF7-959C53C2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B922-71AD-4026-A8E9-0EF6858D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DB1F-120B-406C-A1E2-BBBBA8EC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A97A-A866-4157-AAD7-FB615C6A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C3BE-9CB1-4401-ADBD-BCCBFC00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485E-F714-40CF-B8D1-065331FD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59D0-6302-4EE2-812F-18485369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AC1F-1D66-434C-B3AB-55067140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6A7E-DAA1-4C04-B7F2-41915A4A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797E-6871-4EAB-8724-A3638B800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percentage to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020400" y="2286000"/>
            <a:ext cx="1341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677960" y="23623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889160" y="2301840"/>
            <a:ext cx="1500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ffeine is 49.48% C, 5.15% H, 28.87% N and 16.49% O. What is its empirical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1981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9.48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15 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.87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.49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2438280" y="990720"/>
                <a:ext cx="10350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2209680" y="2590920"/>
                <a:ext cx="10350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6"/>
              <p:cNvSpPr txBox="1"/>
              <p:nvPr/>
            </p:nvSpPr>
            <p:spPr>
              <a:xfrm>
                <a:off x="2286000" y="4038480"/>
                <a:ext cx="10350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7"/>
              <p:cNvSpPr txBox="1"/>
              <p:nvPr/>
            </p:nvSpPr>
            <p:spPr>
              <a:xfrm>
                <a:off x="2362320" y="5410080"/>
                <a:ext cx="10350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Text Box 9"/>
          <p:cNvSpPr/>
          <p:nvPr/>
        </p:nvSpPr>
        <p:spPr>
          <a:xfrm>
            <a:off x="3796560" y="120816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4.1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3660120" y="289548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5.2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3660120" y="434340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.2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3583800" y="571500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.0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094800" y="4267080"/>
            <a:ext cx="262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they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e to w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s we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is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6024600" y="1143000"/>
            <a:ext cx="2885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st (1mol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rat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esn’t chan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117880" y="4227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286000" y="2895480"/>
            <a:ext cx="36576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.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.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110760" y="5322960"/>
            <a:ext cx="365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irical mass = 97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109960" y="4038480"/>
            <a:ext cx="289188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 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to molec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empirical formula is the lowest ratio the actual molecule would weigh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a whole number multi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the actual molar mass by the mass of one mole of the empirical form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ffeine has a molar mass of 194 g. what is its molecular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87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ind x 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2814480" y="1371600"/>
                <a:ext cx="458172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ola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mpiric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mu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Rectangle 7"/>
          <p:cNvSpPr/>
          <p:nvPr/>
        </p:nvSpPr>
        <p:spPr>
          <a:xfrm>
            <a:off x="4283640" y="3151080"/>
            <a:ext cx="1485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4 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7 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"/>
          <p:cNvSpPr/>
          <p:nvPr/>
        </p:nvSpPr>
        <p:spPr>
          <a:xfrm>
            <a:off x="3886200" y="38098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6615360" y="3494160"/>
            <a:ext cx="6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3253680" y="4648320"/>
            <a:ext cx="20552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3352680" y="5676840"/>
            <a:ext cx="3886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1890720" y="466416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ound is known to be composed of 71.65 % Cl, 24.27% C and 4.07% H. Its molar mass is known (from gas density) is known to be 98.96 g. What is its molecular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1.65 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.27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07 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2556000" y="1295280"/>
                <a:ext cx="125712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5"/>
              <p:cNvSpPr txBox="1"/>
              <p:nvPr/>
            </p:nvSpPr>
            <p:spPr>
              <a:xfrm>
                <a:off x="2209680" y="3276720"/>
                <a:ext cx="10350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6"/>
              <p:cNvSpPr txBox="1"/>
              <p:nvPr/>
            </p:nvSpPr>
            <p:spPr>
              <a:xfrm>
                <a:off x="2133720" y="5029200"/>
                <a:ext cx="10350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Text Box 7"/>
          <p:cNvSpPr/>
          <p:nvPr/>
        </p:nvSpPr>
        <p:spPr>
          <a:xfrm>
            <a:off x="4176720" y="1665360"/>
            <a:ext cx="15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0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735360" y="3454560"/>
            <a:ext cx="15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0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659040" y="5359320"/>
            <a:ext cx="15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0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46160" y="4952880"/>
            <a:ext cx="82166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4572000" y="18288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st (2mol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380880" y="2971800"/>
            <a:ext cx="87631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668160" y="3852720"/>
            <a:ext cx="816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146160" y="2438280"/>
            <a:ext cx="82166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80880" y="457200"/>
            <a:ext cx="87631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668160" y="1338120"/>
            <a:ext cx="816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9"/>
              <p:cNvSpPr txBox="1"/>
              <p:nvPr/>
            </p:nvSpPr>
            <p:spPr>
              <a:xfrm>
                <a:off x="0" y="4799160"/>
                <a:ext cx="42670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ola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mpiric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mu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1"/>
              <p:cNvSpPr txBox="1"/>
              <p:nvPr/>
            </p:nvSpPr>
            <p:spPr>
              <a:xfrm>
                <a:off x="4800600" y="4495680"/>
                <a:ext cx="215892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Text Box 12"/>
          <p:cNvSpPr/>
          <p:nvPr/>
        </p:nvSpPr>
        <p:spPr>
          <a:xfrm>
            <a:off x="6936120" y="4908600"/>
            <a:ext cx="79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345200" y="51055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mpirical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west whole number ratio of elements in a comp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lecular formula the actual ratio of elements in a 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wo can be the sa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mpirical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lecular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lecular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3657600" y="2590920"/>
            <a:ext cx="3560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X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4072320" y="3657600"/>
            <a:ext cx="22388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 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find the lowest whole number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not just the ratio of atoms, it is also the ratio of moles of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 mole of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1 mole of carbon and 2 moles of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ne molecule of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re is 1 atom of C and 2 atoms of 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end that you have a 100 gram sample of the comp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, change the % to 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the grams to mols for each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number of mols as a subscript in a chemical form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each number by the least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empirical formula of a compound composed of 38.67 % C, 16.22 % H, and 45.11 %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100 g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.67 g C  x   1mol C      = 3.220 mole 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01 g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.22 g H x   1mol H      = 16.09 mole 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01 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.11 g N  x   1mol N    = 3.219 mole 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.01 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>
            <a:off x="3276720" y="385776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3276720" y="484812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3252960" y="584820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20 mole 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.09 mole 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19 mol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905120" y="3886200"/>
            <a:ext cx="53323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3.2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16.09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3.21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03840" y="5181480"/>
            <a:ext cx="816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we divide all of these by the small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e It will give us the empirical form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 flipH="1" flipV="1">
            <a:off x="3505320" y="4647960"/>
            <a:ext cx="3581280" cy="685800"/>
          </a:xfrm>
          <a:prstGeom prst="line">
            <a:avLst/>
          </a:prstGeom>
          <a:ln w="5724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tio is 3.220 mol C  = 1 mol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tio is 16.09 mol H  = 5 mol 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mpirical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ound is 43.64 % P and 56.36 % O. What is the empirical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024360" y="1809720"/>
            <a:ext cx="2538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 flipV="1">
            <a:off x="6072120" y="1828440"/>
            <a:ext cx="1548000" cy="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2976480" y="2833560"/>
            <a:ext cx="2538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 flipV="1">
            <a:off x="6024600" y="2852640"/>
            <a:ext cx="1547640" cy="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.6 g P x   1mol P      = 1.4 mole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30.97 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.36 g O  x   1mol O    = 3.5 mole 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16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3124080" y="2133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3276720" y="3200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2971800" y="4495680"/>
            <a:ext cx="172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.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e both by the lowest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20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tio is  3.52 mol O  = 2.5 mol 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1.42 mol P      1 mol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819520" y="1981080"/>
            <a:ext cx="1981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.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3276720" y="373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5638680" y="373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3553920" y="5029200"/>
            <a:ext cx="1341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7T21:28:05Z</dcterms:created>
  <dc:creator>gpurdum</dc:creator>
  <dc:description/>
  <dc:language>en-US</dc:language>
  <cp:lastModifiedBy>RomaK</cp:lastModifiedBy>
  <dcterms:modified xsi:type="dcterms:W3CDTF">2015-09-01T16:23:42Z</dcterms:modified>
  <cp:revision>14</cp:revision>
  <dc:subject/>
  <dc:title>Empirical Formula</dc:title>
</cp:coreProperties>
</file>