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2089-6A70-4E17-AA85-D7B276A3F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FF8-6431-4253-81B7-997B9B39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BEA-34DF-47C5-ADB2-FB95E000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7AE-CE5A-46C5-9B90-407ECEE9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FA9-FC3F-4625-8FE5-037B44E0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EC1-ACC5-4043-998D-F81BF312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D23-57C6-4408-81EB-68AEC413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0C5-12C1-4C0F-BF41-886D58E6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1F3-915C-4EDB-87D6-D4EE6DDA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673-4620-4CCD-9BBA-0661BAB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593-40E9-4E8A-81FC-DA4EC749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CFA-FD5C-4C44-83E5-6B8CC4E8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136-C5F9-4866-B8B6-0FA27B91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9C9B-4C12-49CF-BDFA-322B100E3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20400" y="22860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7960" y="2362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9160" y="2301840"/>
            <a:ext cx="150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198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38280" y="990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09680" y="25909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286000" y="40384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2362320" y="54100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9"/>
          <p:cNvSpPr/>
          <p:nvPr/>
        </p:nvSpPr>
        <p:spPr>
          <a:xfrm>
            <a:off x="3796560" y="120816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60120" y="28954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660120" y="43434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583800" y="5715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094800" y="4267080"/>
            <a:ext cx="262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024600" y="1143000"/>
            <a:ext cx="288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1788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86000" y="2895480"/>
            <a:ext cx="365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.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110760" y="532296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109960" y="4038480"/>
            <a:ext cx="289188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d x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814480" y="1371600"/>
                <a:ext cx="4581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4283640" y="3151080"/>
            <a:ext cx="148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88620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15360" y="349416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53680" y="4648320"/>
            <a:ext cx="2055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352680" y="5676840"/>
            <a:ext cx="38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890720" y="46641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556000" y="1295280"/>
                <a:ext cx="1257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209680" y="3276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133720" y="502920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7"/>
          <p:cNvSpPr/>
          <p:nvPr/>
        </p:nvSpPr>
        <p:spPr>
          <a:xfrm>
            <a:off x="4176720" y="16653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35360" y="34545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659040" y="535932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46160" y="49528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572000" y="1828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9718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8160" y="38527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6160" y="24382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0880" y="4572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8160" y="1338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0" y="4799160"/>
                <a:ext cx="4267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4800600" y="4495680"/>
                <a:ext cx="2158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6936120" y="490860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34520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57600" y="2590920"/>
            <a:ext cx="3560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072320" y="3657600"/>
            <a:ext cx="2238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 mo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1 mole of carbon and 2 mole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molecu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is 1 atom of C and 2 atoms of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3276720" y="38577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76720" y="4848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252960" y="58482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905120" y="3886200"/>
            <a:ext cx="5332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6.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03840" y="51814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 flipV="1">
            <a:off x="3505320" y="4647960"/>
            <a:ext cx="3581280" cy="6858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24360" y="180972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6072120" y="1828440"/>
            <a:ext cx="15480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976480" y="283356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24600" y="2852640"/>
            <a:ext cx="154764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12408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76720" y="3200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971800" y="4495680"/>
            <a:ext cx="172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19520" y="1981080"/>
            <a:ext cx="19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27672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563868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553920" y="50292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1:28:05Z</dcterms:created>
  <dc:creator>gpurdum</dc:creator>
  <dc:description/>
  <dc:language>en-US</dc:language>
  <cp:lastModifiedBy>RomaK</cp:lastModifiedBy>
  <dcterms:modified xsi:type="dcterms:W3CDTF">2015-09-01T16:23:42Z</dcterms:modified>
  <cp:revision>14</cp:revision>
  <dc:subject/>
  <dc:title>Empirical Formula</dc:title>
</cp:coreProperties>
</file>