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8F497-AEF8-4CEA-A1AB-A47DD64D92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pirical Form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percentage to form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54160" y="693720"/>
            <a:ext cx="4549680" cy="341316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pirical Form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percentage to form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y the result to get rid of any fra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1O2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P2O5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y the result to get rid of any fra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1O2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P2O5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ffeine is 49.48% C, 5.15% H, 28.87% N and 16.49% O. What is its empirical formula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ffeine is 49.48% C, 5.15% H, 28.87% N and 16.49% O. What is its empirical formula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9.48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15 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8.87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.49 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4.1m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5.2m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2.2m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1.0m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ce they 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se to who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s we wi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this form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ivide b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est (1mol 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rati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esn’t chang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9.48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15 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8.87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.49 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4.1m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5.2m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2.2m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1.0m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ce they 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se to who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s we wi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this form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ivide b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est (1mol 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rati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esn’t chang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4.12H5.15N2.1O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empirical mass = 97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OR  C4H5N2O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4.12H5.15N2.1O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empirical mass = 97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OR  C4H5N2O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pirical to molecul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ce the empirical formula is the lowest ratio the actual molecule would weigh mo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a whole number multip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vide the actual molar mass by the mass of one mole of the empirical formul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ffeine has a molar mass of 194 g. what is its molecular formula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54160" y="693720"/>
            <a:ext cx="4549680" cy="341316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pirical to molecul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ce the empirical formula is the lowest ratio the actual molecule would weigh mo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a whole number multip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vide the actual molar mass by the mass of one mole of the empirical formul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ffeine has a molar mass of 194 g. what is its molecular formula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Find x i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94 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97 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=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4H5N2O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8H10N4O2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2 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Find x i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94 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97 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=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4H5N2O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8H10N4O2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2 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ompound is known to be composed of 71.65 % Cl, 24.27% C and 4.07% H. Its molar mass is known (from gas density) is known to be 98.96 g. What is its molecular formula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54160" y="693720"/>
            <a:ext cx="4549680" cy="341316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ompound is known to be composed of 71.65 % Cl, 24.27% C and 4.07% H. Its molar mass is known (from gas density) is known to be 98.96 g. What is its molecular formula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1.65  C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4.27C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07 H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2.0m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2.0m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4.0m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54160" y="693720"/>
            <a:ext cx="4549680" cy="341316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71.65  C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4.27C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4.07 H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= 2.0m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= 2.0m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= 4.0m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2C2H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s molar mass is known (from gas density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known to be 98.96 g. What is its molecul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ula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ivide b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est (2mol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1C1H2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uld give an empirical wt of 48.5g/m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2C2H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s molar mass is known (from gas density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known to be 98.96 g. What is its molecul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ula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ivide b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est (2mol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1C1H2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uld give an empirical wt of 48.5g/m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s molar mass is known (from gas density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known to be 98.96 g. What is its molecul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ula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uld give an empirical wt of 48.5g/m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s molar mass is known (from gas density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known to be 98.96 g. What is its molecul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ula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uld give an empirical wt of 48.5g/m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mpirical Form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owest whole number ratio of elements in a compou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lecular formula the actual ratio of elements in a compo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wo can be the sam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2 empirical form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2H4 molecular form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3H6 molecular form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2O bo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54160" y="693720"/>
            <a:ext cx="4549680" cy="341316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mpirical Form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owest whole number ratio of elements in a compou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lecular formula the actual ratio of elements in a compo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wo can be the sam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2 empirical form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2H4 molecular form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3H6 molecular form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2O bo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X   Cl1C1H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 Cl2C2H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 X   Cl1C1H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=  Cl2C2H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ulating Empir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st find the lowest whole number rat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6H12O6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4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not just the ratio of atoms, it is also the ratio of moles of at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1 mole of CO2 there is 1 mole of carbon and 2 moles of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one molecule of CO2 there is 1 atom of C and 2 atoms of 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54160" y="693720"/>
            <a:ext cx="4549680" cy="341316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ulating Empir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st find the lowest whole number rat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6H12O6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4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not just the ratio of atoms, it is also the ratio of moles of at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1 mole of CO2 there is 1 mole of carbon and 2 moles of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one molecule of CO2 there is 1 atom of C and 2 atoms of 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ulating Empir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tend that you have a 100 gram sample of the compou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t is, change the % to gra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vert the grams to mols for each ele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the number of mols as a subscript in a chemical formul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vide each number by the least numb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y the result to get rid of any fra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54160" y="693720"/>
            <a:ext cx="4549680" cy="341316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ulating Empir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tend that you have a 100 gram sample of the compou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t is, change the % to gra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vert the grams to mols for each ele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the number of mols as a subscript in a chemical formul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vide each number by the least numb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y the result to get rid of any fra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ulate the empirical formula of a compound composed of 38.67 % C, 16.22 % H, and 45.11 %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ume 100 g s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8.67 g C  x   1mol C      = 3.220 mole C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.01 gC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.22 g H x   1mol H      = 16.09 mole H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01 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5.11 g N  x   1mol N    = 3.219 mole N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.01 g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54160" y="693720"/>
            <a:ext cx="4549680" cy="341316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ulate the empirical formula of a compound composed of 38.67 % C, 16.22 % H, and 45.11 %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ume 100 g s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8.67 g C  x   1mol C      = 3.220 mole C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.01 gC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.22 g H x   1mol H      = 16.09 mole H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01 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5.11 g N  x   1mol N    = 3.219 mole N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.01 g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220 mole C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.09 mole H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219 mole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3.22H16.09N3.2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we divide all of these by the small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It will give us the empirical form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220 mole C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.09 mole H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219 mole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3.22H16.09N3.2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we divide all of these by the small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It will give us the empirical form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atio is 3.220 mol C  = 1 mol 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3.219 molN      1 mol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atio is 16.09 mol H  = 5 mol 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3.219 molN      1 mol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1H5N1 is the empirical form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ompound is 43.64 % P and 56.36 % O. What is the empirical formula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54160" y="693720"/>
            <a:ext cx="4549680" cy="341316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atio is 3.220 mol C  = 1 mol 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3.219 molN      1 mol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atio is 16.09 mol H  = 5 mol 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3.219 molN      1 mol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1H5N1 is the empirical form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ompound is 43.64 % P and 56.36 % O. What is the empirical formula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3.6 g P x   1mol P      = 1.4 mole P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30.97 g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6.36 g O  x   1mol O    = 3.5 mole O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16 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1.4O3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43.6 g P x   1mol P      = 1.4 mole P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30.97 g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56.36 g O  x   1mol O    = 3.5 mole O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  16 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1.4O3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vide both by the lowest 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atio is  3.52 mol O  = 2.5 mol O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1.42 mol P      1 mol 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1.4O3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1O2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vide both by the lowest 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atio is  3.52 mol O  = 2.5 mol O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1.42 mol P      1 mol 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1.4O3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1O2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64319-CC03-456D-88B6-DC7D6277F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F78E2-18DF-42FD-9953-092B7B5ED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08F39-3129-40D2-9458-2D930A286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4BA7F-5285-465F-B925-3059F22E0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BBD41-928E-4D9C-AF5E-6C9B40316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75C86-8E8A-43CC-90AC-30A6B4500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FD984-463C-4058-AE63-B72309551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532FC-1683-48A6-B8BA-6737EA02F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A2CBB-B266-4D3C-9E36-F06A48A41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4895A-293D-4AA4-8326-DCC9CFEC2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44295-9CAC-4FD5-B64C-F505748C4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84763-0A25-49A5-A996-213F15A71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D6D85-E8AA-4C91-83D7-64D3AC8F5F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47572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mpirical Formu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858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percentage to formu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ply the result to get rid of any fr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3020400" y="2286000"/>
            <a:ext cx="134100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2.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1677960" y="2362320"/>
            <a:ext cx="71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7"/>
          <p:cNvSpPr/>
          <p:nvPr/>
        </p:nvSpPr>
        <p:spPr>
          <a:xfrm>
            <a:off x="4889160" y="2301840"/>
            <a:ext cx="150084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ffeine is 49.48% C, 5.15% H, 28.87% N and 16.49% O. What is its empirical formul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6840" y="1218960"/>
            <a:ext cx="19810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9.48 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15 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8.87 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6.49 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Object 4"/>
              <p:cNvSpPr txBox="1"/>
              <p:nvPr/>
            </p:nvSpPr>
            <p:spPr>
              <a:xfrm>
                <a:off x="2438280" y="990720"/>
                <a:ext cx="1035000" cy="121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mol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g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Object 5"/>
              <p:cNvSpPr txBox="1"/>
              <p:nvPr/>
            </p:nvSpPr>
            <p:spPr>
              <a:xfrm>
                <a:off x="2209680" y="2590920"/>
                <a:ext cx="1035000" cy="121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mol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g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" name="Object 6"/>
              <p:cNvSpPr txBox="1"/>
              <p:nvPr/>
            </p:nvSpPr>
            <p:spPr>
              <a:xfrm>
                <a:off x="2286000" y="4038480"/>
                <a:ext cx="1035000" cy="121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mol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t xml:space="preserve">g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Object 7"/>
              <p:cNvSpPr txBox="1"/>
              <p:nvPr/>
            </p:nvSpPr>
            <p:spPr>
              <a:xfrm>
                <a:off x="2362320" y="5410080"/>
                <a:ext cx="1035000" cy="121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mol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g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4" name="Text Box 9"/>
          <p:cNvSpPr/>
          <p:nvPr/>
        </p:nvSpPr>
        <p:spPr>
          <a:xfrm>
            <a:off x="3796560" y="1208160"/>
            <a:ext cx="155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4.1m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0"/>
          <p:cNvSpPr/>
          <p:nvPr/>
        </p:nvSpPr>
        <p:spPr>
          <a:xfrm>
            <a:off x="3660120" y="2895480"/>
            <a:ext cx="155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5.2m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1"/>
          <p:cNvSpPr/>
          <p:nvPr/>
        </p:nvSpPr>
        <p:spPr>
          <a:xfrm>
            <a:off x="3660120" y="4343400"/>
            <a:ext cx="155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2.2m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2"/>
          <p:cNvSpPr/>
          <p:nvPr/>
        </p:nvSpPr>
        <p:spPr>
          <a:xfrm>
            <a:off x="3583800" y="5715000"/>
            <a:ext cx="155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1.0m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3"/>
          <p:cNvSpPr/>
          <p:nvPr/>
        </p:nvSpPr>
        <p:spPr>
          <a:xfrm>
            <a:off x="6094800" y="4267080"/>
            <a:ext cx="2623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nce they 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ose to who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umbers we w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 this formu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4"/>
          <p:cNvSpPr/>
          <p:nvPr/>
        </p:nvSpPr>
        <p:spPr>
          <a:xfrm>
            <a:off x="6024600" y="1143000"/>
            <a:ext cx="28857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e divide b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west (1mol 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d rati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oesn’t chan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2117880" y="42274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5"/>
          <p:cNvSpPr/>
          <p:nvPr/>
        </p:nvSpPr>
        <p:spPr>
          <a:xfrm>
            <a:off x="2286000" y="2895480"/>
            <a:ext cx="365760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4.1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5.1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2.1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3110760" y="5322960"/>
            <a:ext cx="365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pirical mass = 97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7"/>
          <p:cNvSpPr/>
          <p:nvPr/>
        </p:nvSpPr>
        <p:spPr>
          <a:xfrm>
            <a:off x="2109960" y="4038480"/>
            <a:ext cx="2891880" cy="14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  C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mpirical to molecul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ce the empirical formula is the lowest ratio the actual molecule would weigh mo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a whole number multip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vide the actual molar mass by the mass of one mole of the empirical formul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ffeine has a molar mass of 194 g. what is its molecular formul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3" dur="8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4" dur="8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5" dur="8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5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0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5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Find x if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Object 4"/>
              <p:cNvSpPr txBox="1"/>
              <p:nvPr/>
            </p:nvSpPr>
            <p:spPr>
              <a:xfrm>
                <a:off x="2814480" y="1371600"/>
                <a:ext cx="4581720" cy="109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molar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empirical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formula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2" name="Rectangle 7"/>
          <p:cNvSpPr/>
          <p:nvPr/>
        </p:nvSpPr>
        <p:spPr>
          <a:xfrm>
            <a:off x="4283640" y="3151080"/>
            <a:ext cx="1485000" cy="13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94 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97 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8"/>
          <p:cNvSpPr/>
          <p:nvPr/>
        </p:nvSpPr>
        <p:spPr>
          <a:xfrm>
            <a:off x="3886200" y="380988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9"/>
          <p:cNvSpPr/>
          <p:nvPr/>
        </p:nvSpPr>
        <p:spPr>
          <a:xfrm>
            <a:off x="6615360" y="3494160"/>
            <a:ext cx="6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11"/>
          <p:cNvSpPr/>
          <p:nvPr/>
        </p:nvSpPr>
        <p:spPr>
          <a:xfrm>
            <a:off x="3253680" y="4648320"/>
            <a:ext cx="205524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13"/>
          <p:cNvSpPr/>
          <p:nvPr/>
        </p:nvSpPr>
        <p:spPr>
          <a:xfrm>
            <a:off x="3352680" y="5676840"/>
            <a:ext cx="38862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4"/>
          <p:cNvSpPr/>
          <p:nvPr/>
        </p:nvSpPr>
        <p:spPr>
          <a:xfrm>
            <a:off x="1890720" y="4664160"/>
            <a:ext cx="79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ompound is known to be composed of 71.65 % Cl, 24.27% C and 4.07% H. Its molar mass is known (from gas density) is known to be 98.96 g. What is its molecular formul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1.65  C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4.27C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07 H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Object 4"/>
              <p:cNvSpPr txBox="1"/>
              <p:nvPr/>
            </p:nvSpPr>
            <p:spPr>
              <a:xfrm>
                <a:off x="2556000" y="1295280"/>
                <a:ext cx="1257120" cy="121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mol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g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Object 5"/>
              <p:cNvSpPr txBox="1"/>
              <p:nvPr/>
            </p:nvSpPr>
            <p:spPr>
              <a:xfrm>
                <a:off x="2209680" y="3276720"/>
                <a:ext cx="1035000" cy="121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mol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g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Object 6"/>
              <p:cNvSpPr txBox="1"/>
              <p:nvPr/>
            </p:nvSpPr>
            <p:spPr>
              <a:xfrm>
                <a:off x="2133720" y="5029200"/>
                <a:ext cx="1035000" cy="121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mol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g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5" name="Text Box 7"/>
          <p:cNvSpPr/>
          <p:nvPr/>
        </p:nvSpPr>
        <p:spPr>
          <a:xfrm>
            <a:off x="4176720" y="1665360"/>
            <a:ext cx="157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0m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8"/>
          <p:cNvSpPr/>
          <p:nvPr/>
        </p:nvSpPr>
        <p:spPr>
          <a:xfrm>
            <a:off x="3735360" y="3454560"/>
            <a:ext cx="157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0m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659040" y="5359320"/>
            <a:ext cx="157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.0m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65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2000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5"/>
          <p:cNvSpPr/>
          <p:nvPr/>
        </p:nvSpPr>
        <p:spPr>
          <a:xfrm>
            <a:off x="146160" y="4952880"/>
            <a:ext cx="8216640" cy="175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s molar mass is known (from gas density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known to be 98.96 g. What is its molecul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ul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4572000" y="1828800"/>
            <a:ext cx="4572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e divide b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west (2mol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9"/>
          <p:cNvSpPr/>
          <p:nvPr/>
        </p:nvSpPr>
        <p:spPr>
          <a:xfrm>
            <a:off x="380880" y="2971800"/>
            <a:ext cx="8763120" cy="13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0"/>
          <p:cNvSpPr/>
          <p:nvPr/>
        </p:nvSpPr>
        <p:spPr>
          <a:xfrm>
            <a:off x="668160" y="3852720"/>
            <a:ext cx="816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ould give an empirical wt of 48.5g/m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1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4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7" dur="5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4"/>
          <p:cNvSpPr/>
          <p:nvPr/>
        </p:nvSpPr>
        <p:spPr>
          <a:xfrm>
            <a:off x="146160" y="2438280"/>
            <a:ext cx="8216640" cy="175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s molar mass is known (from gas density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known to be 98.96 g. What is its molecul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ul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6"/>
          <p:cNvSpPr/>
          <p:nvPr/>
        </p:nvSpPr>
        <p:spPr>
          <a:xfrm>
            <a:off x="380880" y="457200"/>
            <a:ext cx="8763120" cy="13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668160" y="1338120"/>
            <a:ext cx="816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ould give an empirical wt of 48.5g/m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Object 9"/>
              <p:cNvSpPr txBox="1"/>
              <p:nvPr/>
            </p:nvSpPr>
            <p:spPr>
              <a:xfrm>
                <a:off x="0" y="4799160"/>
                <a:ext cx="4267080" cy="102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molar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empirical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formula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" name="Object 11"/>
              <p:cNvSpPr txBox="1"/>
              <p:nvPr/>
            </p:nvSpPr>
            <p:spPr>
              <a:xfrm>
                <a:off x="4800600" y="4495680"/>
                <a:ext cx="2158920" cy="178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9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6</m:t>
                        </m:r>
                        <m:r>
                          <m:t xml:space="preserve">g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g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9" name="Text Box 12"/>
          <p:cNvSpPr/>
          <p:nvPr/>
        </p:nvSpPr>
        <p:spPr>
          <a:xfrm>
            <a:off x="6936120" y="4908600"/>
            <a:ext cx="79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3"/>
          <p:cNvSpPr/>
          <p:nvPr/>
        </p:nvSpPr>
        <p:spPr>
          <a:xfrm>
            <a:off x="4345200" y="5105520"/>
            <a:ext cx="38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4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7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0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Empirical Formu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2000"/>
          </a:bodyPr>
          <a:p>
            <a:pPr marL="234360" indent="-234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lowest whole number ratio of elements in a compou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4360" indent="-234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olecular formula the actual ratio of elements in a comp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4360" indent="-234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two can be the sam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4360" indent="-234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mpirical formu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4360" indent="-234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olecular formu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4360" indent="-234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olecular formu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4360" indent="-234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 bo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5"/>
          <p:cNvSpPr/>
          <p:nvPr/>
        </p:nvSpPr>
        <p:spPr>
          <a:xfrm>
            <a:off x="3657600" y="2590920"/>
            <a:ext cx="356076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X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6"/>
          <p:cNvSpPr/>
          <p:nvPr/>
        </p:nvSpPr>
        <p:spPr>
          <a:xfrm>
            <a:off x="4072320" y="3657600"/>
            <a:ext cx="223884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=  Cl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lculating Empiric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271440" indent="-271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find the lowest whole number rat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not just the ratio of atoms, it is also the ratio of moles of ato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1 mole of C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is 1 mole of carbon and 2 moles of oxy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one molecule of C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re is 1 atom of C and 2 atoms of 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4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4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94" dur="5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lculating Empiric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tend that you have a 100 gram sample of the compou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at is, change the % to gra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rt the grams to mols for each ele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 the number of mols as a subscript in a chemical formul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vide each number by the least numb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ply the result to get rid of any fr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6" dur="2000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254160" indent="-254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he empirical formula of a compound composed of 38.67 % C, 16.22 % H, and 45.11 %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4160" indent="-254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ume 100 g 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4160" indent="-254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8.67 g C  x   1mol C      = 3.220 mole C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2.01 gC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4160" indent="-254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6.22 g H x   1mol H      = 16.09 mole H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01 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4160" indent="-254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5.11 g N  x   1mol N    = 3.219 mole 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4.01 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4"/>
          <p:cNvSpPr/>
          <p:nvPr/>
        </p:nvSpPr>
        <p:spPr>
          <a:xfrm>
            <a:off x="3276720" y="3857760"/>
            <a:ext cx="17524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5"/>
          <p:cNvSpPr/>
          <p:nvPr/>
        </p:nvSpPr>
        <p:spPr>
          <a:xfrm>
            <a:off x="3276720" y="4848120"/>
            <a:ext cx="17524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6"/>
          <p:cNvSpPr/>
          <p:nvPr/>
        </p:nvSpPr>
        <p:spPr>
          <a:xfrm>
            <a:off x="3252960" y="5848200"/>
            <a:ext cx="17524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3" dur="5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7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220 mole C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6.09 mole H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219 mol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5"/>
          <p:cNvSpPr/>
          <p:nvPr/>
        </p:nvSpPr>
        <p:spPr>
          <a:xfrm>
            <a:off x="1905120" y="3886200"/>
            <a:ext cx="533232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4800" spc="-1" strike="noStrike" baseline="-25000">
                <a:solidFill>
                  <a:srgbClr val="000000"/>
                </a:solidFill>
                <a:latin typeface="Arial"/>
              </a:rPr>
              <a:t>3.22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4800" spc="-1" strike="noStrike" baseline="-25000">
                <a:solidFill>
                  <a:srgbClr val="000000"/>
                </a:solidFill>
                <a:latin typeface="Arial"/>
              </a:rPr>
              <a:t>16.09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4800" spc="-1" strike="noStrike" baseline="-25000">
                <a:solidFill>
                  <a:srgbClr val="000000"/>
                </a:solidFill>
                <a:latin typeface="Arial"/>
              </a:rPr>
              <a:t>3.219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6"/>
          <p:cNvSpPr/>
          <p:nvPr/>
        </p:nvSpPr>
        <p:spPr>
          <a:xfrm>
            <a:off x="303840" y="5181480"/>
            <a:ext cx="8161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f we divide all of these by the smalle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ne It will give us the empirical formul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7"/>
          <p:cNvSpPr/>
          <p:nvPr/>
        </p:nvSpPr>
        <p:spPr>
          <a:xfrm flipH="1" flipV="1">
            <a:off x="3505320" y="4647960"/>
            <a:ext cx="3581280" cy="685800"/>
          </a:xfrm>
          <a:prstGeom prst="line">
            <a:avLst/>
          </a:prstGeom>
          <a:ln w="57240">
            <a:solidFill>
              <a:srgbClr val="ff7c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atio is 3.220 mol C  = 1 mol 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3.219 molN      1 mol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atio is 16.09 mol H  = 5 mol 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3.219 molN      1 mol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empirical formu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ompound is 43.64 % P and 56.36 % O. What is the empirical formul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4"/>
          <p:cNvSpPr/>
          <p:nvPr/>
        </p:nvSpPr>
        <p:spPr>
          <a:xfrm>
            <a:off x="3024360" y="1809720"/>
            <a:ext cx="2538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5"/>
          <p:cNvSpPr/>
          <p:nvPr/>
        </p:nvSpPr>
        <p:spPr>
          <a:xfrm flipV="1">
            <a:off x="6072120" y="1828440"/>
            <a:ext cx="1548000" cy="4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6"/>
          <p:cNvSpPr/>
          <p:nvPr/>
        </p:nvSpPr>
        <p:spPr>
          <a:xfrm>
            <a:off x="2976480" y="2833560"/>
            <a:ext cx="2538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7"/>
          <p:cNvSpPr/>
          <p:nvPr/>
        </p:nvSpPr>
        <p:spPr>
          <a:xfrm flipV="1">
            <a:off x="6024600" y="2852640"/>
            <a:ext cx="1547640" cy="50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20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2000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20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20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3.6 g P x   1mol P      = 1.4 mole P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30.97 g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6.36 g O  x   1mol O    = 3.5 mole O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16 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4"/>
          <p:cNvSpPr/>
          <p:nvPr/>
        </p:nvSpPr>
        <p:spPr>
          <a:xfrm>
            <a:off x="3124080" y="2133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5"/>
          <p:cNvSpPr/>
          <p:nvPr/>
        </p:nvSpPr>
        <p:spPr>
          <a:xfrm>
            <a:off x="3276720" y="320040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7"/>
          <p:cNvSpPr/>
          <p:nvPr/>
        </p:nvSpPr>
        <p:spPr>
          <a:xfrm>
            <a:off x="2971800" y="4495680"/>
            <a:ext cx="172404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1.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3.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8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vide both by the lowest 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3200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atio is  3.52 mol O  = 2.5 mol 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1.42 mol P      1 mol 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4"/>
          <p:cNvSpPr/>
          <p:nvPr/>
        </p:nvSpPr>
        <p:spPr>
          <a:xfrm>
            <a:off x="2819520" y="1981080"/>
            <a:ext cx="198108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1.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3.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5"/>
          <p:cNvSpPr/>
          <p:nvPr/>
        </p:nvSpPr>
        <p:spPr>
          <a:xfrm>
            <a:off x="3276720" y="37339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6"/>
          <p:cNvSpPr/>
          <p:nvPr/>
        </p:nvSpPr>
        <p:spPr>
          <a:xfrm>
            <a:off x="5638680" y="37339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3553920" y="5029200"/>
            <a:ext cx="134100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2.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7T21:28:05Z</dcterms:created>
  <dc:creator>gpurdum</dc:creator>
  <dc:description/>
  <dc:language>en-US</dc:language>
  <cp:lastModifiedBy>RomaK</cp:lastModifiedBy>
  <dcterms:modified xsi:type="dcterms:W3CDTF">2015-09-01T16:23:42Z</dcterms:modified>
  <cp:revision>14</cp:revision>
  <dc:subject/>
  <dc:title>Empirical Formula</dc:title>
</cp:coreProperties>
</file>