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C88A-AA9D-4CEF-A22A-F04559FEC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B8D-5FD1-451B-A54F-3E99C31C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755-C342-4412-AF70-F5E1B497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F59-865C-4AF3-AF97-3D905DDA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733-D888-4F6E-ADAB-EB01D6BD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815-52D9-4103-9DD4-A79C9B30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86C-4BD6-4BE8-AD83-9F4438E0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C69-CFD2-4BD9-88F1-C8B5EA59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E3C-2F4B-4B91-B08E-5C7A44B6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C74-E1A6-4A37-8F05-63B110CD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E21-F434-427D-9EE9-D20D295E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7F2-A766-4067-878F-F190EA18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3E1-66B6-4EDA-BC85-409EF32D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A5D6-E6FA-42ED-9541-76EF47C63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2</cp:lastModifiedBy>
  <dcterms:modified xsi:type="dcterms:W3CDTF">2016-01-14T09:13:06Z</dcterms:modified>
  <cp:revision>47</cp:revision>
  <dc:subject>Endocrine and nervous system</dc:subject>
  <dc:title>Endocrine and nervous system</dc:title>
</cp:coreProperties>
</file>