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FF4D-8B07-47C9-A06B-BC454485E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047-307B-4016-9D33-53EF6B02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7C1-0BB9-4A16-9105-A9749028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133-3E7B-44A8-AF47-44428080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187-32B5-4C23-ACCA-85D0E7AF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81F-1DC4-4FDD-8EA0-955EDAF7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696-E6D6-4001-8EB2-7132FB9B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386-B9D6-4429-98CD-911E5DBE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188-6DCD-45FD-BCBD-36744E56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52B-4C48-4FF0-A51C-CD63E615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062-D13D-4737-9E38-9D6D9630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B22-BC54-44DD-AB61-A98438F1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265-3082-4066-84C9-2009244C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949C-D956-41E6-9916-F2FDEAB4E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2</cp:lastModifiedBy>
  <dcterms:modified xsi:type="dcterms:W3CDTF">2016-01-14T09:13:06Z</dcterms:modified>
  <cp:revision>47</cp:revision>
  <dc:subject>Endocrine and nervous system</dc:subject>
  <dc:title>Endocrine and nervous system</dc:title>
</cp:coreProperties>
</file>