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45C9-50C0-475C-89B3-8B28D3544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1C8-3124-4062-97D9-1D323CD3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CDD-AAD7-4A16-B381-2DFF0A14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D2F-81D0-4AF5-AEEC-CBB47F0B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790-531A-4D75-A2B7-220F11FD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623-310A-45DB-8937-75194BE0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34CC-5C5A-4E1F-9350-FB32473A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F40-E613-4AD2-B28A-A7BE6705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5B3-A69B-4598-84E6-A999EF4B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294-0E1B-4661-B9FA-71A258AD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F1E-2E3B-4273-A68D-F1EA2A59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0AE-B005-4315-A224-5FC51D15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981-8907-42CE-8E24-FC6A6D74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D64F-8A1F-48F0-8C9A-AA6C810A8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2</cp:lastModifiedBy>
  <dcterms:modified xsi:type="dcterms:W3CDTF">2016-01-14T09:13:06Z</dcterms:modified>
  <cp:revision>47</cp:revision>
  <dc:subject>Endocrine and nervous system</dc:subject>
  <dc:title>Endocrine and nervous system</dc:title>
</cp:coreProperties>
</file>