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8F7-8762-4AF4-83AE-5775E6F480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– Anabolic 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promote muscle growth and increase lean body m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rugs mostly have legitimate med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often misused by those wishing to enhance their athletic performance or str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% of pupils had used illegal drugs in the last month and 20% had used illegal drugs in the last y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% of boys reported taking drugs in the last month compared to 11% of gir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creased with age. Six percent of 11-year-olds had used drugs in the last year compared to 39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is the most likely drug to have been used, with 13% of pupils reporting use in the last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use also increases sharply with age with 1% of 11-year-olds having used the drug in past year compared with 31% of 15-year-o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 had been used by 4% of 11-15 year olds. One percent say they used heroin or 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Using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vary according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ircumstances of th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otivation and knowledge level of the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ir mood and expectation at the tim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manner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ze of d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urity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Factors Involved in Drug T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never be sure of exactly what they are 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knowing the strength of what has been bought could lead to an accidental overdose (which may be life-threateni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't be precisely sure of the effect the drug will have, even if they have taken it bef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dirty needles or syringes carries a risk of serious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ing drugs, or drugs with 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a criminal rec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relationships, financial pressures, reducing judgement or performan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 - if prepared for inj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and 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o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(ac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- if prepared fo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A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ven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fe imprisonment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B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(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ve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have used drugs of one sort or another for thousan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e was used at least from the time of the early Egypt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arcotics from 4000 B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dicinal use of marijuana has been dated to 2737BC 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bolic stero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d 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DF 118 (painkiller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of Class C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wo years prison and/or a 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ion with intent to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4 years prison and/or a f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ndbodysoul.gov.uk/drugs/drugmenu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rted4.info/html/400/43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tonerlemming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febytes.gov.uk/drugs/drugs_fac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We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nd increase brain acti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give feelings of alertness,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onfid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also reduce appet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timu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sta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yl Nitrites e.g. p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etam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t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on the central nervous system and slow down brain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ired co-ordination, balance and judgement are comm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doses can lead progressively to drowsiness, vomiting, coma and even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Depres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atile substances or sniffable substances (eg glues, gases, aeroso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quillis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B (Gamma hydroxy-buty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-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act to change the way users experience the world through the five sen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is involves seeing, and hearing things which aren'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lucin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ab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mushro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a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Drugs - Analge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that have a painkilling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p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rp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FAE-76F7-4D6B-81FF-36C2D4BF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041-0CAB-4DB8-B95B-18B1C591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82E-37AD-40E2-A9DB-0CAACB6D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5FD-527C-478D-91DE-5D02BB59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E6F4-62B8-4256-91DD-BAD2294D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8777-4EDD-416A-BD42-BF3B95F9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19D3-DF88-449C-9A3E-A4F882DA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CA55-7F96-49B7-90B7-BD88893B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7591-BF24-4881-95B9-389CFA9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E5A3-72BF-49CF-8176-CD149B12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3C01-A3B2-428B-A646-090797C5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FF5-46F7-49CF-8AEB-CAA0E194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5396-48D4-4B62-9A30-3F916BA8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CA64-1125-479B-A1F0-81A9A96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7668-DBC1-496D-BEE9-AE51C26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5E63-FE3F-4A99-8993-2C03BE2C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100-88BC-48C0-BA86-47C0DD51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89A-A3D1-4C3F-8FE2-FBCAA20C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938-BB82-4C57-8175-73D345E8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600-523C-4DB3-8F7E-C9C7616F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D2A-D06A-4469-8155-41EE5391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187-35AD-4252-B953-083A4C1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0B8-2F8A-4AFE-8361-5E9301F5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70E-3D82-48CD-A1A8-90BC4C4F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5092-A17F-4056-BE21-78586AC27D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5D8-6221-47BF-84E8-587D7679A0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2" TargetMode="External"/><Relationship Id="rId2" Type="http://schemas.openxmlformats.org/officeDocument/2006/relationships/hyperlink" Target="http://www.wiredforhealth.gov.uk/cat.php?catid=894&amp;docid=7283" TargetMode="External"/><Relationship Id="rId3" Type="http://schemas.openxmlformats.org/officeDocument/2006/relationships/hyperlink" Target="http://www.wiredforhealth.gov.uk/cat.php?catid=894&amp;docid=7284" TargetMode="External"/><Relationship Id="rId4" Type="http://schemas.openxmlformats.org/officeDocument/2006/relationships/hyperlink" Target="http://www.wiredforhealth.gov.uk/cat.php?catid=894&amp;docid=7285" TargetMode="External"/><Relationship Id="rId5" Type="http://schemas.openxmlformats.org/officeDocument/2006/relationships/hyperlink" Target="http://www.wiredforhealth.gov.uk/cat.php?catid=894&amp;docid=7286" TargetMode="External"/><Relationship Id="rId6" Type="http://schemas.openxmlformats.org/officeDocument/2006/relationships/hyperlink" Target="http://www.wiredforhealth.gov.uk/cat.php?catid=911&amp;docid=732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redforhealth.gov.uk/cat.php?catid=894&amp;docid=7287" TargetMode="External"/><Relationship Id="rId2" Type="http://schemas.openxmlformats.org/officeDocument/2006/relationships/hyperlink" Target="http://www.wiredforhealth.gov.uk/cat.php?catid=894&amp;docid=7226" TargetMode="External"/><Relationship Id="rId3" Type="http://schemas.openxmlformats.org/officeDocument/2006/relationships/hyperlink" Target="http://www.wiredforhealth.gov.uk/cat.php?catid=894&amp;docid=7289" TargetMode="External"/><Relationship Id="rId4" Type="http://schemas.openxmlformats.org/officeDocument/2006/relationships/hyperlink" Target="http://www.wiredforhealth.gov.uk/cat.php?catid=894&amp;docid=728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– Anabolic Steroid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promote muscle growth and increase lean body m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se drugs mostly have legitimate medical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are often misused by those wishing to enhance their athletic performance or streng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Statist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The following statistics are from the results of a major national survey of secondary schoolchildren aged 11-15 published by the Department of Health (DH) in 200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2% of pupils had used illegal drugs in the last month and 20% had used illegal drugs in the last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13% of boys reported taking drugs in the last month compared to 11% of 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Use increased with age. Six percent of 11-year-olds had used drugs in the last year compared to 39% of 15-year-ol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is the most likely drug to have been used, with 13% of pupils reporting use in the last y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annabis use also increases sharply with age with 1% of 11-year-olds having used the drug in past year compared with 31% of 15-year-ol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Class A drugs had been used by 4% of 11-15 year olds. One percent say they used heroin or coca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Risks of Using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isks vary according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circumstances of the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otivation and knowledge level of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ir mood and expectation at the tim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the manner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size of 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-purity of th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Risks Factors Involved in Drug Taking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 never be sure of exactly what they are ta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Not knowing the strength of what has been bought could lead to an accidental overdose (which may be life-threaten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Users can't be precisely sure of the effect the drug will have, even if they have taken it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haring dirty needles or syringes carries a risk of serious inf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ixing drugs, or drugs with alcoh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Getting a criminal recor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Effects on relationships, financial pressures, reducing judgement or performance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 - if prepared for inj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caine and cra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cstas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ro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SD (aci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gic mushrooms - if prepared for 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A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: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seven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life imprisonment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B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mphetamines (sp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five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umans have used drugs of one sort or another for thousands of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wine was used at least from the time of the early Egypt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narcotics from 4000 B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medicinal use of marijuana has been dated to 2737BC 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bolic steroi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ld ampheta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B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nquillisers DF 118 (painkill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Possession of Class C Drug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two years prison and/or a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ossession with intent to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14 years prison and/or a f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mindbodysoul.gov.uk/drugs/drugmenu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orted4.info/html/400/430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ttp://www.stonerlemmings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http://www.lifebytes.gov.uk/drugs/drugs_fact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Useful Website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ystem and increase brain activ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Some give feelings of alertness, gr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energy and confid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They may also reduce appet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Stimul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Coca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Crack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Ecstasy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Alkyl Nitrit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e.g. pop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5"/>
              </a:rPr>
              <a:t>Amphetamines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9933"/>
                </a:solidFill>
                <a:uFillTx/>
                <a:latin typeface="Comic Sans MS"/>
                <a:hlinkClick r:id="rId6"/>
              </a:rPr>
              <a:t>Nicotine</a:t>
            </a: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Drugs that act on the central nervous system and slow down brain acti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Impaired co-ordination, balance and judgement are comm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Higher doses can lead progressively to drowsiness, vomiting, coma and even de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Depressant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1"/>
              </a:rPr>
              <a:t>Volatile substances or sniffable substances (eg glues, gases, aerosols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2"/>
              </a:rPr>
              <a:t>Alcohol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3"/>
              </a:rPr>
              <a:t>Tranquillisers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9933"/>
                </a:solidFill>
                <a:uFillTx/>
                <a:latin typeface="Comic Sans MS"/>
                <a:hlinkClick r:id="rId4"/>
              </a:rPr>
              <a:t>GHB (Gamma hydroxy-butyrate)</a:t>
            </a:r>
            <a:r>
              <a:rPr b="0" lang="uk-UA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-Hallucinogens</a:t>
            </a:r>
            <a:endParaRPr b="0" lang="en-US" sz="40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act to change the way users experience the world through the five sen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Sometimes this involves seeing, and hearing things which aren'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Examples of Hallucinogen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Cannab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LS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Magic mushroo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Ketam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cccc"/>
                </a:solidFill>
                <a:uFillTx/>
                <a:latin typeface="Comic Sans MS"/>
              </a:rPr>
              <a:t>Types of Drugs - Analgesics</a:t>
            </a:r>
            <a:endParaRPr b="0" lang="en-US" sz="4400" spc="-1" strike="noStrike">
              <a:solidFill>
                <a:srgbClr val="00cccc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mic Sans MS"/>
              </a:rPr>
              <a:t>Drugs that have a painkilling eff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op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orp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7:36:58Z</dcterms:created>
  <dc:creator>Education</dc:creator>
  <dc:description/>
  <dc:language>en-US</dc:language>
  <cp:lastModifiedBy>LEGION2</cp:lastModifiedBy>
  <dcterms:modified xsi:type="dcterms:W3CDTF">2016-01-14T09:10:06Z</dcterms:modified>
  <cp:revision>9</cp:revision>
  <dc:subject/>
  <dc:title>Drugs</dc:title>
</cp:coreProperties>
</file>