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1399-9299-41E0-A290-E2F52628B9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9C6-D9D8-484F-931E-5BCBAA19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6EC-A313-4B6A-BB0A-BAB00934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B2A-1025-4A33-8253-4235E401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0AF-04E3-476C-B5FE-6D006916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4350-10F5-40FF-BDD9-5E33B95A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F2E4-50BA-41F4-8114-86FA6380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130E-554F-4002-9E79-260D1163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9B45-4D8C-4912-9EC8-F6CA3E0D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AC4E-49A5-4194-B1B7-4D633914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4F31-B926-4991-A78B-96D61B32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4618-60A4-42F4-A4C2-5E9B1F40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0A9-EA34-4C27-B540-B2CD1AF2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35E4-6489-4CA3-9A6A-1A2678C8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9690-F37B-4F12-8E8A-E1506024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75BD-A376-404A-BF67-1C382965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BC32-DF9E-407B-B7F9-0DA5DF2B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FBE1-9357-477B-8BD4-119EADA8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6CB-7AA9-4FA1-B775-D86E027A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8EA-103E-4049-B8D6-D4ED9227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492-8959-43B9-A997-A5BA5E16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78C-A234-41E8-BDE4-82D466B3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A66-5C6E-4EFE-A41D-7A7F4EC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FBC-7684-4602-BED4-4BC0A072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E4E-CADD-43DF-BF5F-AED3C919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F2B0-A258-4D6B-9336-455BB536380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2494-1014-4E8F-BE4B-FDE4D6A76A1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2" TargetMode="External"/><Relationship Id="rId2" Type="http://schemas.openxmlformats.org/officeDocument/2006/relationships/hyperlink" Target="http://www.wiredforhealth.gov.uk/cat.php?catid=894&amp;docid=7283" TargetMode="External"/><Relationship Id="rId3" Type="http://schemas.openxmlformats.org/officeDocument/2006/relationships/hyperlink" Target="http://www.wiredforhealth.gov.uk/cat.php?catid=894&amp;docid=7284" TargetMode="External"/><Relationship Id="rId4" Type="http://schemas.openxmlformats.org/officeDocument/2006/relationships/hyperlink" Target="http://www.wiredforhealth.gov.uk/cat.php?catid=894&amp;docid=7285" TargetMode="External"/><Relationship Id="rId5" Type="http://schemas.openxmlformats.org/officeDocument/2006/relationships/hyperlink" Target="http://www.wiredforhealth.gov.uk/cat.php?catid=894&amp;docid=7286" TargetMode="External"/><Relationship Id="rId6" Type="http://schemas.openxmlformats.org/officeDocument/2006/relationships/hyperlink" Target="http://www.wiredforhealth.gov.uk/cat.php?catid=911&amp;docid=732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7" TargetMode="External"/><Relationship Id="rId2" Type="http://schemas.openxmlformats.org/officeDocument/2006/relationships/hyperlink" Target="http://www.wiredforhealth.gov.uk/cat.php?catid=894&amp;docid=7226" TargetMode="External"/><Relationship Id="rId3" Type="http://schemas.openxmlformats.org/officeDocument/2006/relationships/hyperlink" Target="http://www.wiredforhealth.gov.uk/cat.php?catid=894&amp;docid=7289" TargetMode="External"/><Relationship Id="rId4" Type="http://schemas.openxmlformats.org/officeDocument/2006/relationships/hyperlink" Target="http://www.wiredforhealth.gov.uk/cat.php?catid=894&amp;docid=728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– Anabolic Steroid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promote muscle growth and increase lean body m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se drugs mostly have legitimate medical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are often misused by those wishing to enhance their athletic performance or streng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Statist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2% of pupils had used illegal drugs in the last month and 20% had used illegal drugs in the last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3% of boys reported taking drugs in the last month compared to 11% of gir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Use increased with age. Six percent of 11-year-olds had used drugs in the last year compared to 39% of 15-year-ol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is the most likely drug to have been used, with 13% of pupils reporting use in the last y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use also increases sharply with age with 1% of 11-year-olds having used the drug in past year compared with 31% of 15-year-ol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lass A drugs had been used by 4% of 11-15 year olds. One percent say they used heroin or coca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Risks of Using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isks vary according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circumstances of th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otivation and knowledge level of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ir mood and expectation at the tim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anner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size of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purity of th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Risks Factors Involved in Drug Taking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 never be sure of exactly what they are ta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Not knowing the strength of what has been bought could lead to an accidental overdose (which may be life-threaten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't be precisely sure of the effect the drug will have, even if they have taken it bef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haring dirty needles or syringes carries a risk of serious inf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ixing drugs, or drugs with alcoh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Getting a criminal reco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Effects on relationships, financial pressures, reducing judgement or performance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 - if prepared for inj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caine and cra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cstas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ro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SD (aci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gic mushrooms - if prepared for 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: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seven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life imprisonment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B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five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umans have used drugs of one sort or another for thousands of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wine was used at least from the time of the early Egypt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narcotics from 4000 B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medicinal use of marijuana has been dated to 2737BC 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bolic steroi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ld amphetam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B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nquillisers DF 118 (painkille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two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mindbodysoul.gov.uk/drugs/drugmenu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orted4.info/html/400/430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tonerlemming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ttp://www.lifebytes.gov.uk/drugs/drugs_fact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Useful Website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ystem and increase brain activ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ome give feelings of alertness, gr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energy and conf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may also reduce appet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Coca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Crack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Ecstasy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Alkyl Nitrit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e.g. pop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5"/>
              </a:rPr>
              <a:t>Amphetamin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6"/>
              </a:rPr>
              <a:t>Nicot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 system and slow down brai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Impaired co-ordination, balance and judgement are comm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Higher doses can lead progressively to drowsiness, vomiting, coma and even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Volatile substances or sniffable substances (eg glues, gases, aerosols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Alcohol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Tranquillisers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GHB (Gamma hydroxy-butyrate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Hallucinogen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act to change the way users experience the world through the five sen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ometimes this involves seeing, and hearing things which aren't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Hallucinoge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LS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agic mus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Ketam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- Analges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have a painkilling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.g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op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orp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7:36:58Z</dcterms:created>
  <dc:creator>Education</dc:creator>
  <dc:description/>
  <dc:language>en-US</dc:language>
  <cp:lastModifiedBy>LEGION2</cp:lastModifiedBy>
  <dcterms:modified xsi:type="dcterms:W3CDTF">2016-01-14T09:10:06Z</dcterms:modified>
  <cp:revision>9</cp:revision>
  <dc:subject/>
  <dc:title>Drugs</dc:title>
</cp:coreProperties>
</file>