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3F08-FF08-45FC-98AB-FFEFCC1BE0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Effects on Ou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 are stewards of ourselve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Effects on Ou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 are stewards of ourselve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s – To have the information 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effects of these on the health of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s – To have the information 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effects of these on the health of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ect behavi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amage the lungs, liver and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ect behavi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amage the lungs, liver and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n effect on the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s down reaction tim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loss of self control + even c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damage the liver and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n effect on the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s down reaction tim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loss of self control + even c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damage the liver and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 contains substances which 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itis and emphys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rt disease + damage to 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gnant smokers often have low weight babies due to carbon monoxide in the blood reducing the oxygen supply to the 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 Carbon monoxide irreversibly combines with the haemoglobin in red blood c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 contains substances which 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itis and emphys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rt disease + damage to 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gnant smokers often have low weight babies due to carbon monoxide in the blood reducing the oxygen supply to the 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 Carbon monoxide irreversibly combines with the haemoglobin in red blood c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6939-9B65-44C5-BB98-F9F5E98E5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1996-419A-4BCC-A2BC-72972F02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C063-154F-45B8-B749-4368564F7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DE2E-81AA-4484-9BA0-85D3BA206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E5A4-0182-42A8-B9E9-EE237F5CE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CD58-1710-4DF8-8572-FB6F836E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F3D0A-89D0-4493-9B80-9716170E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3512-9B21-40CC-8281-6F954ED0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D1572-E6FE-44DA-B5F2-2F9F2453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3735-5631-4E4F-AA3F-F64691DD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9626-916F-4456-82E4-4ED5A8D6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BBF6-9DE5-4657-8642-23796D6E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59EC-C4D9-4A8F-9F62-A43A4888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3F34E-E36A-4EDF-BEE4-D7ECD509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75BB-A426-4009-A8DE-985B6150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8D45-6465-4CF6-804C-E63D6A7A8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4C6FA-981F-41C6-A4E5-D4932460E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7CAD-1AB8-4117-9EFD-604E41A4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9934-6310-492A-877E-85C67F0B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892D-C85D-4682-AB54-23F8D7AF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1B8F-8B8C-4B7D-B635-9481ED86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3418-44BD-47AF-9072-2A759CD0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1AA7-2C79-42A9-AD76-440CC015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C4DF-287B-46CF-BAF0-E807FA49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A29E2-EA7E-4EDB-AA74-F1A0A49B5D4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BDE7-B291-408B-A913-A23DD631147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6633"/>
                </a:solidFill>
                <a:latin typeface="Garamond"/>
              </a:rPr>
              <a:t>Drugs Effects on Our Bodie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787640" y="3962520"/>
            <a:ext cx="3746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 are stewards of ourselve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systems"/>
          <p:cNvPicPr/>
          <p:nvPr/>
        </p:nvPicPr>
        <p:blipFill>
          <a:blip r:embed="rId1"/>
          <a:stretch/>
        </p:blipFill>
        <p:spPr>
          <a:xfrm>
            <a:off x="971640" y="3141720"/>
            <a:ext cx="3095640" cy="291636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Aims – To have the information on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Arial"/>
              </a:rPr>
              <a:t>Solv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Arial"/>
              </a:rPr>
              <a:t>Alcoh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Arial"/>
              </a:rPr>
              <a:t>Tobac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600" spc="-1" strike="noStrike">
                <a:solidFill>
                  <a:srgbClr val="0000ff"/>
                </a:solidFill>
                <a:latin typeface="Arial"/>
              </a:rPr>
              <a:t>The effects of these on the health of the bod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Solv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ffect behavio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n damage the lungs, liver and br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pr-sbs-sealer-gallon"/>
          <p:cNvPicPr/>
          <p:nvPr/>
        </p:nvPicPr>
        <p:blipFill>
          <a:blip r:embed="rId1"/>
          <a:stretch/>
        </p:blipFill>
        <p:spPr>
          <a:xfrm>
            <a:off x="1962000" y="1844640"/>
            <a:ext cx="2335320" cy="259236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Alcoho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as an effect on the nervous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lows down reaction time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uses loss of self control + even co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y damage the liver and br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drink"/>
          <p:cNvPicPr/>
          <p:nvPr/>
        </p:nvPicPr>
        <p:blipFill>
          <a:blip r:embed="rId1"/>
          <a:stretch/>
        </p:blipFill>
        <p:spPr>
          <a:xfrm>
            <a:off x="457200" y="2282760"/>
            <a:ext cx="4038480" cy="31640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Tobac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0" name="Picture 7" descr="emphy"/>
          <p:cNvPicPr/>
          <p:nvPr/>
        </p:nvPicPr>
        <p:blipFill>
          <a:blip r:embed="rId1"/>
          <a:stretch/>
        </p:blipFill>
        <p:spPr>
          <a:xfrm>
            <a:off x="4932360" y="1989000"/>
            <a:ext cx="3343320" cy="2676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emphysema_what"/>
          <p:cNvPicPr/>
          <p:nvPr/>
        </p:nvPicPr>
        <p:blipFill>
          <a:blip r:embed="rId2"/>
          <a:stretch/>
        </p:blipFill>
        <p:spPr>
          <a:xfrm>
            <a:off x="801720" y="1052640"/>
            <a:ext cx="2698560" cy="453204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1"/>
          <p:cNvSpPr/>
          <p:nvPr/>
        </p:nvSpPr>
        <p:spPr>
          <a:xfrm>
            <a:off x="3708360" y="3213000"/>
            <a:ext cx="936720" cy="649440"/>
          </a:xfrm>
          <a:prstGeom prst="rightArrow">
            <a:avLst>
              <a:gd name="adj1" fmla="val 50000"/>
              <a:gd name="adj2" fmla="val 36059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Tobac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5" name="Picture 6" descr="heart_attack"/>
          <p:cNvPicPr/>
          <p:nvPr/>
        </p:nvPicPr>
        <p:blipFill>
          <a:blip r:embed="rId1"/>
          <a:stretch/>
        </p:blipFill>
        <p:spPr>
          <a:xfrm>
            <a:off x="1919160" y="1125360"/>
            <a:ext cx="4824720" cy="498348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Tobac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8" name="Picture 6" descr="ortho-WH-Cigarette"/>
          <p:cNvPicPr/>
          <p:nvPr/>
        </p:nvPicPr>
        <p:blipFill>
          <a:blip r:embed="rId1"/>
          <a:stretch/>
        </p:blipFill>
        <p:spPr>
          <a:xfrm>
            <a:off x="826920" y="1197000"/>
            <a:ext cx="3656160" cy="4933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Prem%20baby%20230x150"/>
          <p:cNvPicPr/>
          <p:nvPr/>
        </p:nvPicPr>
        <p:blipFill>
          <a:blip r:embed="rId2"/>
          <a:stretch/>
        </p:blipFill>
        <p:spPr>
          <a:xfrm>
            <a:off x="5796000" y="2781360"/>
            <a:ext cx="2921040" cy="190512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8"/>
          <p:cNvSpPr/>
          <p:nvPr/>
        </p:nvSpPr>
        <p:spPr>
          <a:xfrm>
            <a:off x="4716360" y="3860640"/>
            <a:ext cx="935280" cy="720720"/>
          </a:xfrm>
          <a:prstGeom prst="rightArrow">
            <a:avLst>
              <a:gd name="adj1" fmla="val 50000"/>
              <a:gd name="adj2" fmla="val 32443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Tobac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obacco contains substances which caus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ff"/>
                </a:solidFill>
                <a:latin typeface="Arial"/>
              </a:rPr>
              <a:t>Lung canc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ff"/>
                </a:solidFill>
                <a:latin typeface="Arial"/>
              </a:rPr>
              <a:t>bronchiti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3000" spc="-1" strike="noStrike">
                <a:solidFill>
                  <a:srgbClr val="0000ff"/>
                </a:solidFill>
                <a:latin typeface="Arial"/>
              </a:rPr>
              <a:t>emphyse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ff"/>
                </a:solidFill>
                <a:latin typeface="Arial"/>
              </a:rPr>
              <a:t>Heart disease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+ damage to blood vess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egnant smokers often have low weight babies due to </a:t>
            </a:r>
            <a:r>
              <a:rPr b="0" lang="en-GB" sz="3000" spc="-1" strike="noStrike">
                <a:solidFill>
                  <a:srgbClr val="0000ff"/>
                </a:solidFill>
                <a:latin typeface="Arial"/>
              </a:rPr>
              <a:t>carbon monoxide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in the blood reducing the oxygen supply to the bab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 Carbon monoxide irreversibly combines with the haemoglobin in red blood cell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9:11:34Z</dcterms:created>
  <dc:creator>John</dc:creator>
  <dc:description/>
  <dc:language>en-US</dc:language>
  <cp:lastModifiedBy>LEGION2</cp:lastModifiedBy>
  <dcterms:modified xsi:type="dcterms:W3CDTF">2016-01-14T09:07:35Z</dcterms:modified>
  <cp:revision>6</cp:revision>
  <dc:subject/>
  <dc:title>Drugs Effects on Our Bodies</dc:title>
</cp:coreProperties>
</file>