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F3B5-7EFC-447E-96C2-55C3B7F4BC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E08-5C49-4CC8-9F9E-08723DB3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E85-41A8-41DB-889B-271936B1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58B-435F-47EF-8B23-9BFF76E44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7FC-AE73-454A-BC88-DD0B2EBF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5F5-0B88-435D-B397-5B3E4C5F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DC8-1FEA-495C-B092-9B8D24D6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3BB-A83A-4ED5-83FC-CEFE4CC4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38D0-FA12-4CC2-83A3-BCCF5385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FF1-381F-4DC2-B25B-30EBAEAC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C09-B540-4B5E-AC36-1CF12EB4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146B-D04C-452E-9A6F-885059EB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B60-F8E1-4021-B84A-6FDEB1B7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3A36-006E-4A33-8982-5DC538FF9E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.purdue.edu/courses/chm333/enzymaticreaction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asta, bread      (a form of sugar that can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342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. In meat, nut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788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zyme actio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427640" y="36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56:25Z</dcterms:created>
  <dc:creator>CEC</dc:creator>
  <dc:description/>
  <dc:language>en-US</dc:language>
  <cp:lastModifiedBy>LEGION2</cp:lastModifiedBy>
  <dcterms:modified xsi:type="dcterms:W3CDTF">2016-01-14T09:04:29Z</dcterms:modified>
  <cp:revision>7</cp:revision>
  <dc:subject/>
  <dc:title>Digestive Enzymes</dc:title>
</cp:coreProperties>
</file>