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F66B-65A7-4013-ABE2-D486301806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3A1-A3D8-476C-8E02-36BCCDE2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4D72-B737-4830-A05B-3BAAF878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456-DCC8-46E2-AB26-1850D1F1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0D7-0E97-415F-A9CF-4C61D841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31B-1696-4394-91EE-D786C77C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6D8-ADC8-4BF5-ABB9-1F4E3DFA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8D16-768E-4D2C-9A48-B83943F5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E5E1-778A-4FE4-8622-9FC65F0B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542F-E025-40C3-8960-37BF9AFE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C18-D7CA-4721-BEA9-3BAB4CD6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5350-AF51-49B5-96C8-5118405E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B392-4D23-40B6-B241-C6CC7A62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E14C-86E4-4B25-904C-1B6FC199AF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em.purdue.edu/courses/chm333/enzymaticreaction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pasta, bread      (a form of sugar that can b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572000" y="342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g. In meat, nut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78800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zyme action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427640" y="364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56:25Z</dcterms:created>
  <dc:creator>CEC</dc:creator>
  <dc:description/>
  <dc:language>en-US</dc:language>
  <cp:lastModifiedBy>LEGION2</cp:lastModifiedBy>
  <dcterms:modified xsi:type="dcterms:W3CDTF">2016-01-14T09:04:29Z</dcterms:modified>
  <cp:revision>7</cp:revision>
  <dc:subject/>
  <dc:title>Digestive Enzymes</dc:title>
</cp:coreProperties>
</file>