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1D60-8F41-493D-B2B3-6125A7DCA8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food is made up of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s: Bread, Pasta, Pota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: Meat, Nuts, Lent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s: Butter, 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body needs to digest them – turn them into a form that can be absorbed into the blood and used by cells. Enzymes make this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food is made up of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s: Bread, Pasta, Pota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: Meat, Nuts, Lent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s: Butter, 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body needs to digest them – turn them into a form that can be absorbed into the blood and used by cells. Enzymes make this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closely at the 3 digestion equations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that work on carbohydra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ylase + Star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Mal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   (in pasta, bread      (a form of sugar that can b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n saliva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absorbed by the body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closely at the 3 digestion equations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that work on carbohydra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ylase + Star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Mal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   (in pasta, bread      (a form of sugar that can b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n saliva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absorbed by the body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that work on Protei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ase   +  Protein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     (eg. In meat, nuts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e body can absorb (in stomach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 and use the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that work on Protei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ase   +  Protein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     (eg. In meat, nuts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e body can absorb (in stomach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 and use the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that work on Fa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ase enzyme  +  Fats                Fatty Acids + 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ecreted by pancreas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(Butter, Milk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(can be absorbed into bod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on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that work on Fa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ase enzyme  +  Fats                Fatty Acids + 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ecreted by pancreas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(Butter, Milk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(can be absorbed into bod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on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D3DD-0ED1-4521-BFA2-AC661C1FF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5DF0-9783-4272-9E87-84FB28D46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A580-75A8-4494-8F7A-28E13434A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C727-DF31-450D-95D5-17CE7DAF4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9249-AFBC-4C96-A36D-7069E2298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1EFE-AE42-4723-B75A-5EDF8CC14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E954-9B31-438C-BF78-4D60763EB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D819-03E9-418B-90EB-E5845F6F5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BE23-14C9-485A-A294-4862E9D7E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8570-2BF4-4DC2-9775-D5B6DAA7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0DDE-AC8C-4922-830A-E625E2F2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E7ED-5BA0-4F91-A54E-7E749DBF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9E86E-CF41-4711-B1CC-37569208292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hem.purdue.edu/courses/chm333/enzymaticreaction.mov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gestive 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ur food is made up of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rbohydrates: Bread, Pasta, Pot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: Meat, Nuts, Lent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ts: Butter, Mi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ur body needs to digest them – turn them into a form that can be absorbed into the blood and used by cells. Enzymes make thi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Look closely at the 3 digestion equation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zymes that work on carbohydr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ylase + Starc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Malt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zyme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in pasta, bread      (a form of sugar that can b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in saliva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bohydrate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absorbed by the body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4"/>
          <p:cNvSpPr/>
          <p:nvPr/>
        </p:nvSpPr>
        <p:spPr>
          <a:xfrm>
            <a:off x="4572000" y="342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zymes that work on Prote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ease   +  Protein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Amino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zyme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eg. In meat, nuts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he body can absorb (in stomach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m and use th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4788000" y="3573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zymes that work on Fa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pase enzyme  +  Fats                Fatty Acids + Glyce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secreted by pancreas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(Butter, Milk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(can be absorbed into bod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nzyme action an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4"/>
          <p:cNvSpPr/>
          <p:nvPr/>
        </p:nvSpPr>
        <p:spPr>
          <a:xfrm>
            <a:off x="4427640" y="364500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1:56:25Z</dcterms:created>
  <dc:creator>CEC</dc:creator>
  <dc:description/>
  <dc:language>en-US</dc:language>
  <cp:lastModifiedBy>LEGION2</cp:lastModifiedBy>
  <dcterms:modified xsi:type="dcterms:W3CDTF">2016-01-14T09:04:29Z</dcterms:modified>
  <cp:revision>7</cp:revision>
  <dc:subject/>
  <dc:title>Digestive Enzymes</dc:title>
</cp:coreProperties>
</file>