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87C1-7EF2-4EB3-88DA-D2BFF232F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78C-3601-430F-B104-A5F61858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B45-17F3-4521-9EB9-9759542C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468-364B-4D92-8430-BD64C7D6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7AB-F61C-4934-AD6B-C52E2C8E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777-F829-404F-BC18-2E57CF41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BCB-6D1D-4544-8E9C-3D3103C2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AF7-3B5E-464E-94FC-2DFB4425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30E-A3E4-4F1C-8E7B-42AAE451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6F3-A237-4526-93CF-B460712F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0DF-0102-43BC-9D26-E5352998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6AD-5697-4D2A-94C0-1F68B60D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87A-26ED-4438-9AFE-4808D5A3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B92D-8078-4E92-BD14-D31648E3BB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.purdue.edu/courses/chm333/enzymaticreaction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asta, bread      (a form of sugar that can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342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. In meat, nut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788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zyme actio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42764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56:25Z</dcterms:created>
  <dc:creator>CEC</dc:creator>
  <dc:description/>
  <dc:language>en-US</dc:language>
  <cp:lastModifiedBy>LEGION2</cp:lastModifiedBy>
  <dcterms:modified xsi:type="dcterms:W3CDTF">2016-01-14T09:04:29Z</dcterms:modified>
  <cp:revision>7</cp:revision>
  <dc:subject/>
  <dc:title>Digestive Enzymes</dc:title>
</cp:coreProperties>
</file>