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8A27-7A5B-44BF-AECE-F328BC5543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B98-05B4-410B-BCDD-3BE161DE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E5B-CDC6-4258-B8F6-A96B7EBA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434-9318-4BFD-ABAC-394761F0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D9F-9806-48A1-AD05-2B45D7E8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8BE-27A8-4DDC-9524-3EA98862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326-3F41-4E71-A57E-DD4F2921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9DB-CDFB-42A4-8801-11AF6757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DD0-AFF3-474A-BFF9-A95791CC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133-B507-4949-9133-DE2AC882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ED21-2C80-47DE-8DEC-A6542E2E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602-07DD-4CC7-A1F3-6006B60A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F678-6955-48A8-9FDF-2F98904C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A1B2-E095-4F6C-B7DE-0563BBD9EB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.purdue.edu/courses/chm333/enzymaticreaction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asta, bread      (a form of sugar that can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342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. In meat, nut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788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zyme actio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42764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56:25Z</dcterms:created>
  <dc:creator>CEC</dc:creator>
  <dc:description/>
  <dc:language>en-US</dc:language>
  <cp:lastModifiedBy>LEGION2</cp:lastModifiedBy>
  <dcterms:modified xsi:type="dcterms:W3CDTF">2016-01-14T09:04:29Z</dcterms:modified>
  <cp:revision>7</cp:revision>
  <dc:subject/>
  <dc:title>Digestive Enzymes</dc:title>
</cp:coreProperties>
</file>