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2A6B-BAA1-46BC-865E-C2FB54ABF6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615-EFBC-40A2-9034-59FE5396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2443-1ED6-4C0C-AB44-06CF46D0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603-0D6E-47E9-82D1-7C64FEBB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09A-CBB0-4BD3-800C-64D9B028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1DEB-0BD7-402C-B3E7-98BFD7FF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2E8-BD09-4C41-BC1C-8B6F80EA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25F-1EBA-4E68-A0E7-26EECED1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D71-1C87-432B-AEFB-29067B06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A1A-8350-4F17-AF18-FF835E9A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D39-1493-4929-986A-5CEC2920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6FFA-C9B6-40D4-B419-9DD1167A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143-1657-4B6E-8B15-3E6D715E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A159-2260-43EE-A8F9-4962276FF8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em.purdue.edu/courses/chm333/enzymaticreaction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pasta, bread      (a form of sugar that can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572000" y="342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g. In meat, nut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788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zyme actio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427640" y="36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56:25Z</dcterms:created>
  <dc:creator>CEC</dc:creator>
  <dc:description/>
  <dc:language>en-US</dc:language>
  <cp:lastModifiedBy>LEGION2</cp:lastModifiedBy>
  <dcterms:modified xsi:type="dcterms:W3CDTF">2016-01-14T09:04:29Z</dcterms:modified>
  <cp:revision>7</cp:revision>
  <dc:subject/>
  <dc:title>Digestive Enzymes</dc:title>
</cp:coreProperties>
</file>