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4D1-3FF2-49AC-8B47-7D00E0C470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breaks down starch into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breaks down large starch molecules into small starch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e is made in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rotein molecules are made up of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 are enzymes that act specifically on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6EE-D4E2-4B38-A46A-D8768A7A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75D-1B51-48A7-86C2-FA0B1088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6F9-2D67-4475-8090-95968F2D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2C2-F257-4036-9648-FFD3315E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BD4-1A56-46CF-8C7D-BAEB6F90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9D5-9FB0-44E3-AA35-41975BB0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0EC-1B65-4E15-AC2F-A2628018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55B-D2BF-45DA-89AA-A931A6F1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B2F-72F7-4B66-B9A5-90DBE041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3BA-F2D2-4A06-8CA9-55EBA4F3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FC9-CCFC-4D43-B119-08A0D0C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971-57E5-4DDD-BF54-C99D061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ADA-DDDE-4F6D-AA31-A910CABAC8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lionden.com/peristalsi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 and 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0360" y="3213000"/>
            <a:ext cx="223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66"/>
                </a:solidFill>
                <a:latin typeface="Arial"/>
              </a:rPr>
              <a:t>Amylase breaks down starch into malto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266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Bile breaks down large starch molecules into small starch molecu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859280" y="1916280"/>
            <a:ext cx="22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333399"/>
                </a:solidFill>
                <a:latin typeface="Arial"/>
              </a:rPr>
              <a:t>Bile is made in the li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68360" y="5445000"/>
            <a:ext cx="2879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ats are broken down into fatty acids and glycer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68360" y="3933720"/>
            <a:ext cx="338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9900"/>
                </a:solidFill>
                <a:latin typeface="Arial"/>
              </a:rPr>
              <a:t>Large protein molecules are made up of prote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076720" y="5445000"/>
            <a:ext cx="3311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99ff"/>
                </a:solidFill>
                <a:latin typeface="Arial"/>
              </a:rPr>
              <a:t>Lipases are enzymes that act specifically on prote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-pasta-fusilli"/>
          <p:cNvPicPr/>
          <p:nvPr/>
        </p:nvPicPr>
        <p:blipFill>
          <a:blip r:embed="rId1"/>
          <a:stretch/>
        </p:blipFill>
        <p:spPr>
          <a:xfrm>
            <a:off x="1116000" y="1628640"/>
            <a:ext cx="7199280" cy="4835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labamba_steak_rib_eye"/>
          <p:cNvPicPr/>
          <p:nvPr/>
        </p:nvPicPr>
        <p:blipFill>
          <a:blip r:embed="rId1"/>
          <a:stretch/>
        </p:blipFill>
        <p:spPr>
          <a:xfrm>
            <a:off x="2268360" y="1557360"/>
            <a:ext cx="5040360" cy="48816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gda_07_tatura_butter"/>
          <p:cNvPicPr/>
          <p:nvPr/>
        </p:nvPicPr>
        <p:blipFill>
          <a:blip r:embed="rId1"/>
          <a:srcRect l="0" t="16416" r="0" b="10520"/>
          <a:stretch/>
        </p:blipFill>
        <p:spPr>
          <a:xfrm>
            <a:off x="1258920" y="1806480"/>
            <a:ext cx="6913440" cy="50515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heeseburger"/>
          <p:cNvPicPr/>
          <p:nvPr/>
        </p:nvPicPr>
        <p:blipFill>
          <a:blip r:embed="rId1"/>
          <a:stretch/>
        </p:blipFill>
        <p:spPr>
          <a:xfrm>
            <a:off x="826920" y="603360"/>
            <a:ext cx="7704360" cy="625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5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atomy_and_physiology_of_animals_Peristali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324000" y="616572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ionden.com/peristalsi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ish the one of the sentenc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would like to learn more about i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6:53:37Z</dcterms:created>
  <dc:creator>CEC</dc:creator>
  <dc:description/>
  <dc:language>en-US</dc:language>
  <cp:lastModifiedBy>LEGION2</cp:lastModifiedBy>
  <dcterms:modified xsi:type="dcterms:W3CDTF">2016-01-14T08:53:02Z</dcterms:modified>
  <cp:revision>7</cp:revision>
  <dc:subject/>
  <dc:title>Digestion and Peristalsis</dc:title>
</cp:coreProperties>
</file>