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C9FC-4F13-4322-B78B-2C600ED391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5AD-EE5C-4DC3-8265-E44E8930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467-B3EA-425E-8CC1-92D4C4EA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F8E-CE3B-4BB7-A5AA-75F87B27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8DD-2642-4DBE-9BD9-2C3AB66B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351-F661-473B-A4F8-EF75573A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11E-A67E-4237-88BC-0AE54C7A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793-D1FC-4E71-A696-73F62FD4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57C-31BA-4893-A8A8-FB378235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25C-76EC-4F0C-8EC6-42C45865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2D4-468B-4E37-BC61-26253BB5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191-4096-4CED-9515-7AC2D842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7F0-2018-423D-B3D7-386266E9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5D1D-437B-4F34-8B19-CB9A9F3163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-ordination of the Cardiac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8351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heart action is coordinated with reference to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inoatrial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AN),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oventricular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VN)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able to interpret and explain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lectrocardiog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G) traces, with reference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nor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bnormal heart activ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1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6B4C-0562-4924-AF07-54CCE42AFD2B}" type="datetime3">
              <a:rPr b="0" lang="en-GB" sz="1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MMHE_03_021_01_eps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fibrillation is an abnormal heart rhythm that is disorganized and irregular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95640" cy="4552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tachycardia is a rapid, regular heart rhythm that originates in the lower chambers of the hear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ventricular_tach"/>
          <p:cNvPicPr/>
          <p:nvPr/>
        </p:nvPicPr>
        <p:blipFill>
          <a:blip r:embed="rId1"/>
          <a:stretch/>
        </p:blipFill>
        <p:spPr>
          <a:xfrm>
            <a:off x="1332000" y="2205000"/>
            <a:ext cx="5545080" cy="3446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block refers to a delay in the normal flow of electrical impulses that cause the heart to bea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is made of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ardiac musc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cells receive an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contract - causing a heart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i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myogen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t can contract on its own, without needing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inus+animation"/>
          <p:cNvPicPr/>
          <p:nvPr/>
        </p:nvPicPr>
        <p:blipFill>
          <a:blip r:embed="rId1"/>
          <a:stretch/>
        </p:blipFill>
        <p:spPr>
          <a:xfrm>
            <a:off x="1979640" y="1341360"/>
            <a:ext cx="4876920" cy="4924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eartbeat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43545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oatrial node (SA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pecialized node is foun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upp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ide w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right atr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 node is known a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acema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heart and initiates a heartbeat every 0.85 seco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ignal travels acros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ausing them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contra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load the ventricles with bl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are electrically insulated from atria - so they don’t contract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trio-ventricular node (AV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locate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ott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rface of the right 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s responsible for initiating the contraction of the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al impulse passes to ventricles via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undle of H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They pass the impulse to the base of the ventricles (~ 0.1 s del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undle of His is a group of fibres that conduct impulses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 fib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carry impulses to left &amp; right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then contract from the bottom upw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relaxes =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ocardi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ormalECG2"/>
          <p:cNvPicPr/>
          <p:nvPr/>
        </p:nvPicPr>
        <p:blipFill>
          <a:blip r:embed="rId1"/>
          <a:stretch/>
        </p:blipFill>
        <p:spPr>
          <a:xfrm>
            <a:off x="395280" y="1557360"/>
            <a:ext cx="4971960" cy="4924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859280" y="126828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 = atrial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RS = ventricular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= ventricular dia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rds electrical activity of heart to monitor hear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emaker generate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 curr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body fluids around the heart - detected by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od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produce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mus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d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loses electrical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gains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l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2:54:17Z</dcterms:created>
  <dc:creator>Neil Walker</dc:creator>
  <dc:description/>
  <dc:language>en-US</dc:language>
  <cp:lastModifiedBy>LEGION2</cp:lastModifiedBy>
  <dcterms:modified xsi:type="dcterms:W3CDTF">2016-01-14T08:49:18Z</dcterms:modified>
  <cp:revision>9</cp:revision>
  <dc:subject/>
  <dc:title>Co-ordination of the Cardiac Cycle</dc:title>
</cp:coreProperties>
</file>