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6ACD-5B30-4D4D-B78B-AB28DF79C4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-ordination of the Cardiac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heart action is coordinated with reference to the sinoatrial node (SAN), the atrioventricular node (AVN) and the Purkyne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interpret and explain electrocardiogram (ECG) traces, with reference to normal and abnormal heart activ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September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fibrillation is an abnormal heart rhythm that is disorganized and irregu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ar tachycardia is a rapid, regular heart rhythm that originates in the lower chambers of the hea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lock refers to a delay in the normal flow of electrical impulses that cause the heart to be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 is made of cardiac mus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cells receive an electrical impulse they contract - causing a heart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is myogenic - it can contract on its own, without needing nerve impul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oatrial node (SA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pecialized node is found on the upper inside wall of the right at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 node is known as the pacemaker of the heart and initiates a heartbeat every 0.85 secon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ignal travels across the atria causing them to contract and load the ventricles with bl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are electrically insulated from atria - so they don’t contract y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o-ventricular node (AV n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V node is located on the bottom surface of the right atria and is responsible for initiating the contraction of the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impulse passes to ventricles via AV node and the Bundle of His. They pass the impulse to the base of the ventricles (~ 0.1 s dela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ndle of His is a group of fibres that conduct impulses to Purkyne fibres which carry impulses to left &amp; right ventric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les then contract from the bottom upwar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impu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iac muscle relaxes =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ardio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atrial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RS = ventricular sy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ventricular diast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s electrical activity of heart to monitor heart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emaker generates electrical currents in body fluids around the heart - detected by electrodes to produce EC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mus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olarises (loses electrical charge) when it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larises (regains charge) when it rela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D6A5-152A-4102-8347-DBA6E27F4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41E-C907-44E9-B2B2-DECEAD02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CB0-8FF1-4773-BB36-166BF114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C2D-5BD6-4436-BA9E-73AAD748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60E-6FC4-4E99-A28E-ED5BF0E9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3A85-0A47-41A7-BF35-5A8635EE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48B4-8436-4DAE-96CE-04151568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171-2AD9-49FC-A65D-B1AA166F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A4E-F66E-48B1-ABBB-C382BBFB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56B2-DAD4-428C-A7F2-26762742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5186-770B-4E31-8D79-7C6CD201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48C6-2D3D-41DD-9EB0-AD135A0D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A80A-7DA1-4891-9481-065D0BD3F3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o-ordination of the Cardiac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35164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heart action is coordinated with reference to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inoatrial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AN),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oventricular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AVN)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ble to interpret and explain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electrocardiog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ECG) traces, with reference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norma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bnormal heart activ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18900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70E7-D14B-4668-8D5C-24A56CC3BBD4}" type="datetime3">
              <a:rPr b="0" lang="en-GB" sz="1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MMHE_03_021_01_eps"/>
          <p:cNvPicPr/>
          <p:nvPr/>
        </p:nvPicPr>
        <p:blipFill>
          <a:blip r:embed="rId1"/>
          <a:stretch/>
        </p:blipFill>
        <p:spPr>
          <a:xfrm>
            <a:off x="971640" y="1268280"/>
            <a:ext cx="7129440" cy="464832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fibrillation is an abnormal heart rhythm that is disorganized and irregular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4895640" cy="4552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tricular tachycardia is a rapid, regular heart rhythm that originates in the lower chambers of the hear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ventricular_tach"/>
          <p:cNvPicPr/>
          <p:nvPr/>
        </p:nvPicPr>
        <p:blipFill>
          <a:blip r:embed="rId1"/>
          <a:stretch/>
        </p:blipFill>
        <p:spPr>
          <a:xfrm>
            <a:off x="1332000" y="2205000"/>
            <a:ext cx="5545080" cy="34466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block refers to a delay in the normal flow of electrical impulses that cause the heart to beat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eart is made of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ardiac muscl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cells receive an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contract - causing a heartb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i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myogeni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 it can contract on its own, without needing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impul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inus+animation"/>
          <p:cNvPicPr/>
          <p:nvPr/>
        </p:nvPicPr>
        <p:blipFill>
          <a:blip r:embed="rId1"/>
          <a:stretch/>
        </p:blipFill>
        <p:spPr>
          <a:xfrm>
            <a:off x="1979640" y="1341360"/>
            <a:ext cx="4876920" cy="4924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eartbeat"/>
          <p:cNvPicPr/>
          <p:nvPr/>
        </p:nvPicPr>
        <p:blipFill>
          <a:blip r:embed="rId1"/>
          <a:stretch/>
        </p:blipFill>
        <p:spPr>
          <a:xfrm>
            <a:off x="684360" y="765000"/>
            <a:ext cx="7704000" cy="43545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noatrial node (SA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pecialized node is foun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upp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inside w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right atr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 node is known a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acemak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the heart and initiates a heartbeat every 0.85 secon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ignal travels across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ausing them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contrac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 load the ventricles with bloo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are electrically insulated from atria - so they don’t contract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trio-ventricular node (AV nod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located on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ott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surface of the right atr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is responsible for initiating the contraction of the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ectrical impulse passes to ventricles via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AV no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Bundle of H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y pass the impulse to the base of the ventricles (~ 0.1 s dela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undle of His is a group of fibres that conduct impulses to </a:t>
            </a:r>
            <a:r>
              <a:rPr b="0" lang="en-GB" sz="2800" spc="-1" strike="noStrike">
                <a:solidFill>
                  <a:srgbClr val="cc0000"/>
                </a:solidFill>
                <a:latin typeface="Arial"/>
              </a:rPr>
              <a:t>Purkyne fibr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carry impulses to left &amp; right ventr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ntricles then contract from the bottom upwa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 impu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diac muscle relaxes = diast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lectrocardi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ormalECG2"/>
          <p:cNvPicPr/>
          <p:nvPr/>
        </p:nvPicPr>
        <p:blipFill>
          <a:blip r:embed="rId1"/>
          <a:stretch/>
        </p:blipFill>
        <p:spPr>
          <a:xfrm>
            <a:off x="395280" y="1557360"/>
            <a:ext cx="4971960" cy="4924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859280" y="1268280"/>
            <a:ext cx="38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 = atrial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RS = ventricular sy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 = ventricular diast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cords electrical activity of heart to monitor heart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cemaker generates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ical curr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body fluids around the heart - detected by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lectrod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produce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E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rt musc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d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loses electrical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polaris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gains charge) when it 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rel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2:54:17Z</dcterms:created>
  <dc:creator>Neil Walker</dc:creator>
  <dc:description/>
  <dc:language>en-US</dc:language>
  <cp:lastModifiedBy>LEGION2</cp:lastModifiedBy>
  <dcterms:modified xsi:type="dcterms:W3CDTF">2016-01-14T08:49:18Z</dcterms:modified>
  <cp:revision>9</cp:revision>
  <dc:subject/>
  <dc:title>Co-ordination of the Cardiac Cycle</dc:title>
</cp:coreProperties>
</file>