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F445-130E-4B03-A87E-6720A16149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0C6-203C-418F-BF58-A9B70B7F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BD3-86C3-4DD0-AB5A-1C7EA3AE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C87-5D56-466B-94B0-81446C42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35F-F63E-4AFE-BCB8-695E0F5F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29A-EA7C-4779-8B8C-6B1FF81D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5AE3-0BAD-425F-BF50-28B3CEC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62E9-0E76-4184-B4EC-628E1AC5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BAE8-4E48-4A27-A459-B4625512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AB5C-9194-472B-A55A-C2176FCC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99B5-1D06-48EF-A4E1-04D60737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D501-5D16-4EED-AF4A-AD6F95C2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729-93D7-4EB9-8DE9-8AD140F8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9F23-D9B1-43B6-96E4-EB9ED4F9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8374-1EBC-4794-89F9-F94494E0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0554-B458-466B-9BD5-51C53E31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D96A-5662-44A5-A681-D18FDB0E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0DA8-3E81-4D15-A2F6-A90F225D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203-F229-4B98-A411-377D97D5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9AD-7AD7-4949-A9BC-68CF3FC7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E4A-9687-4A2C-AF78-E4739735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21A-523D-4513-8A5A-C74AFAB9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B46-FC92-41AE-BDA4-1D40AF9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365-D0B1-4731-9628-49C785AF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1ED-4D04-46A6-BBA5-1AE7EE0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8B0A-C2B3-48C1-8D85-209F29948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4EFE-F471-4327-B2ED-F1065006A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Energy and conser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floods"/>
          <p:cNvPicPr/>
          <p:nvPr/>
        </p:nvPicPr>
        <p:blipFill>
          <a:blip r:embed="rId1"/>
          <a:stretch/>
        </p:blipFill>
        <p:spPr>
          <a:xfrm>
            <a:off x="1447920" y="2362320"/>
            <a:ext cx="6933960" cy="3713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lobal warming will therefore  lead to 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all this burning of fossil fuels leading to an Earth that is suffering form many environmental probl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polluted Earth"/>
          <p:cNvPicPr/>
          <p:nvPr/>
        </p:nvPicPr>
        <p:blipFill>
          <a:blip r:embed="rId2"/>
          <a:stretch/>
        </p:blipFill>
        <p:spPr>
          <a:xfrm>
            <a:off x="4648320" y="257184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66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urning fossil fuel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d poisoning has been shown to affect the development and progress of children living near motor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ust and gases in the air can lead to smog above large industrialised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 hole is developing in the ozone layer which therefore will not filter out harmful ultra-violet rays from the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4" descr="smog"/>
          <p:cNvPicPr/>
          <p:nvPr/>
        </p:nvPicPr>
        <p:blipFill>
          <a:blip r:embed="rId4"/>
          <a:stretch/>
        </p:blipFill>
        <p:spPr>
          <a:xfrm>
            <a:off x="1752480" y="1371600"/>
            <a:ext cx="5181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We need to conserve our fossil fue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lectricity we produce from burning fossil fuels could also be made using renewable energ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kes sense to save the oil we have left for making fuel for transport and for making pla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could try to save wasting energy from fossil fuels during domestic use in our homes and from waste transport consumption of fu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ydroelectric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d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otherm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omass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5" descr="renewablesun"/>
          <p:cNvPicPr/>
          <p:nvPr/>
        </p:nvPicPr>
        <p:blipFill>
          <a:blip r:embed="rId8"/>
          <a:stretch/>
        </p:blipFill>
        <p:spPr>
          <a:xfrm>
            <a:off x="7315200" y="83808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olar power"/>
          <p:cNvPicPr/>
          <p:nvPr/>
        </p:nvPicPr>
        <p:blipFill>
          <a:blip r:embed="rId9"/>
          <a:stretch/>
        </p:blipFill>
        <p:spPr>
          <a:xfrm>
            <a:off x="4876920" y="525780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ydroelectricity"/>
          <p:cNvPicPr/>
          <p:nvPr/>
        </p:nvPicPr>
        <p:blipFill>
          <a:blip r:embed="rId10"/>
          <a:stretch/>
        </p:blipFill>
        <p:spPr>
          <a:xfrm>
            <a:off x="5486400" y="2459160"/>
            <a:ext cx="3276720" cy="2465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windpower"/>
          <p:cNvPicPr/>
          <p:nvPr/>
        </p:nvPicPr>
        <p:blipFill>
          <a:blip r:embed="rId11"/>
          <a:stretch/>
        </p:blipFill>
        <p:spPr>
          <a:xfrm>
            <a:off x="3733920" y="10666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uel&amp;fibre"/>
          <p:cNvPicPr/>
          <p:nvPr/>
        </p:nvPicPr>
        <p:blipFill>
          <a:blip r:embed="rId12"/>
          <a:stretch/>
        </p:blipFill>
        <p:spPr>
          <a:xfrm>
            <a:off x="1219320" y="5334120"/>
            <a:ext cx="2114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Problems with nuclear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power stations can produce large amounts of energy from small amounts of nuclear fuel. (Radioactive materials naturally release he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radiation is extremely danger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gh safety standard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te materials stay radioactive for thousands of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have been some disastrous accidents at nuclear power stations which have affected all living things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ellafield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342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l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s fuels: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 : why we need to conserv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: problems of pol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ternative energy sources (advantages &amp; disadvant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 with nuclear f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ised countries need large amoun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st of this energy comes form fossil fuels which are burnt in power stations, factories, homes and veh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fossil fuels formed millions of years ago, and are non-renew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the fossil fuels have been used up there will be no more to replac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Oil is useful for other things to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343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il is a mixture of different comp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can separate these substances by a process called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fractional disti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fractions include fuels li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etrol, diesel and aviation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s of oil are also used to ma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lastics, medicines, paints, dyes and even wax ca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bd06973_"/>
          <p:cNvPicPr/>
          <p:nvPr/>
        </p:nvPicPr>
        <p:blipFill>
          <a:blip r:embed="rId5"/>
          <a:stretch/>
        </p:blipFill>
        <p:spPr>
          <a:xfrm>
            <a:off x="5105520" y="2316240"/>
            <a:ext cx="33526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Problems with burning fossil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148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uge amoun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re given off into the atmosp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bon dioxide causes </a:t>
            </a:r>
            <a:r>
              <a:rPr b="1" lang="en-GB" sz="2400" spc="-1" strike="noStrike">
                <a:solidFill>
                  <a:srgbClr val="ff6600"/>
                </a:solidFill>
                <a:latin typeface="Tahoma"/>
              </a:rPr>
              <a:t>global warm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al-burning power stations also give of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ulphur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gas which leads to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032" descr="air-pollution"/>
          <p:cNvPicPr/>
          <p:nvPr/>
        </p:nvPicPr>
        <p:blipFill>
          <a:blip r:embed="rId4"/>
          <a:stretch/>
        </p:blipFill>
        <p:spPr>
          <a:xfrm>
            <a:off x="4648320" y="2514600"/>
            <a:ext cx="4114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What is the greenhouse effec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bon dioxide gas acts like the glass in a green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rared radiation from the Sun is usually reflected back into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eenhouse gases stop this, and heat is reflected back to the Earth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6" descr="greenhse"/>
          <p:cNvPicPr/>
          <p:nvPr/>
        </p:nvPicPr>
        <p:blipFill>
          <a:blip r:embed="rId4"/>
          <a:stretch/>
        </p:blipFill>
        <p:spPr>
          <a:xfrm>
            <a:off x="685800" y="23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greenhouseEff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hat are the problems with global warming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45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average temperature of the Earth will 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can lead to drou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drought2"/>
          <p:cNvPicPr/>
          <p:nvPr/>
        </p:nvPicPr>
        <p:blipFill>
          <a:blip r:embed="rId3"/>
          <a:stretch/>
        </p:blipFill>
        <p:spPr>
          <a:xfrm>
            <a:off x="4114800" y="1547640"/>
            <a:ext cx="4724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tremes of weather will occur hurricanes and 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7" descr="large waves"/>
          <p:cNvPicPr/>
          <p:nvPr/>
        </p:nvPicPr>
        <p:blipFill>
          <a:blip r:embed="rId2"/>
          <a:stretch/>
        </p:blipFill>
        <p:spPr>
          <a:xfrm>
            <a:off x="228600" y="403848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hurricanes_pic"/>
          <p:cNvPicPr/>
          <p:nvPr/>
        </p:nvPicPr>
        <p:blipFill>
          <a:blip r:embed="rId3"/>
          <a:stretch/>
        </p:blipFill>
        <p:spPr>
          <a:xfrm>
            <a:off x="1981080" y="1219320"/>
            <a:ext cx="3149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502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ncrease in temperature will speed up the melting of the polar ice c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6" descr="melting polar ice cap"/>
          <p:cNvPicPr/>
          <p:nvPr/>
        </p:nvPicPr>
        <p:blipFill>
          <a:blip r:embed="rId2"/>
          <a:stretch/>
        </p:blipFill>
        <p:spPr>
          <a:xfrm>
            <a:off x="836640" y="2147760"/>
            <a:ext cx="35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5:24:08Z</dcterms:created>
  <dc:creator> </dc:creator>
  <dc:description/>
  <dc:language>en-US</dc:language>
  <cp:lastModifiedBy>RomaK</cp:lastModifiedBy>
  <dcterms:modified xsi:type="dcterms:W3CDTF">2015-09-01T16:23:58Z</dcterms:modified>
  <cp:revision>6</cp:revision>
  <dc:subject/>
  <dc:title>Energy and conservation</dc:title>
</cp:coreProperties>
</file>