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06E8-D9BB-4EB2-A2A3-E02341731B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99A-1A5A-40BC-873B-54BE7EAF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555-4E75-4D6B-9A2D-308B5334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B22-0394-4F87-B46C-A632283F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461-B823-4D31-900D-7C493F14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C8E-D07C-4A20-982D-9C5B457A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5B2E-DC4F-4BC7-AB6F-58F05ED3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E4E1-E817-479B-B767-E7F9E5B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1A59-11F7-4440-9DD7-C32B1E93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B564-082A-4AC0-993F-751C3968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3F05-56CC-45AC-898D-6541C010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0EF3-9A58-4BD8-AAD2-22701B5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B6A-2B1B-4826-83A8-2C892D3B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B464-C56A-474C-9F56-8267DCC2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6C8A-3213-49CD-819F-41ADD1B6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FE7C-C43A-443B-8F94-5370F81E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DB35-504E-4ED0-8AE6-A6F0AD7B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6411-7531-4371-AE08-8D2D65CE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E0C-1065-49F9-996B-A3C6B7B9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A73-F377-43C1-9D57-D19D3C77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841-0C58-458C-A2D5-2F016BC1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C03-69DE-488D-8FE2-09F60CA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DB3-5C7B-4555-9901-6AD4F06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923-6DEC-45B0-89FD-5B3A64D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F30-ECA2-4C1F-B9CA-A0E1332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C526-D889-4D43-8E34-95FA21A1CE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8DD6-5923-437E-A9BA-9437E7A08E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ontrolling Disea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6" descr="300px-Tableau_Louis_Pasteur"/>
          <p:cNvPicPr/>
          <p:nvPr/>
        </p:nvPicPr>
        <p:blipFill>
          <a:blip r:embed="rId1"/>
          <a:stretch/>
        </p:blipFill>
        <p:spPr>
          <a:xfrm>
            <a:off x="2335320" y="1219320"/>
            <a:ext cx="412272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steur’s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66"/>
                </a:solidFill>
                <a:latin typeface="Arial"/>
              </a:rPr>
              <a:t>Which went off?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1_6"/>
          <p:cNvPicPr/>
          <p:nvPr/>
        </p:nvPicPr>
        <p:blipFill>
          <a:blip r:embed="rId1"/>
          <a:stretch/>
        </p:blipFill>
        <p:spPr>
          <a:xfrm>
            <a:off x="457200" y="163188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thogens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33"/>
                </a:solidFill>
                <a:latin typeface="Arial"/>
              </a:rPr>
              <a:t>= microorganisms which caus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Painkiller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relieve the symptoms without cur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Antibiotic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chemicals which kill bacteria, but not viruses. Viruses develop in cells and are hard to ki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Bacteria Drug Resist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180px-Antibiotic_resistanc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90720" y="1447920"/>
            <a:ext cx="287496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esting for Antibiotic Resistance in Bacter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6" descr="resist2"/>
          <p:cNvPicPr/>
          <p:nvPr/>
        </p:nvPicPr>
        <p:blipFill>
          <a:blip r:embed="rId1"/>
          <a:stretch/>
        </p:blipFill>
        <p:spPr>
          <a:xfrm>
            <a:off x="914400" y="2058840"/>
            <a:ext cx="7315200" cy="3613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124080" y="1295280"/>
            <a:ext cx="1447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124080" y="1981080"/>
            <a:ext cx="1526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0400" y="5867280"/>
            <a:ext cx="2438280" cy="91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5181480" y="4495320"/>
            <a:ext cx="4572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4920" y="5791320"/>
            <a:ext cx="205740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1523880" y="47242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523880" y="502884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ntibiotic Resistance in Bac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5000" y="472932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4T08:4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