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E782-CDE6-41B9-A5DE-820B2AB20F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ing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n attractive dish for microb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ing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n attractive dish for microb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uis Pas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thought that food went off because it was in contact with air. They though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+ food                microorganisms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ur said that microbes come from microb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did som experiments to prove this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uis Pas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thought that food went off because it was in contact with air. They though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+ food                microorganisms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ur said that microbes come from microb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did som experiments to prove this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uis Pas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uis Pas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ur’s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poured some grape juice in 2 fl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hen produced a ‘swan neck’ in the g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eated the flasks to bo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lask was 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had its neck broken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went off?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ur’s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poured some grape juice in 2 fl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hen produced a ‘swan neck’ in the g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eated the flasks to bo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lask was 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had its neck broken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went off?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microorganisms which caus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are used to help people with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nkillers – relieve the symptoms without curing th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s – chemicals which kill bacteria, but not viruses. Viruses develop in cells and are hard to k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microorganisms which caus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are used to help people with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nkillers – relieve the symptoms without curing th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s – chemicals which kill bacteria, but not viruses. Viruses develop in cells and are hard to k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rug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in nature are varied. A few have the resistance to antib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antibiotic is used there is a natural selection for the bacteria with the most drug res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urvive and breed and become more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rug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in nature are varied. A few have the resistance to antib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antibiotic is used there is a natural selection for the bacteria with the most drug res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urvive and breed and become more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Antibiotic Resistance 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 of bac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olonies growing near disc of antib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s of different antibiotic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Antibiotic Resistance 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 of bac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olonies growing near disc of antib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s of different antibiotic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 Resistance 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rains of bacteria have resistance to antibiotic due to natur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need a range of antibiotics to fight disease with the best one for the 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low down more antibiotic resistance developing in pathogenic bacteria we need to avoid over using 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 Resistance 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rains of bacteria have resistance to antibiotic due to natur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need a range of antibiotics to fight disease with the best one for the 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low down more antibiotic resistance developing in pathogenic bacteria we need to avoid over using 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B9DC-DF0C-45EB-AC7A-70D507083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882C-2DF7-41A0-8005-6AF9F208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D37F-10AF-4ED1-8F54-65C51974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B18E-D2AC-4E2B-B8A5-D094ABE30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1601-D9F0-478B-BCCA-FB642756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D2D9-E038-405C-A599-9B55C383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A751-A968-45B0-95DD-C28ED7FD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EB68-145E-47F4-A520-1D4BF086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83CC-632C-4088-8D0F-2D5EBA88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55C2-2344-4E3F-A2D1-7AE93713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8207-C976-42F0-B105-A71080EA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4CF7-E38E-4296-90D6-0AC52423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3927-CCFB-4BED-A05D-000EC686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48AB-F043-4239-9F3D-78E8012D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3C8B-AC35-4496-B7FA-203E9845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54DB-41AE-469A-B665-EA158896D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3097-BE47-4977-8BBF-115DEE08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3AC5-D1BF-47D8-A477-7CE4A5EA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9713-0593-4295-AF97-EE93B2E4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7C8E-D496-42B2-AAB7-5223C8E3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FF13-E6DA-46E3-AE46-884527DB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E2CC-FB75-493A-AB26-557DAFBE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19BC-0A9A-44E2-AE27-4E3003E6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9102-E386-4B92-8AEA-1833BBDD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E0E2-6B48-4381-8004-307D9DD7FDB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C1F8-BC8B-416B-AE4F-94A5A34BCCC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6633"/>
                </a:solidFill>
                <a:latin typeface="Garamond"/>
              </a:rPr>
              <a:t>Controlling Diseas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are an attractive dish for microb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Louis Pasteu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eople thought that food went off because it was in contact with air. They though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 + food                microorganisms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steur said that microbes come from microb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 did som experiments to prove this 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Louis Pasteu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Picture 6" descr="300px-Tableau_Louis_Pasteur"/>
          <p:cNvPicPr/>
          <p:nvPr/>
        </p:nvPicPr>
        <p:blipFill>
          <a:blip r:embed="rId1"/>
          <a:stretch/>
        </p:blipFill>
        <p:spPr>
          <a:xfrm>
            <a:off x="2335320" y="1219320"/>
            <a:ext cx="4122720" cy="487656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Pasteur’s Experi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e poured some grape juice in 2 flas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e then produced a ‘swan neck’ in the g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e heated the flasks to boi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e flask was lef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other had its neck broken o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66"/>
                </a:solidFill>
                <a:latin typeface="Arial"/>
              </a:rPr>
              <a:t>Which went off? Wh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1_6"/>
          <p:cNvPicPr/>
          <p:nvPr/>
        </p:nvPicPr>
        <p:blipFill>
          <a:blip r:embed="rId1"/>
          <a:stretch/>
        </p:blipFill>
        <p:spPr>
          <a:xfrm>
            <a:off x="457200" y="1631880"/>
            <a:ext cx="4038480" cy="44672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Pathogens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33"/>
                </a:solidFill>
                <a:latin typeface="Arial"/>
              </a:rPr>
              <a:t>= microorganisms which cause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rugs are used to help people with dise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Arial"/>
              </a:rPr>
              <a:t>Painkiller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– relieve the symptoms without curing the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Arial"/>
              </a:rPr>
              <a:t>Antibiotic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– chemicals which kill bacteria, but not viruses. Viruses develop in cells and are hard to kil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Bacteria Drug Resistan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1480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acteria in nature are varied. A few have the resistance to antibiot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en the antibiotic is used there is a natural selection for the bacteria with the most drug resista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se survive and breed and become more comm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180px-Antibiotic_resistance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990720" y="1447920"/>
            <a:ext cx="2874960" cy="46479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33"/>
                </a:solidFill>
                <a:latin typeface="Garamond"/>
              </a:rPr>
              <a:t>Testing for Antibiotic Resistance in Bacteri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6" name="Picture 6" descr="resist2"/>
          <p:cNvPicPr/>
          <p:nvPr/>
        </p:nvPicPr>
        <p:blipFill>
          <a:blip r:embed="rId1"/>
          <a:stretch/>
        </p:blipFill>
        <p:spPr>
          <a:xfrm>
            <a:off x="914400" y="2058840"/>
            <a:ext cx="7315200" cy="36133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3124080" y="1295280"/>
            <a:ext cx="14479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ear of bacte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8"/>
          <p:cNvSpPr/>
          <p:nvPr/>
        </p:nvSpPr>
        <p:spPr>
          <a:xfrm flipH="1">
            <a:off x="3124080" y="1981080"/>
            <a:ext cx="15264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3200400" y="5867280"/>
            <a:ext cx="2438280" cy="91692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teria colonies growing near disc of antibio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0"/>
          <p:cNvSpPr/>
          <p:nvPr/>
        </p:nvSpPr>
        <p:spPr>
          <a:xfrm flipV="1">
            <a:off x="5181480" y="4495320"/>
            <a:ext cx="45720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304920" y="5791320"/>
            <a:ext cx="2057400" cy="6426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s of different antibiotic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 flipV="1">
            <a:off x="1523880" y="4724280"/>
            <a:ext cx="45720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3"/>
          <p:cNvSpPr/>
          <p:nvPr/>
        </p:nvSpPr>
        <p:spPr>
          <a:xfrm flipV="1">
            <a:off x="1523880" y="5028840"/>
            <a:ext cx="11430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Antibiotic Resistance in Bacter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ny strains of bacteria have resistance to antibiotic due to natural sel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o we need a range of antibiotics to fight disease with the best one for the jo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 slow down more antibiotic resistance developing in pathogenic bacteria we need to avoid over using antibi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images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715000" y="4729320"/>
            <a:ext cx="2133720" cy="18097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6-01-14T08:47:1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