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D810-80C7-48A9-8060-48876F89AF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CB9-790D-44BD-A32B-F7FA4CFA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39F-BD1E-42E6-BA1D-4DD68154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F4C-09DF-415F-8036-3A326CB4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363-3BF3-4EC7-9999-419083BF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D09D-17E5-4190-8616-EB8B671C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1A30-EB1D-42BC-A0F0-407049FF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9683-2D3C-4931-A5EE-064482DA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BA30-B0DB-4E2F-9C2F-71397420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9834-9A1D-4A0E-B08B-B9C58259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4B65-8970-4582-84AE-56AD9641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B1F2-40C2-41D4-9F14-2A334A07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029-9AC3-4034-BDE6-B3A71EE5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B346-0791-4D58-A269-111E80FB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1016-A905-41B6-9AA4-BB388445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0F0E-A3D6-44F0-8F31-6B37F115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E69B-52CB-40C9-AD24-8B865B43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5D1D-3ED4-40B3-98FD-97438E31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BEE-F116-42D2-81FB-BD42E485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620-9746-4101-8765-228D3BC4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122-86EE-49FD-B0B2-C454530A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F28-0EAA-492B-A239-B2C53E04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499-32D6-40DB-B29E-E7880C3F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E0E-5477-4DD7-89F7-FC59248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719-60BF-4DAF-AE7A-0F544524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7ACE-764F-4E35-9BA2-128854416AD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0A18-0F6A-4E52-BDDA-FB82BDAC7B6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Controlling Diseas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6" descr="300px-Tableau_Louis_Pasteur"/>
          <p:cNvPicPr/>
          <p:nvPr/>
        </p:nvPicPr>
        <p:blipFill>
          <a:blip r:embed="rId1"/>
          <a:stretch/>
        </p:blipFill>
        <p:spPr>
          <a:xfrm>
            <a:off x="2335320" y="1219320"/>
            <a:ext cx="4122720" cy="4876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steur’s Experi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66"/>
                </a:solidFill>
                <a:latin typeface="Arial"/>
              </a:rPr>
              <a:t>Which went off?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1_6"/>
          <p:cNvPicPr/>
          <p:nvPr/>
        </p:nvPicPr>
        <p:blipFill>
          <a:blip r:embed="rId1"/>
          <a:stretch/>
        </p:blipFill>
        <p:spPr>
          <a:xfrm>
            <a:off x="457200" y="1631880"/>
            <a:ext cx="403848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thogens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33"/>
                </a:solidFill>
                <a:latin typeface="Arial"/>
              </a:rPr>
              <a:t>= microorganisms which caus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Painkiller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relieve the symptoms without cur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Antibiotic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chemicals which kill bacteria, but not viruses. Viruses develop in cells and are hard to ki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Bacteria Drug Resist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180px-Antibiotic_resistanc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90720" y="1447920"/>
            <a:ext cx="2874960" cy="4647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Testing for Antibiotic Resistance in Bacteri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Picture 6" descr="resist2"/>
          <p:cNvPicPr/>
          <p:nvPr/>
        </p:nvPicPr>
        <p:blipFill>
          <a:blip r:embed="rId1"/>
          <a:stretch/>
        </p:blipFill>
        <p:spPr>
          <a:xfrm>
            <a:off x="914400" y="2058840"/>
            <a:ext cx="7315200" cy="3613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124080" y="1295280"/>
            <a:ext cx="14479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124080" y="1981080"/>
            <a:ext cx="15264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200400" y="5867280"/>
            <a:ext cx="2438280" cy="91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V="1">
            <a:off x="5181480" y="4495320"/>
            <a:ext cx="4572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04920" y="5791320"/>
            <a:ext cx="205740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1523880" y="4724280"/>
            <a:ext cx="457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1523880" y="502884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ntibiotic Resistance in Bac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ages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715000" y="4729320"/>
            <a:ext cx="2133720" cy="1809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4T08:47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