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7D3A-E885-4400-8CA4-2176CEF9F4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9F150-EFB5-4F61-B3B6-AC9B7CF77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3E444-E285-4CD1-A081-DC1B382C0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35FFE-7E2A-4BFF-9FE4-80E355961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37BA7-AAF3-4CAB-8566-4B77E5393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83C53-C07C-43B7-B2A8-E97613973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EF40A-E0CA-492F-A9DE-8156E1208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67B2F-CE7B-43B4-8D3C-E9298BD0E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79DF9-17D5-4C0F-A84D-FAF95812B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7CC80-7DB0-4A49-B93A-7F8C6C649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9974A-0032-4610-9BEE-C78CDDD66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6B6F5-21BB-4E2F-BCDA-0006F8B3D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55E94-54AB-42FC-BE5B-C8FC6E108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9070E-CBE6-42D6-BF5E-AAD2AF85D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80438-72A3-4736-AC8E-77D673527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19E6C-43A7-464A-AF56-810236FA4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4C189-C65C-448A-9D64-4B07607B3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AE349-71DD-446A-9694-39E07A688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FA64E-1C92-4A4A-A8D2-7CD4BE81D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99B31-C03F-4E5B-A714-AFD7CAC3B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EA060-09CC-45FB-B77B-A347B1865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E538C-C890-4689-80FD-7CF35ABF6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95322-6DD8-475E-AE80-D8C72DF0C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6D247-62FA-4576-BD5C-FB37CE8A1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1E65-CCE7-4B2A-B24E-8CA25B4CC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DE03-76E5-4BB6-A11A-487074F10DF0}"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F0A5-3D8F-41BD-81B0-7AC4FC25E93C}"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2</cp:lastModifiedBy>
  <dcterms:modified xsi:type="dcterms:W3CDTF">2016-01-14T08:45:41Z</dcterms:modified>
  <cp:revision>18</cp:revision>
  <dc:subject>control of Heart beat</dc:subject>
  <dc:title>control of Heart beat</dc:title>
</cp:coreProperties>
</file>