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F270-080F-406E-86A1-CEFB06D593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1322A-3D38-470E-9EFF-24FB05C4F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E5A65-A317-4ED9-9C88-D75DC833A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3B997-4B21-4A0A-A9B1-1DC5443AC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5F349-8739-4CF4-A1EF-3FB2528AD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3A5E9-E5A1-4C0E-912B-CE5B151D6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6FD26-1233-434A-AF9B-55221D750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B407D-9E9A-4807-AE13-80A30FB7E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21B70-518B-4D1F-800F-FB03E4FF0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CDAAF-A290-4395-8E58-73449AB32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B8CEC-8EC9-432D-9F82-6286E0E78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3B662-290D-4E4F-AA34-CA008203C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E862B-DD7E-41C0-80C5-229881E50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642F6-A992-4D75-A097-3F3D42CC2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54719-274B-4C77-853B-D0189C0B8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8C24F-D015-4ADA-820F-3A6C966DE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A76BE-CB03-4E60-9577-3026AC342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4BD1D-B898-4AC8-827A-61172ECDB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55B17-D9EA-4E9B-A14B-38A9D8F5D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13ECD-75C8-4FAA-BCD8-976336E34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CE636-2945-4E7D-9419-A2262A37D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1D991-83A2-47C0-B270-6D2A1643E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65C62-EF9F-4CDB-83F5-640B19A9E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65073-7576-4681-8D63-4A566F735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7D63F-1D3D-415C-8609-3B77555AA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C69A-5BCE-471E-9342-95A75A34FC74}"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C167-0F29-427F-8D67-302B6D531B18}"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2</cp:lastModifiedBy>
  <dcterms:modified xsi:type="dcterms:W3CDTF">2016-01-14T08:45:41Z</dcterms:modified>
  <cp:revision>18</cp:revision>
  <dc:subject>control of Heart beat</dc:subject>
  <dc:title>control of Heart beat</dc:title>
</cp:coreProperties>
</file>