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applause.wav" ContentType="audio/x-wav"/>
  <Override PartName="/ppt/media/drumroll.wav" ContentType="audio/x-wav"/>
  <Override PartName="/ppt/media/image7.gif" ContentType="image/gi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8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0394-4E9E-40F2-A75F-80D2352216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ggy Col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nical Terminolo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des 10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ggy Co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nical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hou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hora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hora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i.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times dai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 in die -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i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times 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 in die -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o.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ther da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otro die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o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ther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otro die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fficient quant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ntum sufficiat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fficient qua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ntum sufficiat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Abbreviations #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Abbreviations #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lv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wd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l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w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v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v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que-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que-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da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die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die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C3FD-5024-466C-9E3F-079080A2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9DEA-5B0E-4550-8B5B-8EEBC178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297-4248-4FD2-BADF-CF4C9606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DF74-159D-477A-90A9-E4343DCE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E61-0520-44F5-9488-E3397339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1588-184E-4325-8992-B3367959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5FD5-4647-4C96-851D-6CA7C233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FFE-BBE2-429B-88EC-87E59E46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57E-D1A6-4F33-820E-02CE7848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A70B-8E9A-4F9B-A9A6-C1A48560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54B-8804-4F25-B8DE-9B90BF46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7B4-86A1-4BA5-A734-BD1FE56F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C517-99CF-435B-B2E9-160F8B725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0880" y="457200"/>
            <a:ext cx="84582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ggy Colson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inical Terminolog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rades 10-12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loopclock"/>
          <p:cNvPicPr/>
          <p:nvPr/>
        </p:nvPicPr>
        <p:blipFill>
          <a:blip r:embed="rId1"/>
          <a:stretch/>
        </p:blipFill>
        <p:spPr>
          <a:xfrm>
            <a:off x="3124080" y="1523880"/>
            <a:ext cx="2514600" cy="2438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4"/>
          <p:cNvSpPr txBox="1"/>
          <p:nvPr/>
        </p:nvSpPr>
        <p:spPr>
          <a:xfrm>
            <a:off x="2666880" y="228600"/>
            <a:ext cx="3505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q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1447920" y="4038480"/>
            <a:ext cx="6476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every h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0" y="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WordArt 7"/>
          <p:cNvSpPr txBox="1"/>
          <p:nvPr/>
        </p:nvSpPr>
        <p:spPr>
          <a:xfrm>
            <a:off x="1447920" y="5562720"/>
            <a:ext cx="6400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Quaque hora - Lat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685800" y="380880"/>
            <a:ext cx="7924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.i.d.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ur times daily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838080" y="5334120"/>
            <a:ext cx="7467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ater in die -Latin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Picture 4" descr="wb01330_"/>
          <p:cNvPicPr/>
          <p:nvPr/>
        </p:nvPicPr>
        <p:blipFill>
          <a:blip r:embed="rId1"/>
          <a:stretch/>
        </p:blipFill>
        <p:spPr>
          <a:xfrm>
            <a:off x="297180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wb01330_"/>
          <p:cNvPicPr/>
          <p:nvPr/>
        </p:nvPicPr>
        <p:blipFill>
          <a:blip r:embed="rId2"/>
          <a:stretch/>
        </p:blipFill>
        <p:spPr>
          <a:xfrm>
            <a:off x="685800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wb01330_"/>
          <p:cNvPicPr/>
          <p:nvPr/>
        </p:nvPicPr>
        <p:blipFill>
          <a:blip r:embed="rId3"/>
          <a:stretch/>
        </p:blipFill>
        <p:spPr>
          <a:xfrm>
            <a:off x="487692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wb01330_"/>
          <p:cNvPicPr/>
          <p:nvPr/>
        </p:nvPicPr>
        <p:blipFill>
          <a:blip r:embed="rId4"/>
          <a:stretch/>
        </p:blipFill>
        <p:spPr>
          <a:xfrm>
            <a:off x="1066680" y="2514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914400" y="228600"/>
            <a:ext cx="7391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.o.d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ry other da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219320" y="5410080"/>
            <a:ext cx="6324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que otro die - Lati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4" descr="wb01330_"/>
          <p:cNvPicPr/>
          <p:nvPr/>
        </p:nvPicPr>
        <p:blipFill>
          <a:blip r:embed="rId1"/>
          <a:stretch/>
        </p:blipFill>
        <p:spPr>
          <a:xfrm>
            <a:off x="380880" y="23623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wb01330_"/>
          <p:cNvPicPr/>
          <p:nvPr/>
        </p:nvPicPr>
        <p:blipFill>
          <a:blip r:embed="rId2"/>
          <a:stretch/>
        </p:blipFill>
        <p:spPr>
          <a:xfrm>
            <a:off x="3886200" y="2438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na00494_"/>
          <p:cNvPicPr/>
          <p:nvPr/>
        </p:nvPicPr>
        <p:blipFill>
          <a:blip r:embed="rId3"/>
          <a:stretch/>
        </p:blipFill>
        <p:spPr>
          <a:xfrm>
            <a:off x="2209680" y="259092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a00494_"/>
          <p:cNvPicPr/>
          <p:nvPr/>
        </p:nvPicPr>
        <p:blipFill>
          <a:blip r:embed="rId4"/>
          <a:stretch/>
        </p:blipFill>
        <p:spPr>
          <a:xfrm>
            <a:off x="5867280" y="251460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wb01330_"/>
          <p:cNvPicPr/>
          <p:nvPr/>
        </p:nvPicPr>
        <p:blipFill>
          <a:blip r:embed="rId5"/>
          <a:stretch/>
        </p:blipFill>
        <p:spPr>
          <a:xfrm>
            <a:off x="7391520" y="23623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838080" y="304920"/>
            <a:ext cx="7086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qs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sufficient quantit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609480" y="4267080"/>
            <a:ext cx="754380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Quantum sufficiat - Latin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0" y="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838080" y="1371600"/>
            <a:ext cx="655344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q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quar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557360" y="2570040"/>
            <a:ext cx="60292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Abbreviations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#1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8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e02716_"/>
          <p:cNvPicPr/>
          <p:nvPr/>
        </p:nvPicPr>
        <p:blipFill>
          <a:blip r:embed="rId1"/>
          <a:stretch/>
        </p:blipFill>
        <p:spPr>
          <a:xfrm>
            <a:off x="304920" y="3733920"/>
            <a:ext cx="3581280" cy="2706480"/>
          </a:xfrm>
          <a:prstGeom prst="rect">
            <a:avLst/>
          </a:prstGeom>
          <a:ln w="0">
            <a:noFill/>
          </a:ln>
        </p:spPr>
      </p:pic>
      <p:sp>
        <p:nvSpPr>
          <p:cNvPr id="54" name="WordArt 4"/>
          <p:cNvSpPr txBox="1"/>
          <p:nvPr/>
        </p:nvSpPr>
        <p:spPr>
          <a:xfrm>
            <a:off x="838080" y="533520"/>
            <a:ext cx="73915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t.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atient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304920"/>
            <a:ext cx="2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16002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1143000" y="1523880"/>
            <a:ext cx="7315200" cy="308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ulv.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owder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3049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3"/>
          <p:cNvSpPr txBox="1"/>
          <p:nvPr/>
        </p:nvSpPr>
        <p:spPr>
          <a:xfrm>
            <a:off x="914400" y="1447920"/>
            <a:ext cx="72388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pvt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priv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990720" y="762120"/>
            <a:ext cx="7010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65" name="Picture 4" descr="pe02364_"/>
          <p:cNvPicPr/>
          <p:nvPr/>
        </p:nvPicPr>
        <p:blipFill>
          <a:blip r:embed="rId1"/>
          <a:stretch/>
        </p:blipFill>
        <p:spPr>
          <a:xfrm>
            <a:off x="1143000" y="4114800"/>
            <a:ext cx="655308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533520" y="1143000"/>
            <a:ext cx="784836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r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que-Lati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1447920" y="1143000"/>
            <a:ext cx="6329160" cy="44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A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uality assuranc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838080" y="533520"/>
            <a:ext cx="6858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d 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very da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914400" y="3886200"/>
            <a:ext cx="6477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uaque die- Latin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19:13:21Z</dcterms:created>
  <dc:creator>Graves County High School</dc:creator>
  <dc:description/>
  <dc:language>en-US</dc:language>
  <cp:lastModifiedBy>LEGION2</cp:lastModifiedBy>
  <dcterms:modified xsi:type="dcterms:W3CDTF">2016-01-14T08:34:39Z</dcterms:modified>
  <cp:revision>22</cp:revision>
  <dc:subject/>
  <dc:title>PowerPoint Presentation</dc:title>
</cp:coreProperties>
</file>