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52C8-778F-4382-8AA4-C0D3E4D9E2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F98-973C-4CC0-B504-0EC7A03C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284-ED44-4C23-B565-846A8B36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073-55C3-4C5F-9A33-0E0FCAED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8A6-8EF9-4375-9BDB-B70DC31E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A5C-C1E5-4238-A526-CB138FF7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974-2C55-4E09-9151-3177C2DB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4F2-7FDF-4FE4-896B-23555F0C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29E-ADB4-40EF-98AB-6061C3F2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F15-C452-47D9-87CB-2ABF6641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20A-FA87-42A1-8DBD-A9F5F017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1C8-417D-494B-87D0-75FA23B4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4D0-AA7E-433D-883B-FF82F717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6816-D076-4B84-8E70-238AE45610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8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8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9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10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11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8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24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26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43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44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EGION2</cp:lastModifiedBy>
  <dcterms:modified xsi:type="dcterms:W3CDTF">2016-01-14T08:32:15Z</dcterms:modified>
  <cp:revision>41</cp:revision>
  <dc:subject/>
  <dc:title>Circulatory system</dc:title>
</cp:coreProperties>
</file>