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89CE-28CB-4FFD-A5DE-68AEDBCDED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E58-48EE-40B3-AE49-25879D2B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85E-AC12-4BB8-BB4C-70D2D44B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025-F5A8-4286-AE1B-BFEF2D28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EEA-7CAC-4A49-BEBB-E997979E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9A7-77FC-47DA-93E0-2455EA89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3A8-83E6-4885-8C7B-D9BA1356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111-AD06-480F-B465-3BF8DAC4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6F0-B563-4A06-A471-2CF24ED3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F73-4863-48A0-97E7-ABC3A98A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C0F-2E93-4A0A-A349-D5533477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427-99E3-47AA-8345-925820F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174-D378-425E-AD6A-FF047DC1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D820-C05F-4030-BAC1-C73D481799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38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8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9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10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11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8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24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26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43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44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EGION2</cp:lastModifiedBy>
  <dcterms:modified xsi:type="dcterms:W3CDTF">2016-01-14T08:32:15Z</dcterms:modified>
  <cp:revision>41</cp:revision>
  <dc:subject/>
  <dc:title>Circulatory system</dc:title>
</cp:coreProperties>
</file>