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3858-3D89-4B21-82AB-A1792EB8A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93A-80BD-4E51-9FEF-86344E71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7AE-4936-4F1C-9671-A7802935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658-9D84-423C-8DC2-F0BA1A71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688-4A99-45F8-BDDC-6E227939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585-9F11-43BC-8D2C-4026D3E5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864-8281-4903-A751-EC7B37B1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5F3-E219-4C2B-ADD7-F50BFA2C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9FE-FB0C-4B74-B9E5-56E97F92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3D9-5EBB-4908-AEED-5756F6C6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FAF-1A60-4567-A8BD-40134DAD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361-CA5A-4B92-86C4-40BC0F7D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D08-462C-4B28-B386-9F516556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1E1A-35BF-449D-BE67-5CC593D632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8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8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9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10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11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8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24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26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43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44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EGION2</cp:lastModifiedBy>
  <dcterms:modified xsi:type="dcterms:W3CDTF">2016-01-14T08:32:15Z</dcterms:modified>
  <cp:revision>41</cp:revision>
  <dc:subject/>
  <dc:title>Circulatory system</dc:title>
</cp:coreProperties>
</file>