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146E-9313-400C-B01E-CADD7A17BD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rcise and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the chemical haemoglob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re of the haemoglobin molecule is an iro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 the chemical haemoglob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re of the haemoglobin molecule is an iro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es to every cell in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es to every cell in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he haemoglobin in the red cells goes back to the lungs to pick up mo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s blood flows through the lungs the haemoglobin in the red cells picks up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Haemoglobin and oxygen join to make oxy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when the blood flows past cells with very little oxygen in them the oxyhaemoglobin break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diffuses into the cell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he haemoglobin in the red cells goes back to the lungs to pick up more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carried in the 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is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is carried in the r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is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ed food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 (waste substance) is carried in the plasma from the liver to the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ea (waste substance) is carried in the plasma from the liver to the 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are carried in the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is carried in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of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is carried in the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A995-F062-4797-8EC3-5A865BF6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8FE-2ADD-4B00-B356-0AFB459C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0F14-2BAC-4962-A859-A1761E18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4A77-DBAF-4DF3-8DA5-32A7F1E0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9F5D0-E978-4998-B9C9-EB979A8E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E67D-01A7-4F72-9A99-302F16793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B45D-BA49-445E-BFCC-2ED2C57E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DAD8-C50A-42F2-8547-C2A462FE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405D-A0E1-4C69-8AE4-F0358C47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1F30-5C6F-4205-9DFB-1F25A5FA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CC4C-53D4-4D9B-887F-CC859408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FA61-0656-4194-A404-0723CB23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E770-DA65-4552-816A-F2E5D3D4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FD35-6D05-4843-8DB1-ACF19EE3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F734-1E21-4C56-9734-DB21C038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83E2-22FA-4380-BEFE-30516C5CE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9EFC-75FF-4C89-AAE0-0AC6F8FD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D40-534C-4DBF-A5A7-D6AF3D57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7965-E36F-4CC4-8221-4F4D82A8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F865-D4FE-4E6B-A4B4-3B36CBD5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939F-C94E-4DFC-9D13-8D421632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7285-FF58-4828-B2C5-046F51CD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E03-3FF6-4F4B-9465-5AE0814D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516-5FF7-466C-9DC5-27BEBF52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B65F-CD7C-477B-9048-B8E7DD367E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763D-F010-4BDE-8645-EEC4FBBD700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0033"/>
                </a:solidFill>
                <a:latin typeface="Times New Roman"/>
              </a:rPr>
              <a:t>Exercise and Health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2"/>
          <p:cNvSpPr/>
          <p:nvPr/>
        </p:nvSpPr>
        <p:spPr>
          <a:xfrm>
            <a:off x="730872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3"/>
          <p:cNvSpPr/>
          <p:nvPr/>
        </p:nvSpPr>
        <p:spPr>
          <a:xfrm flipH="1">
            <a:off x="5866920" y="4869000"/>
            <a:ext cx="151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4"/>
          <p:cNvSpPr/>
          <p:nvPr/>
        </p:nvSpPr>
        <p:spPr>
          <a:xfrm>
            <a:off x="46836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5"/>
          <p:cNvSpPr/>
          <p:nvPr/>
        </p:nvSpPr>
        <p:spPr>
          <a:xfrm>
            <a:off x="1619280" y="4724280"/>
            <a:ext cx="1297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4"/>
          <p:cNvSpPr/>
          <p:nvPr/>
        </p:nvSpPr>
        <p:spPr>
          <a:xfrm>
            <a:off x="7020000" y="2565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5"/>
          <p:cNvSpPr/>
          <p:nvPr/>
        </p:nvSpPr>
        <p:spPr>
          <a:xfrm flipH="1">
            <a:off x="5795640" y="278136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395280" y="292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7"/>
          <p:cNvSpPr/>
          <p:nvPr/>
        </p:nvSpPr>
        <p:spPr>
          <a:xfrm>
            <a:off x="1763640" y="3068640"/>
            <a:ext cx="151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8"/>
          <p:cNvSpPr/>
          <p:nvPr/>
        </p:nvSpPr>
        <p:spPr>
          <a:xfrm>
            <a:off x="3995640" y="4292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7093080" y="3573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atic port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0"/>
          <p:cNvSpPr/>
          <p:nvPr/>
        </p:nvSpPr>
        <p:spPr>
          <a:xfrm flipH="1">
            <a:off x="4716360" y="3789360"/>
            <a:ext cx="24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1"/>
          <p:cNvSpPr/>
          <p:nvPr/>
        </p:nvSpPr>
        <p:spPr>
          <a:xfrm>
            <a:off x="4067280" y="5157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2"/>
          <p:cNvSpPr/>
          <p:nvPr/>
        </p:nvSpPr>
        <p:spPr>
          <a:xfrm>
            <a:off x="730872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3"/>
          <p:cNvSpPr/>
          <p:nvPr/>
        </p:nvSpPr>
        <p:spPr>
          <a:xfrm flipH="1">
            <a:off x="5866920" y="4869000"/>
            <a:ext cx="1513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4"/>
          <p:cNvSpPr/>
          <p:nvPr/>
        </p:nvSpPr>
        <p:spPr>
          <a:xfrm>
            <a:off x="468360" y="465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nal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5"/>
          <p:cNvSpPr/>
          <p:nvPr/>
        </p:nvSpPr>
        <p:spPr>
          <a:xfrm>
            <a:off x="1619280" y="4724280"/>
            <a:ext cx="12970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6"/>
          <p:cNvSpPr/>
          <p:nvPr/>
        </p:nvSpPr>
        <p:spPr>
          <a:xfrm>
            <a:off x="4284720" y="6021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8" name="Picture 5" descr="blood"/>
          <p:cNvPicPr/>
          <p:nvPr/>
        </p:nvPicPr>
        <p:blipFill>
          <a:blip r:embed="rId1"/>
          <a:stretch/>
        </p:blipFill>
        <p:spPr>
          <a:xfrm>
            <a:off x="826920" y="1628640"/>
            <a:ext cx="7993080" cy="460872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9" descr="red_blood_cells"/>
          <p:cNvPicPr/>
          <p:nvPr/>
        </p:nvPicPr>
        <p:blipFill>
          <a:blip r:embed="rId1"/>
          <a:stretch/>
        </p:blipFill>
        <p:spPr>
          <a:xfrm>
            <a:off x="900000" y="1628640"/>
            <a:ext cx="7775640" cy="447696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Red cell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o not have a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concave dis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 the chemical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emoglobi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emoglobin carries oxygen around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At the centre of the haemoglobin molecule is an iro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1" descr="1-2-6-4-0-0-0-0-0-0-0"/>
          <p:cNvPicPr/>
          <p:nvPr/>
        </p:nvPicPr>
        <p:blipFill>
          <a:blip r:embed="rId1"/>
          <a:stretch/>
        </p:blipFill>
        <p:spPr>
          <a:xfrm>
            <a:off x="900000" y="1628640"/>
            <a:ext cx="3816360" cy="4464360"/>
          </a:xfrm>
          <a:prstGeom prst="rect">
            <a:avLst/>
          </a:prstGeom>
          <a:ln w="0">
            <a:noFill/>
          </a:ln>
        </p:spPr>
      </p:pic>
      <p:sp>
        <p:nvSpPr>
          <p:cNvPr id="3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he Circulatory Syst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loo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ircula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every cell in the bod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ollowing diagram shows the main blood vessels and explains how blood circulates to all parts of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imgSS-bloodCirculation"/>
          <p:cNvPicPr/>
          <p:nvPr/>
        </p:nvPicPr>
        <p:blipFill>
          <a:blip r:embed="rId1"/>
          <a:stretch/>
        </p:blipFill>
        <p:spPr>
          <a:xfrm>
            <a:off x="971640" y="1628640"/>
            <a:ext cx="3671640" cy="4464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58920" y="292428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3851280" y="1484280"/>
            <a:ext cx="223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78560" y="2924280"/>
            <a:ext cx="2665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6478560" y="2637000"/>
            <a:ext cx="266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4284720" y="5157720"/>
            <a:ext cx="381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ffuses into the cells of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circ"/>
          <p:cNvPicPr/>
          <p:nvPr/>
        </p:nvPicPr>
        <p:blipFill>
          <a:blip r:embed="rId1"/>
          <a:stretch/>
        </p:blipFill>
        <p:spPr>
          <a:xfrm>
            <a:off x="179280" y="333360"/>
            <a:ext cx="8713800" cy="61912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3"/>
          <p:cNvSpPr/>
          <p:nvPr/>
        </p:nvSpPr>
        <p:spPr>
          <a:xfrm>
            <a:off x="1332000" y="9079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ac in the l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619280" y="184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1042920" y="3141720"/>
            <a:ext cx="29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blood flows through the lung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emoglobin in the red cells picks up oxy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3851280" y="148428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Haemoglobin and oxygen join to mak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6478560" y="2637000"/>
            <a:ext cx="266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when the blood flows past cells with very little oxygen in them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haemoglobin breaks 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4284720" y="5157720"/>
            <a:ext cx="38163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xyge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iffuses into the cells of the 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xygen is used for respi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324000" y="501336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haemoglobin in the red cell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es back to the lungs to pick up more 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yg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r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rbon dioxid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8" descr="230px-Lungs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392720"/>
          </a:xfrm>
          <a:prstGeom prst="rect">
            <a:avLst/>
          </a:prstGeom>
          <a:ln w="0">
            <a:noFill/>
          </a:ln>
        </p:spPr>
      </p:pic>
      <p:sp>
        <p:nvSpPr>
          <p:cNvPr id="35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gested food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7" descr="Cat_Health_Problems-Intestines"/>
          <p:cNvPicPr/>
          <p:nvPr/>
        </p:nvPicPr>
        <p:blipFill>
          <a:blip r:embed="rId1"/>
          <a:stretch/>
        </p:blipFill>
        <p:spPr>
          <a:xfrm>
            <a:off x="971640" y="1628640"/>
            <a:ext cx="3752640" cy="4476960"/>
          </a:xfrm>
          <a:prstGeom prst="rect">
            <a:avLst/>
          </a:prstGeom>
          <a:ln w="0">
            <a:noFill/>
          </a:ln>
        </p:spPr>
      </p:pic>
      <p:sp>
        <p:nvSpPr>
          <p:cNvPr id="3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re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(waste substance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plasma from the liver to the kidn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fatty_liver"/>
          <p:cNvPicPr/>
          <p:nvPr/>
        </p:nvPicPr>
        <p:blipFill>
          <a:blip r:embed="rId1"/>
          <a:stretch/>
        </p:blipFill>
        <p:spPr>
          <a:xfrm>
            <a:off x="900000" y="1700280"/>
            <a:ext cx="3888000" cy="4392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rmon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 carried in the pla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hyp-bodyf"/>
          <p:cNvPicPr/>
          <p:nvPr/>
        </p:nvPicPr>
        <p:blipFill>
          <a:blip r:embed="rId1"/>
          <a:stretch/>
        </p:blipFill>
        <p:spPr>
          <a:xfrm>
            <a:off x="971640" y="1628640"/>
            <a:ext cx="3744720" cy="4464360"/>
          </a:xfrm>
          <a:prstGeom prst="rect">
            <a:avLst/>
          </a:prstGeom>
          <a:ln w="0">
            <a:noFill/>
          </a:ln>
        </p:spPr>
      </p:pic>
      <p:sp>
        <p:nvSpPr>
          <p:cNvPr id="3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Functions of the bloo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a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carried in th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7155163395116838"/>
          <p:cNvPicPr/>
          <p:nvPr/>
        </p:nvPicPr>
        <p:blipFill>
          <a:blip r:embed="rId1"/>
          <a:stretch/>
        </p:blipFill>
        <p:spPr>
          <a:xfrm>
            <a:off x="1258920" y="1628640"/>
            <a:ext cx="2665440" cy="4392720"/>
          </a:xfrm>
          <a:prstGeom prst="rect">
            <a:avLst/>
          </a:prstGeom>
          <a:ln w="0">
            <a:noFill/>
          </a:ln>
        </p:spPr>
      </p:pic>
      <p:sp>
        <p:nvSpPr>
          <p:cNvPr id="37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BIOLOGY TEX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p26-27 and answer question 1 off p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ircsystem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3914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3708360" y="26028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 and a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79280" y="90792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1979640" y="1125360"/>
            <a:ext cx="1512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7020000" y="98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lmonary 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7"/>
          <p:cNvSpPr/>
          <p:nvPr/>
        </p:nvSpPr>
        <p:spPr>
          <a:xfrm flipH="1">
            <a:off x="5580000" y="1197000"/>
            <a:ext cx="1440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4140360" y="1052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468360" y="177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a c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1763640" y="1916280"/>
            <a:ext cx="1513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6877080" y="162864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2"/>
          <p:cNvSpPr/>
          <p:nvPr/>
        </p:nvSpPr>
        <p:spPr>
          <a:xfrm flipH="1">
            <a:off x="4932360" y="1844640"/>
            <a:ext cx="201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3995640" y="35002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9:51:23Z</dcterms:created>
  <dc:creator>Keith Hicks</dc:creator>
  <dc:description/>
  <dc:language>en-US</dc:language>
  <cp:lastModifiedBy>LEGION2</cp:lastModifiedBy>
  <dcterms:modified xsi:type="dcterms:W3CDTF">2016-01-14T08:14:46Z</dcterms:modified>
  <cp:revision>11</cp:revision>
  <dc:subject/>
  <dc:title>Exercise and Health</dc:title>
</cp:coreProperties>
</file>