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D3C2-3070-440A-84EA-B9A3A65C24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AB0-1962-4A9B-B6B2-664DDA57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10A-FACD-4050-A025-91ED208F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12D-E8AA-42A5-91CA-F9079C89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EA7-0B24-4429-AE04-5BAB5311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CF81-0D6A-492A-B2EB-5377247C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4E66-50BF-402A-B41D-F22B5AE9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2E34-0E54-4098-8A6B-42AA219C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0690-C8A2-4D31-8EBB-7F30BF9E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3020-D4C8-41AE-85A8-85D55076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4FA9-0909-44E9-9465-92D3CBB5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4B3E-A1AC-4E75-A295-2DCD3E1B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BB3-12B7-4A3B-99D2-9FBB4874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9592-2AB5-4C83-A23E-B7A4F589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A32E-3278-4746-A6D8-8E0779D1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5E57-1E1B-46EE-928C-75BB23BD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F532-9A40-44CA-A5FF-B61B903A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0B74-D7B5-46EC-9C36-C2BF4D17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F7D-3CF5-45F9-8949-030DACAD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553-208C-4B8E-8391-FD6546A3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086-C4DC-41A9-9A44-058C3E31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395-C221-44AF-8771-EE65340F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A09-A085-4508-A243-400847D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66E-3422-45DE-88FF-07E52D65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1AC-F336-406F-A053-43AD00F7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4EA3-EA9F-48AE-B66B-39B49B56C4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DCAF-863A-401F-913C-B5917DEBC6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428472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8" name="Picture 5" descr="blood"/>
          <p:cNvPicPr/>
          <p:nvPr/>
        </p:nvPicPr>
        <p:blipFill>
          <a:blip r:embed="rId1"/>
          <a:stretch/>
        </p:blipFill>
        <p:spPr>
          <a:xfrm>
            <a:off x="826920" y="1628640"/>
            <a:ext cx="7993080" cy="460872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red_blood_cells"/>
          <p:cNvPicPr/>
          <p:nvPr/>
        </p:nvPicPr>
        <p:blipFill>
          <a:blip r:embed="rId1"/>
          <a:stretch/>
        </p:blipFill>
        <p:spPr>
          <a:xfrm>
            <a:off x="900000" y="1628640"/>
            <a:ext cx="7775640" cy="447696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 the 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emoglob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the centre of the haemoglobin molecule is an iro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1-2-6-4-0-0-0-0-0-0-0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he Circulatory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rcul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every cell in the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imgSS-bloodCirculation"/>
          <p:cNvPicPr/>
          <p:nvPr/>
        </p:nvPicPr>
        <p:blipFill>
          <a:blip r:embed="rId1"/>
          <a:stretch/>
        </p:blipFill>
        <p:spPr>
          <a:xfrm>
            <a:off x="971640" y="1628640"/>
            <a:ext cx="3671640" cy="44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58920" y="2924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851280" y="148428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78560" y="292428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284720" y="515772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284720" y="515772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24000" y="5013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haemoglobin in the red cell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es back to the lungs to pick up more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yg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r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bon diox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230px-Lungs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gested food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Cat_Health_Problems-Intestines"/>
          <p:cNvPicPr/>
          <p:nvPr/>
        </p:nvPicPr>
        <p:blipFill>
          <a:blip r:embed="rId1"/>
          <a:stretch/>
        </p:blipFill>
        <p:spPr>
          <a:xfrm>
            <a:off x="971640" y="1628640"/>
            <a:ext cx="3752640" cy="447696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aste substanc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 from the liver to the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fatty_liver"/>
          <p:cNvPicPr/>
          <p:nvPr/>
        </p:nvPicPr>
        <p:blipFill>
          <a:blip r:embed="rId1"/>
          <a:stretch/>
        </p:blipFill>
        <p:spPr>
          <a:xfrm>
            <a:off x="900000" y="1700280"/>
            <a:ext cx="3888000" cy="4392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rmon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hyp-bodyf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4643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7155163395116838"/>
          <p:cNvPicPr/>
          <p:nvPr/>
        </p:nvPicPr>
        <p:blipFill>
          <a:blip r:embed="rId1"/>
          <a:stretch/>
        </p:blipFill>
        <p:spPr>
          <a:xfrm>
            <a:off x="1258920" y="1628640"/>
            <a:ext cx="2665440" cy="43927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IOLOGY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8:14:46Z</dcterms:modified>
  <cp:revision>11</cp:revision>
  <dc:subject/>
  <dc:title>Exercise and Health</dc:title>
</cp:coreProperties>
</file>