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gunshot.wav" ContentType="audio/x-wav"/>
  <Override PartName="/ppt/media/chimes.wav" ContentType="audio/x-wav"/>
  <Override PartName="/ppt/media/cashreg.wav" ContentType="audio/x-wav"/>
  <Override PartName="/ppt/media/driveby.wav" ContentType="audio/x-wav"/>
  <Override PartName="/ppt/media/laser.wav" ContentType="audio/x-wav"/>
  <Override PartName="/ppt/media/image4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projctor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0E95-26F2-469A-8FBA-8E98E08C70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garette Smoke and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pidemiological Evid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ly De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arette Smoke and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emiologic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ends of Smo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veloped worl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veloping worl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ends of Sm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wor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wor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 cardiovascular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rdiovascular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where too much cholesterol has been taken and is stored in the arteries causing them to narro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artery to the heart is blocked a heart attack could occu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artery to the brain is blocked then a stroke could occu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too much cholesterol has been taken and is stored in the arteries causing them to na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artery to the heart is blocked a heart attack could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artery to the brain is blocked then a stroke could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olesterol travels in packages called lipoprotei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low density lipoproteins that deliver cholesterol around the bo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high density lipoproteins that remove cholesterol from the blood strea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olesterol is essential but in the right amounts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sterol travels in packages called lipoprot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low density lipoproteins that deliver cholesterol around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high density lipoproteins that remove cholesterol from the blood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sterol is essential but in the right amoun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’ve done enough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onary Heart Disease (CHD) – What are the three form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oke – Why do they occur? What happens to a person having a strok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Q 14.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ve done enoug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ry Heart Disease (CHD) – What are the three for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ke – Why do they occur? What happens to a person having a stro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Q 1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ving the links between smoking and lung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rious widespread smoking did not start until the second half of the 20th centur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1950’s there was a lung cancer epidemi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now over 35,000 deaths per year from lung canc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general, 50% of smokers die from a smoking related diseas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ng the links between smoking and lung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ous widespread smoking did not start until the second half of the 20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50’s there was a lung cancer epidem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ow over 35,000 deaths per year from lung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50% of smokers die from a smoking related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nic Obstructive Pulmonary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where chronic bronchitis and emphysema occur at the same tim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ease is responsible for 30,000+ deaths a year in the U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very rare in non-smok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8% of people with emphysema are smokers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nic Obstructive Pulmonary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chronic bronchitis and emphysema occur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ease is responsible for 30,000+ deaths a year in the U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very rare in non-smo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8% of people with emphysema are smoker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more statis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okers are 18 time more likely to develop lung cancer than non-smok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5% of smokers die of lung canc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takes ten years for lungs to recover after a long period of smok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third of all cancer deaths are a direct result of smok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re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rs are 18 time more likely to develop lung cancer than non-smo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% of smokers die of lung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ten years for lungs to recover after a long period of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hird of all cancer deaths are a direct result of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aQ 14.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Q 14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gs were use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ce were use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tal research that should save lots of human live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gs were us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 were us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al research that should save lots of human liv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g Experi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group of dogs were made to smoke filtered cigaret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did not get lung cancer but did produce cancerous cells in the lining of their airways and mouth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group of dogs were made to smoke filter-less cigaret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did get lung canc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g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group of dogs were made to smoke filtered cigaret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get lung cancer but did produce cancerous cells in the lining of their airways and mou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group of dogs were made to smoke filter-less cigaret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get lung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moking Machine Experi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oking machines extracted the chemicals in smok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cinogens and co-carcinogens were found in the ta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the tar was rubbed on the back of a mouse. The skin formed cancerous cells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oking Machine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ing machines extracted the chemicals in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cinogens and co-carcinogens were found in the t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tar was rubbed on the back of a mouse. The skin formed cancerous cell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07E8-359B-4A82-9724-E9F5C7E0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5FEB-2D5C-4D40-8158-BC0060FC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E09A-A60A-455B-A691-6B18057C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8B13-7C8D-44C4-B468-10947FF4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11FD-87BC-4C1E-ABCB-D41AB821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DD05-5103-420D-BCD6-5F37ADC1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CD4C-E897-4579-92A1-9123CF31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3DD7-1FDE-417A-B662-ECABB908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1B22-231E-4C7C-B6CC-1FD4BA90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018B-3DFC-4E2A-958B-E4F7D009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87AD-3F71-412E-930A-19AA141F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B240-37E8-4D8D-A1C7-061A8C83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BF01-EE42-4894-9BD0-11CBAE78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402A-F1B1-442E-833D-E6812BE8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6700-D393-47E0-98B5-DD0DC7CF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C43A-DC15-43D3-B81B-7559716A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E390-D315-4321-B736-E4074BFC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2D24-4D11-407A-92E5-DD674F5E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75BD-6691-4FC0-A2B4-6670CBD5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4519-2E50-4960-BF1E-15A64B0E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F50C-3975-4E19-8475-717184C8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A145-AA02-4C0F-A0AE-C3DB51E5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4B00-EAFD-48AE-839C-0E1EC34B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24DA-A779-46EF-9100-6EAA25E9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A87D-11B7-47FE-B4D6-BEA4D6C5849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AE63-70A0-4A32-8B2F-00C7224057B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whoosh.wav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igarette Smoke and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pidemiological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erimental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rly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he Trends of Smok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veloped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veloping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theroscler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ardiovascular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theroscler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is where too much cholesterol has been taken and is stored in the arteries causing them to narr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artery to the heart is blocked a heart attack could occ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artery to the brain is blocked then a stroke could occ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…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more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olesterol travels in packages called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lipoprotein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low density lipoprotein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at deliver cholesterol around the bod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high density lipoprotein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at remove cholesterol from the blood stre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olesterol is essential but in the right amounts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therosclerosis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64008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therosclerosis1"/>
          <p:cNvPicPr/>
          <p:nvPr/>
        </p:nvPicPr>
        <p:blipFill>
          <a:blip r:embed="rId1"/>
          <a:stretch/>
        </p:blipFill>
        <p:spPr>
          <a:xfrm>
            <a:off x="533520" y="228600"/>
            <a:ext cx="8076960" cy="6172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’ve done enough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ronary Heart Disease (CHD) – What are the three form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ke – Why do they occur? What happens to a person having a strok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aQ 14.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Proving the links between smoking and lung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rious widespread smoking did not start until the second half of the 20</a:t>
            </a:r>
            <a:r>
              <a:rPr b="0" lang="en-GB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entu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he 1950’s there was a lung cancer epidem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now over 35,000 deaths per year from lung canc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general, 50% of smokers die from a smoking related dis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hronic Obstructive Pulmonary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is where chronic bronchitis and emphysema occur at the same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disease is responsible for 30,000+ deaths a year in the U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very rare in non-smok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98% of people with emphysema are smoker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ome more statis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mokers are 18 time more likely to develop lung cancer than non-smok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25% of smokers die of lung canc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takes ten years for lungs to recover after a long period of smok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e third of all cancer deaths are a direct result of smok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lungcancer1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aQ 14.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695160" y="3125880"/>
          <a:ext cx="7753680" cy="18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3125880"/>
                    <a:ext cx="775368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xperimental Evide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gs were use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ce were use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ital research that should save lots of human liv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he Dog Experi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e group of dogs were made to smoke filtered cigaret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y did not get lung cancer but did produce cancerous cells in the lining of their airways and mou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e group of dogs were made to smoke filter-less cigaret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y did get lung canc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he Smoking Machine Experi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moking machines extracted the chemicals in smo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rcinogens and co-carcinogens were found in the t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the tar was rubbed on the back of a mouse. The skin formed cancerous cell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10:42:54Z</dcterms:created>
  <dc:creator>Chalfonts Community College</dc:creator>
  <dc:description>Cigarette Smoke and Disease</dc:description>
  <cp:keywords>Cigarette Smoke and Disease</cp:keywords>
  <dc:language>en-US</dc:language>
  <cp:lastModifiedBy>LEGION2</cp:lastModifiedBy>
  <dcterms:modified xsi:type="dcterms:W3CDTF">2016-01-14T08:10:00Z</dcterms:modified>
  <cp:revision>25</cp:revision>
  <dc:subject>Cigarette Smoke and Disease</dc:subject>
  <dc:title>Cigarette Smoke and Disease</dc:title>
</cp:coreProperties>
</file>