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gunshot.wav" ContentType="audio/x-wav"/>
  <Override PartName="/ppt/media/chimes.wav" ContentType="audio/x-wav"/>
  <Override PartName="/ppt/media/cashreg.wav" ContentType="audio/x-wav"/>
  <Override PartName="/ppt/media/driveby.wav" ContentType="audio/x-wav"/>
  <Override PartName="/ppt/media/laser.wav" ContentType="audio/x-wav"/>
  <Override PartName="/ppt/media/image4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projctor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EE1C-3FA3-44D7-9FCA-61A27761F3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garette Smoke and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pidemiologic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ly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 Smoke and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emiologic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ends of Smo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veloped worl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veloping worl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nds of Sm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wor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wor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 cardiovascular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diovascular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artery to the heart is blocked a heart attack could occ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artery to the brain is blocked then a stroke could occ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rtery to the heart is blocked a heart attack could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rtery to the brain is blocked then a stroke could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olesterol travels in packages called lipoprotei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low density lipoproteins that deliver cholesterol around the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high density lipoproteins that remove cholesterol from the blood strea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olesterol is essential but in the right amounts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sterol travels in packages called lipoprot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low density lipoproteins that deliver cholesterol a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high density lipoproteins that remove cholesterol from the blood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sterol is essential but in the right amoun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’ve done enough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onary Heart Disease (CHD) – What are the three form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oke – Why do they occur? What happens to a person having a strok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Q 14.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done enoug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ry Heart Disease (CHD) – What are the three fo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ke – Why do they occur? What happens to a person having a stro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Q 1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ving the links between smoking and lung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rious widespread smoking did not start until the second half of the 20th centur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1950’s there was a lung cancer epidem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now over 35,000 deaths per year from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general, 50% of smokers die from a smoking related diseas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ng the links between smoking and lung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ous widespread smoking did not start until the second half of the 20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 there was a lung cancer epide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w over 35,000 deaths per year from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50% of smokers die from a smoking relate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nic Obstructive Pulmonary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chronic bronchitis and emphysema occur at the same tim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ease is responsible for 30,000+ deaths a year in the U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very rare in non-smok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8% of people with emphysema are smokers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Obstructive Pulmonary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chronic bronchitis and emphysema occur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ease is responsible for 30,000+ deaths a year in the U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very rare in non-smo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8% of people with emphysema are smoker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more stat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okers are 18 time more likely to develop lung cancer than non-smok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% of smokers die of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takes ten years for lungs to recover after a long period of smok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third of all cancer deaths are a direct result of smok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rs are 18 time more likely to develop lung cancer than non-smo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% of smokers die of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ten years for lungs to recover after a long period of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hird of all cancer deaths are a direct result of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aQ 14.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Q 14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gs were use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ce were use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tal research that should save lots of human liv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gs were us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were us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al research that should save lots of human liv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g Experi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group of dogs were made to smoke filtered cigaret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group of dogs were made to smoke filter-less cigaret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id get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g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group of dogs were made to smoke filtered cigaret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group of dogs were made to smoke filter-less cigaret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get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moking Machine Experi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oking machines extracted the chemicals in smok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cinogens and co-carcinogens were found in the ta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oking Machin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machines extracted the chemicals in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cinogens and co-carcinogens were found in the t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D71F-7321-4FA4-8C2C-1D0C31E0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73C5-390E-4482-B7EB-6932E32B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BC68-C959-473A-A884-475B7D94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F7F-0DA7-4EAB-B6CC-806B98CF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8929-8EA9-493A-A306-1FC53F26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E4DB-9943-48C9-868F-6C988162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F8BC-C530-4FF7-8BD9-CDD497F8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E510-F9E8-40CB-A368-AF845B3F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26F7-CCC3-4E47-BFE5-5E1C1404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5482-B093-4D0E-A7C5-56492480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1756-AF56-464C-8FC4-C8AB118F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3568-40D1-46C8-A303-A8C1455D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693F-3CDC-43EC-BFCD-94137AA6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97DE-860A-47B0-8552-E975B579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BCCA-6003-432D-AA28-4B94E32A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42AB-D5C5-4D83-BF36-3A3CE00B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B86D-6801-4C74-BC2A-5BD48307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D3B-11A5-40A8-A16F-F9AC9E0B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5EC-F241-4757-A669-4B09BA84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D2B3-74BD-4DD7-A73F-0F930E6A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35B-2DA2-40D4-8DE4-2019A25B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71D3-77CB-422D-9A47-2896CA87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62A1-2596-4876-BDB9-FF67BA16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ECD2-2BCF-4E5F-A082-32B296E9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F530-0B0A-4488-945C-5E8DB033470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3A3D-57AF-48F0-AB29-DA3CC1E9400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igarette Smoke and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idemiological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rly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Trends of Smok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veloped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veloping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theroscler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ardiovascular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theroscler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artery to the heart is blocked a heart attack could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artery to the brain is blocked then a stroke could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…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re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olesterol travels in packages called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ow density 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at deliver cholesterol around the bod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high density 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at remove cholesterol from the blood stre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olesterol is essential but in the right amounts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therosclerosis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64008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therosclerosis1"/>
          <p:cNvPicPr/>
          <p:nvPr/>
        </p:nvPicPr>
        <p:blipFill>
          <a:blip r:embed="rId1"/>
          <a:stretch/>
        </p:blipFill>
        <p:spPr>
          <a:xfrm>
            <a:off x="533520" y="228600"/>
            <a:ext cx="8076960" cy="6172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’ve done enough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ronary Heart Disease (CHD) – What are the three form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ke – Why do they occur? What happens to a person having a strok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Q 14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roving the links between smoking and lung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rious widespread smoking did not start until the second half of the 20</a:t>
            </a:r>
            <a:r>
              <a:rPr b="0" lang="en-GB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entu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e 1950’s there was a lung cancer epidem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now over 35,000 deaths per year from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general, 50% of smokers die from a smoking related dis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ronic Obstructive Pulmonar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is where chronic bronchitis and emphysema occur at the same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disease is responsible for 30,000+ deaths a year in the U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very rare in non-smok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98% of people with emphysema are smoker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ome more stat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mokers are 18 time more likely to develop lung cancer than non-smok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25% of smokers die of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takes ten years for lungs to recover after a long period of smo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third of all cancer deaths are a direct result of smo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lungcancer1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aQ 14.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695160" y="3125880"/>
          <a:ext cx="7753680" cy="18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3125880"/>
                    <a:ext cx="775368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xperimental Evid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gs were us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ce were us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tal research that should save lots of human liv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Dog Experi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group of dogs were made to smoke filtered cigaret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group of dogs were made to smoke filter-less cigaret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y did get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Smoking Machine Experi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moking machines extracted the chemicals in smo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rcinogens and co-carcinogens were found in the t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0:42:54Z</dcterms:created>
  <dc:creator>Chalfonts Community College</dc:creator>
  <dc:description>Cigarette Smoke and Disease</dc:description>
  <cp:keywords>Cigarette Smoke and Disease</cp:keywords>
  <dc:language>en-US</dc:language>
  <cp:lastModifiedBy>LEGION2</cp:lastModifiedBy>
  <dcterms:modified xsi:type="dcterms:W3CDTF">2016-01-14T08:10:00Z</dcterms:modified>
  <cp:revision>25</cp:revision>
  <dc:subject>Cigarette Smoke and Disease</dc:subject>
  <dc:title>Cigarette Smoke and Disease</dc:title>
</cp:coreProperties>
</file>