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gunshot.wav" ContentType="audio/x-wav"/>
  <Override PartName="/ppt/media/chimes.wav" ContentType="audio/x-wav"/>
  <Override PartName="/ppt/media/cashreg.wav" ContentType="audio/x-wav"/>
  <Override PartName="/ppt/media/driveby.wav" ContentType="audio/x-wav"/>
  <Override PartName="/ppt/media/laser.wav" ContentType="audio/x-wav"/>
  <Override PartName="/ppt/media/image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projctor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CF8B-0597-4978-8FF1-E6B2261AF9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19D4-114B-4E09-B15A-A78739DD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FFEE-F5FA-4106-A750-7A920497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C665-37CF-47B5-AF96-7903A1AC4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F35-049D-4B89-ADA4-74DBF7D0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1B70-0AAC-4ECF-AF1A-A677B091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CE8A-38CD-462A-8CD7-057772F5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6D40-0C88-404D-9F94-D37758A2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16C6-9862-4FCA-90E2-4D3C79DD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874E-5BBC-4108-A6C8-856FB81F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11FD-CB05-48E7-9400-717BDAC8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E4A3-CCBF-4963-9FE8-FDD967B5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4C7-FC82-4111-81F4-5CA0F83C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90C6-F686-4E16-A913-A63ACDEB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F71A-5317-4F77-A8A6-89FC8702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187E-CCE4-4B49-A764-5EB4129F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1B2C-60C2-4513-96EA-EB682CD7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78F6-10C4-4EF7-8248-0DD0E7F7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963-A205-4345-9528-C2D46E0C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B1CE-DAB4-44AA-85CE-6A786CE2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329-FE0F-4C8E-9FA8-6DCC1DC3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334-7597-4AC7-A06D-6E763CB3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3C3-0103-4794-9CB0-0F0A3A69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F93-DF9E-4CE1-88AD-3F875B70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D93-014A-41DE-BB1F-1FFF7D64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2ECC-80F7-44DF-BFB9-FCC95674803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031D-1E9E-4AA6-BF31-582CE73AF1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igarette Smoke and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Trends of Smok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travels in packages called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ow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deliver cholesterol around the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high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remove cholesterol from the blood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therosclerosis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therosclerosis1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617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’ve done enough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roving the links between smoking and lung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ronic Obstructive Pulmona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ome more stat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lungcancer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aQ 14.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695160" y="3125880"/>
          <a:ext cx="775368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3125880"/>
                    <a:ext cx="775368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Dog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Smoking Machine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0:42:54Z</dcterms:created>
  <dc:creator>Chalfonts Community College</dc:creator>
  <dc:description>Cigarette Smoke and Disease</dc:description>
  <cp:keywords>Cigarette Smoke and Disease</cp:keywords>
  <dc:language>en-US</dc:language>
  <cp:lastModifiedBy>LEGION2</cp:lastModifiedBy>
  <dcterms:modified xsi:type="dcterms:W3CDTF">2016-01-14T08:10:00Z</dcterms:modified>
  <cp:revision>25</cp:revision>
  <dc:subject>Cigarette Smoke and Disease</dc:subject>
  <dc:title>Cigarette Smoke and Disease</dc:title>
</cp:coreProperties>
</file>