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hoosh.wav" ContentType="audio/x-wav"/>
  <Override PartName="/ppt/media/gunshot.wav" ContentType="audio/x-wav"/>
  <Override PartName="/ppt/media/chimes.wav" ContentType="audio/x-wav"/>
  <Override PartName="/ppt/media/cashreg.wav" ContentType="audio/x-wav"/>
  <Override PartName="/ppt/media/driveby.wav" ContentType="audio/x-wav"/>
  <Override PartName="/ppt/media/laser.wav" ContentType="audio/x-wav"/>
  <Override PartName="/ppt/media/image4.jpeg" ContentType="image/jpeg"/>
  <Override PartName="/ppt/media/image1.png" ContentType="image/png"/>
  <Override PartName="/ppt/media/image3.jpeg" ContentType="image/jpeg"/>
  <Override PartName="/ppt/media/image2.wmf" ContentType="image/x-wmf"/>
  <Override PartName="/ppt/media/projctor.wav" ContentType="audio/x-wav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3F088-3EEB-4382-B482-3C694205B19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garette Smoke and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pidemiologic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ly De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rends of Smok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ed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veloping worl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rdiovascular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herosclero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heart is blocked a heart attack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an artery to the brain is blocked then a stroke could occu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travels in packages called lipoprote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low density lipoproteins that deliver cholesterol around the bod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high density lipoproteins that remove cholesterol from the blood strea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olesterol is essential but in the right amounts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’ve done enough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ry Heart Disease (CHD) – What are the three form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oke – Why do they occur? What happens to a person having a stro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ving the links between smoking and lung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ous widespread smoking did not start until the second half of the 20th centur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the 1950’s there was a lung cancer epidemi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now over 35,000 deaths per year from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general, 50% of smokers die from a smoking related disea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nic Obstructive Pulmonary Dise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where chronic bronchitis and emphysema occur at the same tim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ease is responsible for 30,000+ deaths a year in the U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very rare i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8% of people with emphysema are smoker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more statist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ers are 18 time more likely to develop lung cancer than non-smoke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% of smokers die of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ten years for lungs to recover after a long period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third of all cancer deaths are a direct result of smok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Q 14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imental Evi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gs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e were use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tal research that should save lots of human live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og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ed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group of dogs were made to smoke filter-less cigaret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did get lung canc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moking Machine Experi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oking machines extracted the chemicals in smok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cinogens and co-carcinogens were found in the ta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6F4D-27FF-49CB-93B0-0A85AE140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5762-3FB9-4CCF-B04F-B85535799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3128-EDA9-48AB-B738-19D836B48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AF12-9BD5-4CED-AC9D-8915376E0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0C6C0-AD70-463F-95DC-2F2A0862A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CA86-FC86-481C-9BC2-3DA6FD737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0A4AA-093C-43D9-8D77-DC855C529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CAFC5-86B9-4A50-8533-F66F5D139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C018-665E-4295-A367-D0D0B889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56F98-3300-45FD-AEEF-0F777D241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6ED1F-00FD-4394-A3E7-B0CCE4DA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4D05-4331-475F-B76E-754CC4CD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FAFAE-2317-4055-A03E-860FD6B1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A101C-B491-4FCE-9A23-CBFAF0077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884DF-5F62-4C2B-B674-968FE9ABD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13950-35E8-428D-B927-E2B92D64A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60847-3763-4EFB-BE97-3A85B59E6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517-2250-469E-B212-F69AA000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61CF3-1344-4D2A-9E31-BC2E48E95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56A5-DB38-43C3-9100-6B6C802BB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6DAE-9280-4712-BDE0-6E25C07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BF2FB-1506-4687-BEF0-465BAD01E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0E46-B4F1-418A-991B-F1364F3B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7461F-B025-4435-9686-4D75E9D5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"/>
          <p:cNvGrpSpPr/>
          <p:nvPr/>
        </p:nvGrpSpPr>
        <p:grpSpPr>
          <a:xfrm>
            <a:off x="0" y="1440"/>
            <a:ext cx="9132840" cy="6845400"/>
            <a:chOff x="0" y="1440"/>
            <a:chExt cx="9132840" cy="68454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0" y="1440"/>
              <a:ext cx="8410680" cy="68454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102FA-3864-4C4B-B2C8-5780C5AF1BF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10"/>
          <p:cNvGrpSpPr/>
          <p:nvPr/>
        </p:nvGrpSpPr>
        <p:grpSpPr>
          <a:xfrm>
            <a:off x="-1035000" y="1552680"/>
            <a:ext cx="10179000" cy="5305320"/>
            <a:chOff x="-1035000" y="1552680"/>
            <a:chExt cx="10179000" cy="5305320"/>
          </a:xfrm>
        </p:grpSpPr>
        <p:sp>
          <p:nvSpPr>
            <p:cNvPr id="45" name="Freeform 3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182f76"/>
                </a:gs>
                <a:gs pos="100000">
                  <a:srgbClr val="33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Arc 4"/>
            <p:cNvSpPr/>
            <p:nvPr/>
          </p:nvSpPr>
          <p:spPr>
            <a:xfrm>
              <a:off x="-1035000" y="1552680"/>
              <a:ext cx="6726240" cy="5305320"/>
            </a:xfrm>
            <a:custGeom>
              <a:avLst/>
              <a:gdLst/>
              <a:ahLst/>
              <a:rect l="l" t="t" r="r" b="b"/>
              <a:pathLst>
                <a:path fill="none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</a:path>
                <a:path stroke="0" w="21600" h="21231">
                  <a:moveTo>
                    <a:pt x="3976" y="0"/>
                  </a:moveTo>
                  <a:cubicBezTo>
                    <a:pt x="14194" y="1914"/>
                    <a:pt x="21600" y="10835"/>
                    <a:pt x="21600" y="21231"/>
                  </a:cubicBezTo>
                  <a:lnTo>
                    <a:pt x="0" y="21231"/>
                  </a:lnTo>
                  <a:lnTo>
                    <a:pt x="3976" y="0"/>
                  </a:lnTo>
                  <a:close/>
                </a:path>
              </a:pathLst>
            </a:custGeom>
            <a:noFill/>
            <a:ln cap="rnd" w="12600">
              <a:solidFill>
                <a:srgbClr val="3366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CB56-218B-4C4A-9E3F-14B0D7F832D2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gunshot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laser.wav"/><Relationship Id="rId3" Type="http://schemas.openxmlformats.org/officeDocument/2006/relationships/audio" Target="../media/laser.wav"/><Relationship Id="rId4" Type="http://schemas.openxmlformats.org/officeDocument/2006/relationships/audio" Target="../media/laser.wav"/><Relationship Id="rId5" Type="http://schemas.openxmlformats.org/officeDocument/2006/relationships/audio" Target="../media/laser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gunshot.wav"/><Relationship Id="rId3" Type="http://schemas.openxmlformats.org/officeDocument/2006/relationships/audio" Target="../media/gunshot.wav"/><Relationship Id="rId4" Type="http://schemas.openxmlformats.org/officeDocument/2006/relationships/audio" Target="../media/gunshot.wav"/><Relationship Id="rId5" Type="http://schemas.openxmlformats.org/officeDocument/2006/relationships/audio" Target="../media/gunshot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ashreg.wav"/><Relationship Id="rId3" Type="http://schemas.openxmlformats.org/officeDocument/2006/relationships/audio" Target="../media/cashreg.wav"/><Relationship Id="rId4" Type="http://schemas.openxmlformats.org/officeDocument/2006/relationships/audio" Target="../media/cashreg.wav"/><Relationship Id="rId5" Type="http://schemas.openxmlformats.org/officeDocument/2006/relationships/audio" Target="../media/cashreg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driveby.wav"/><Relationship Id="rId3" Type="http://schemas.openxmlformats.org/officeDocument/2006/relationships/audio" Target="../media/driveby.wav"/><Relationship Id="rId4" Type="http://schemas.openxmlformats.org/officeDocument/2006/relationships/audio" Target="../media/driveby.wav"/><Relationship Id="rId5" Type="http://schemas.openxmlformats.org/officeDocument/2006/relationships/audio" Target="../media/driveby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gunshot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audio" Target="../media/whoosh.wav"/><Relationship Id="rId4" Type="http://schemas.openxmlformats.org/officeDocument/2006/relationships/audio" Target="../media/gunshot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projctor.wav"/><Relationship Id="rId3" Type="http://schemas.openxmlformats.org/officeDocument/2006/relationships/audio" Target="../media/projctor.wav"/><Relationship Id="rId4" Type="http://schemas.openxmlformats.org/officeDocument/2006/relationships/audio" Target="../media/projctor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igarette Smoke and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pidemiologic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perimental Eviden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arly Dea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Trends of Smok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ed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eveloping worl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cardiovascular disea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Atherosclerosi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too much cholesterol has been taken and is stored in the arteries causing them to narrow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heart is blocked a heart attack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f an artery to the brain is blocked then a stroke could occu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…</a:t>
            </a: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more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travels in packages called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low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deliver cholesterol around the bod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</a:t>
            </a:r>
            <a:r>
              <a:rPr b="1" i="1" lang="en-GB" sz="3200" spc="-1" strike="noStrike">
                <a:solidFill>
                  <a:srgbClr val="ffffff"/>
                </a:solidFill>
                <a:latin typeface="Times New Roman"/>
              </a:rPr>
              <a:t>high density lipoproteins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that remove cholesterol from the blood stre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holesterol is essential but in the right amounts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7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atherosclerosis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atherosclerosis1"/>
          <p:cNvPicPr/>
          <p:nvPr/>
        </p:nvPicPr>
        <p:blipFill>
          <a:blip r:embed="rId1"/>
          <a:stretch/>
        </p:blipFill>
        <p:spPr>
          <a:xfrm>
            <a:off x="533520" y="228600"/>
            <a:ext cx="8076960" cy="6172200"/>
          </a:xfrm>
          <a:prstGeom prst="rect">
            <a:avLst/>
          </a:prstGeom>
          <a:ln w="0">
            <a:noFill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I’ve done enough!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ronary Heart Disease (CHD) – What are the three form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troke – Why do they occur? What happens to a person having a stroke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aQ 14.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Proving the links between smoking and lung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erious widespread smoking did not start until the second half of the 20</a:t>
            </a:r>
            <a:r>
              <a:rPr b="0" lang="en-GB" sz="32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entu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the 1950’s there was a lung cancer epidemic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re are now over 35,000 deaths per year from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general, 50% of smokers die from a smoking related disea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Chronic Obstructive Pulmonary Diseas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is where chronic bronchitis and emphysema occur at the same tim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disease is responsible for 30,000+ deaths a year in the UK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is very rare i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98% of people with emphysema are smoker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ome more statistic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ers are 18 time more likely to develop lung cancer than non-smoker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25% of smokers die of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t takes ten years for lungs to recover after a long period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third of all cancer deaths are a direct result of smoking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lungcancer1"/>
          <p:cNvPicPr/>
          <p:nvPr/>
        </p:nvPicPr>
        <p:blipFill>
          <a:blip r:embed="rId1"/>
          <a:stretch/>
        </p:blipFill>
        <p:spPr>
          <a:xfrm>
            <a:off x="228600" y="228600"/>
            <a:ext cx="8686800" cy="632448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SaQ 14.2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graphicFrame>
        <p:nvGraphicFramePr>
          <p:cNvPr id="110" name="Object 3"/>
          <p:cNvGraphicFramePr/>
          <p:nvPr/>
        </p:nvGraphicFramePr>
        <p:xfrm>
          <a:off x="695160" y="3125880"/>
          <a:ext cx="7753680" cy="182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5160" y="3125880"/>
                    <a:ext cx="7753680" cy="182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gunshot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Experimental Evidenc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ogs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ce were used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Vital research that should save lots of human live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Dog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ed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not get lung cancer but did produce cancerous cells in the lining of their airways and mouth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ne group of dogs were made to smoke filter-less cigarett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y did get lung canc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cc66"/>
                </a:solidFill>
                <a:latin typeface="Arial"/>
              </a:rPr>
              <a:t>The Smoking Machine Experiment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moking machines extracted the chemicals in smok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arcinogens and co-carcinogens were found in the ta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the tar was rubbed on the back of a mouse. The skin formed cancerous cell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6T10:42:54Z</dcterms:created>
  <dc:creator>Chalfonts Community College</dc:creator>
  <dc:description>Cigarette Smoke and Disease</dc:description>
  <cp:keywords>Cigarette Smoke and Disease</cp:keywords>
  <dc:language>en-US</dc:language>
  <cp:lastModifiedBy>LEGION2</cp:lastModifiedBy>
  <dcterms:modified xsi:type="dcterms:W3CDTF">2016-01-14T08:10:00Z</dcterms:modified>
  <cp:revision>25</cp:revision>
  <dc:subject>Cigarette Smoke and Disease</dc:subject>
  <dc:title>Cigarette Smoke and Disease</dc:title>
</cp:coreProperties>
</file>