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A0CF-2ECB-4365-ABBF-EB38EE2CC6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6EDE-EE7F-4256-91DF-A560A82C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243-EA85-46AB-9D99-85F99D74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C3EC-C952-4839-8601-F8056F71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3401-A99D-4B3E-84E1-FAC4B55C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D533-07EE-490E-9D73-F8337214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80CE-AD62-45EB-BF11-7DD84988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D933-1A15-4996-85C3-91316164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EDEE-C460-4AF0-9E4F-3B42186B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37EB-31DC-4A7A-8B0E-09013C1C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9986-C5C0-49BD-8C9D-54A0142D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B2AD-8478-4E8F-8EB5-912DD72E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DBF0-C4BF-45BC-83C1-31526C8E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5A88-A90C-4997-B5B0-4B16C4A6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0F4F-3964-422B-8405-D26EE40A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9C2A-D08F-4364-B6B4-DB6F96FD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A563-94B6-4902-BDBB-090889AE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C7E7-988E-421D-92F4-52427719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AC7F-199A-4D5D-93EF-2EFB6447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B79A-1987-4917-A64F-BF99E8EC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4B00-1BF3-4DB8-9D0C-9EACC03D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8638-5F0F-46C6-B6D3-D9E4EF2F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49D3-3D90-4842-8A89-A9155F26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36EC-831F-4F67-9A4D-620E1F15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92C9-64C1-4CC5-BA95-E3CC0E42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3250-98F5-44DF-8849-4A711AD293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00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156D-8D29-4B07-9D46-CA19283AE3EF}" type="slidenum">
              <a:rPr b="0" lang="en-US" sz="1200" spc="-1" strike="noStrike">
                <a:solidFill>
                  <a:srgbClr val="cc00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lgfl.skoool.co.uk/viewdetails_ks3.aspx?id=614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By the end of the lesson you should be able to: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Comic Sans MS"/>
              </a:rPr>
              <a:t>Red blood cells specialisation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)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no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extra space insid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3) contain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haemoglobi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oxygen carrying molecul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50million molecules / cel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5" name="Picture 4" descr="blood%20cell"/>
          <p:cNvPicPr/>
          <p:nvPr/>
        </p:nvPicPr>
        <p:blipFill>
          <a:blip r:embed="rId1"/>
          <a:stretch/>
        </p:blipFill>
        <p:spPr>
          <a:xfrm>
            <a:off x="857160" y="2322360"/>
            <a:ext cx="3359160" cy="2340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755640" y="1557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1)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biconcave shape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55640" y="486900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increases the surface area so more oxygen can be carried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925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gives red blood cells their colour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an carry up to 4 molecules of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associates and dissociates with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ontains ir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0" name="Picture 4" descr="Hemoglobin"/>
          <p:cNvPicPr/>
          <p:nvPr/>
        </p:nvPicPr>
        <p:blipFill>
          <a:blip r:embed="rId1"/>
          <a:srcRect l="0" t="13215" r="0" b="13215"/>
          <a:stretch/>
        </p:blipFill>
        <p:spPr>
          <a:xfrm>
            <a:off x="533520" y="1981080"/>
            <a:ext cx="38890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Ferns0100"/>
          <p:cNvPicPr/>
          <p:nvPr/>
        </p:nvPicPr>
        <p:blipFill>
          <a:blip r:embed="rId1"/>
          <a:srcRect l="2815" t="35648" r="19365" b="37265"/>
          <a:stretch/>
        </p:blipFill>
        <p:spPr>
          <a:xfrm>
            <a:off x="380880" y="1295280"/>
            <a:ext cx="8763120" cy="2616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0" y="39625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-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Function of 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Mon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5" name="Picture 3" descr="Monocytes-2"/>
          <p:cNvPicPr/>
          <p:nvPr/>
        </p:nvPicPr>
        <p:blipFill>
          <a:blip r:embed="rId1"/>
          <a:stretch/>
        </p:blipFill>
        <p:spPr>
          <a:xfrm>
            <a:off x="1403280" y="1905120"/>
            <a:ext cx="59054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onocytes and macrophag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non-specific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response to infecti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ttp://www.microbelibrary.org/images/tterry/anim/phago053.htm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8" name="Picture 4" descr="Phagocytose"/>
          <p:cNvPicPr/>
          <p:nvPr/>
        </p:nvPicPr>
        <p:blipFill>
          <a:blip r:embed="rId1"/>
          <a:stretch/>
        </p:blipFill>
        <p:spPr>
          <a:xfrm>
            <a:off x="5057640" y="2865600"/>
            <a:ext cx="2482920" cy="2579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4303087"/>
          <p:cNvPicPr/>
          <p:nvPr/>
        </p:nvPicPr>
        <p:blipFill>
          <a:blip r:embed="rId2"/>
          <a:stretch/>
        </p:blipFill>
        <p:spPr>
          <a:xfrm>
            <a:off x="996840" y="3137040"/>
            <a:ext cx="32911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Verdana"/>
              </a:rPr>
              <a:t>Lymphocyt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1" name="Picture 3" descr="Lymphocyte"/>
          <p:cNvPicPr/>
          <p:nvPr/>
        </p:nvPicPr>
        <p:blipFill>
          <a:blip r:embed="rId1"/>
          <a:stretch/>
        </p:blipFill>
        <p:spPr>
          <a:xfrm>
            <a:off x="1836720" y="1846440"/>
            <a:ext cx="53197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Comic Sans MS"/>
              </a:rPr>
              <a:t>Lymphocytes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44" name="Picture 4" descr="lymphocytes"/>
          <p:cNvPicPr/>
          <p:nvPr/>
        </p:nvPicPr>
        <p:blipFill>
          <a:blip r:embed="rId1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Can you?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the average human has 5 litres of bloo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is a transporting flui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carries vital substances to all parts of the body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380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596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uman blood smea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7" name="Picture 3" descr="humanbloodsmear2"/>
          <p:cNvPicPr/>
          <p:nvPr/>
        </p:nvPicPr>
        <p:blipFill>
          <a:blip r:embed="rId1"/>
          <a:stretch/>
        </p:blipFill>
        <p:spPr>
          <a:xfrm>
            <a:off x="838080" y="1676520"/>
            <a:ext cx="4413240" cy="4647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732720" y="5589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410080" y="1066320"/>
            <a:ext cx="3538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(55%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-6-million 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000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0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890880" cy="5113440"/>
          </a:xfrm>
          <a:prstGeom prst="rect">
            <a:avLst/>
          </a:prstGeom>
          <a:ln w="0">
            <a:noFill/>
          </a:ln>
        </p:spPr>
      </p:pic>
      <p:sp>
        <p:nvSpPr>
          <p:cNvPr id="101" name="Line 4"/>
          <p:cNvSpPr/>
          <p:nvPr/>
        </p:nvSpPr>
        <p:spPr>
          <a:xfrm flipH="1" flipV="1">
            <a:off x="3492000" y="1196640"/>
            <a:ext cx="189252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3059280" y="1844640"/>
            <a:ext cx="238752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924360" y="2852640"/>
            <a:ext cx="148104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195640" y="3573360"/>
            <a:ext cx="3375000" cy="503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268360" y="4149360"/>
            <a:ext cx="3292560" cy="3589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2916360" y="4797360"/>
            <a:ext cx="255096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300400" y="304920"/>
            <a:ext cx="22640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6699"/>
                </a:solidFill>
                <a:uFillTx/>
                <a:latin typeface="Comic Sans MS"/>
                <a:hlinkClick r:id="rId2"/>
              </a:rPr>
              <a:t>skool blood plasma</a:t>
            </a: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Verdana"/>
              </a:rPr>
              <a:t>x 1000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9" name="Picture 3" descr="MISCFIG04"/>
          <p:cNvPicPr/>
          <p:nvPr/>
        </p:nvPicPr>
        <p:blipFill>
          <a:blip r:embed="rId1"/>
          <a:stretch/>
        </p:blipFill>
        <p:spPr>
          <a:xfrm>
            <a:off x="1600200" y="1981080"/>
            <a:ext cx="528624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2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Plasma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liquid part of blood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transports:-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oluble food molecul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aste produc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hormones 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1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211200" cy="482436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>
            <a:off x="3348000" y="1197000"/>
            <a:ext cx="1152720" cy="71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00720" y="1125000"/>
            <a:ext cx="424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Red blood cells</a:t>
            </a: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 (RBCs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transport </a:t>
            </a: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oxygen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pecialised to do thi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lso carry some CO</a:t>
            </a:r>
            <a:r>
              <a:rPr b="0" lang="en-GB" sz="32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4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125360"/>
            <a:ext cx="2959200" cy="4445280"/>
          </a:xfrm>
          <a:prstGeom prst="rect">
            <a:avLst/>
          </a:prstGeom>
          <a:ln w="0">
            <a:noFill/>
          </a:ln>
        </p:spPr>
      </p:pic>
      <p:sp>
        <p:nvSpPr>
          <p:cNvPr id="115" name="Line 4"/>
          <p:cNvSpPr/>
          <p:nvPr/>
        </p:nvSpPr>
        <p:spPr>
          <a:xfrm>
            <a:off x="3635280" y="1341360"/>
            <a:ext cx="792360" cy="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191120" y="609120"/>
            <a:ext cx="4952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White blood cell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bodies “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defence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art of the immune system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uch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larger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than RBC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far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fewer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ave a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4000-13000 per mm</a:t>
            </a:r>
            <a:r>
              <a:rPr b="0" lang="en-GB" sz="28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 types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hagocytes and lymphocyt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7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826920" y="119700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 flipV="1">
            <a:off x="1763640" y="1125000"/>
            <a:ext cx="2664000" cy="863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0" y="105264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Platelets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if you get cut:-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platelets produc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iny </a:t>
            </a:r>
            <a:r>
              <a:rPr b="0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fibrin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threads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form a web-lik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mesh that traps blood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cells.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harden forming a clot, or "scab."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150,000 to 400,000 per mm</a:t>
            </a:r>
            <a:r>
              <a:rPr b="0" lang="en-GB" sz="26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05264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>
            <a:off x="3492360" y="1197000"/>
            <a:ext cx="1150920" cy="216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1979640" y="1413000"/>
            <a:ext cx="2663640" cy="792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3T13:59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