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ECF6-0C3E-4D39-9CD6-6F134C0307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5348-8FC5-4291-882B-2D535AC0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043-0396-4DD6-97F0-B5CEF2D8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024-3D65-47DD-9B44-FF60390E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66C-000E-46B6-A64B-15247F4C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7BED-6536-4EB7-9958-4FFA4481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D9FE-EBEA-4657-B76E-26DF4DB8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38A7-1145-4E44-9D14-84042711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3485-14B9-4593-9CAE-36817A7D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74BE-B89E-4FA2-9AA2-9711B7ED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E9D9-DC66-4201-9497-63B2300E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6A50-F76C-47B3-9D16-00D33A60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98F-28E7-4BE5-A797-E48C0A77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F76D-8D92-42F9-9A4D-C6910731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045C-F473-4D8E-9784-5F61FDD8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EC6A-F6BF-4C77-8D57-628ECC1A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513F-DF0E-4673-A717-FA77339F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6802-5205-4784-BCE2-B5B78099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B9E-8ED4-436C-ABB8-E6D6BA5A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626-CD77-41AC-A793-AF3429CB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BE4-E67D-4756-86B5-95684E6D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DCE-A992-4781-9030-E581C52C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4F6-AC4E-4120-BAA1-6C3AD3F0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247-3957-4AF1-A6FB-EDD6C789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1CE-95E0-4030-916A-CCB52BA3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335D-0EC0-46ED-A881-14D53C3EBC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CCF8-CEDA-480A-8BFD-D0C8169975C0}" type="slidenum">
              <a:rPr b="0" lang="en-US" sz="1200" spc="-1" strike="noStrike">
                <a:solidFill>
                  <a:srgbClr val="cc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gfl.skoool.co.uk/viewdetails_ks3.aspx?id=61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By the end of the lesson you should be able to: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Red blood cells specialisa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)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extra space insid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3) contain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haemoglobi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oxygen carrying molecul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50million molecules / cel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5" name="Picture 4" descr="blood%20cell"/>
          <p:cNvPicPr/>
          <p:nvPr/>
        </p:nvPicPr>
        <p:blipFill>
          <a:blip r:embed="rId1"/>
          <a:stretch/>
        </p:blipFill>
        <p:spPr>
          <a:xfrm>
            <a:off x="857160" y="2322360"/>
            <a:ext cx="335916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55640" y="1557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1)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biconcave shape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5640" y="486900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increases the surface area so more oxygen can be carried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gives red blood cells their colour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an carry up to 4 molecules of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associates and dissociates with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ontains ir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0" name="Picture 4" descr="Hemoglobin"/>
          <p:cNvPicPr/>
          <p:nvPr/>
        </p:nvPicPr>
        <p:blipFill>
          <a:blip r:embed="rId1"/>
          <a:srcRect l="0" t="13215" r="0" b="13215"/>
          <a:stretch/>
        </p:blipFill>
        <p:spPr>
          <a:xfrm>
            <a:off x="533520" y="1981080"/>
            <a:ext cx="3889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erns0100"/>
          <p:cNvPicPr/>
          <p:nvPr/>
        </p:nvPicPr>
        <p:blipFill>
          <a:blip r:embed="rId1"/>
          <a:srcRect l="2815" t="35648" r="19365" b="37265"/>
          <a:stretch/>
        </p:blipFill>
        <p:spPr>
          <a:xfrm>
            <a:off x="380880" y="1295280"/>
            <a:ext cx="8763120" cy="2616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0" y="39625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-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Function of 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Mon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5" name="Picture 3" descr="Monocytes-2"/>
          <p:cNvPicPr/>
          <p:nvPr/>
        </p:nvPicPr>
        <p:blipFill>
          <a:blip r:embed="rId1"/>
          <a:stretch/>
        </p:blipFill>
        <p:spPr>
          <a:xfrm>
            <a:off x="1403280" y="1905120"/>
            <a:ext cx="59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onocytes and macrophag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non-specific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response to infecti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ttp://www.microbelibrary.org/images/tterry/anim/phago053.htm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8" name="Picture 4" descr="Phagocytose"/>
          <p:cNvPicPr/>
          <p:nvPr/>
        </p:nvPicPr>
        <p:blipFill>
          <a:blip r:embed="rId1"/>
          <a:stretch/>
        </p:blipFill>
        <p:spPr>
          <a:xfrm>
            <a:off x="5057640" y="2865600"/>
            <a:ext cx="2482920" cy="25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303087"/>
          <p:cNvPicPr/>
          <p:nvPr/>
        </p:nvPicPr>
        <p:blipFill>
          <a:blip r:embed="rId2"/>
          <a:stretch/>
        </p:blipFill>
        <p:spPr>
          <a:xfrm>
            <a:off x="996840" y="3137040"/>
            <a:ext cx="3291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Verdana"/>
              </a:rPr>
              <a:t>Lymphocyt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1" name="Picture 3" descr="Lymphocyte"/>
          <p:cNvPicPr/>
          <p:nvPr/>
        </p:nvPicPr>
        <p:blipFill>
          <a:blip r:embed="rId1"/>
          <a:stretch/>
        </p:blipFill>
        <p:spPr>
          <a:xfrm>
            <a:off x="1836720" y="1846440"/>
            <a:ext cx="5319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Comic Sans MS"/>
              </a:rPr>
              <a:t>Lymphocytes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44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Can you?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the average human has 5 litres of bloo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is a transporting flui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carries vital substances to all parts of the body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uman blood smea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3" descr="humanbloodsmear2"/>
          <p:cNvPicPr/>
          <p:nvPr/>
        </p:nvPicPr>
        <p:blipFill>
          <a:blip r:embed="rId1"/>
          <a:stretch/>
        </p:blipFill>
        <p:spPr>
          <a:xfrm>
            <a:off x="838080" y="1676520"/>
            <a:ext cx="441324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3272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10080" y="1066320"/>
            <a:ext cx="353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(55%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-6-million 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000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0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89088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 flipV="1">
            <a:off x="3492000" y="1196640"/>
            <a:ext cx="189252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059280" y="1844640"/>
            <a:ext cx="238752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24360" y="2852640"/>
            <a:ext cx="148104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195640" y="3573360"/>
            <a:ext cx="3375000" cy="503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268360" y="4149360"/>
            <a:ext cx="3292560" cy="3589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916360" y="4797360"/>
            <a:ext cx="255096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0400" y="304920"/>
            <a:ext cx="226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6699"/>
                </a:solidFill>
                <a:uFillTx/>
                <a:latin typeface="Comic Sans MS"/>
                <a:hlinkClick r:id="rId2"/>
              </a:rPr>
              <a:t>skool blood plasma</a:t>
            </a: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Verdana"/>
              </a:rPr>
              <a:t>x 1000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3" descr="MISCFIG04"/>
          <p:cNvPicPr/>
          <p:nvPr/>
        </p:nvPicPr>
        <p:blipFill>
          <a:blip r:embed="rId1"/>
          <a:stretch/>
        </p:blipFill>
        <p:spPr>
          <a:xfrm>
            <a:off x="1600200" y="1981080"/>
            <a:ext cx="52862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Plasma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liquid part of blood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transports:-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oluble food molecul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aste produc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hormones 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1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21120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3348000" y="1197000"/>
            <a:ext cx="1152720" cy="71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Red blood cells</a:t>
            </a: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 (RBCs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transport </a:t>
            </a: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oxygen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pecialised to do thi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lso carry some CO</a:t>
            </a:r>
            <a:r>
              <a:rPr b="0" lang="en-GB" sz="32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4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125360"/>
            <a:ext cx="2959200" cy="4445280"/>
          </a:xfrm>
          <a:prstGeom prst="rect">
            <a:avLst/>
          </a:prstGeom>
          <a:ln w="0">
            <a:noFill/>
          </a:ln>
        </p:spPr>
      </p:pic>
      <p:sp>
        <p:nvSpPr>
          <p:cNvPr id="115" name="Line 4"/>
          <p:cNvSpPr/>
          <p:nvPr/>
        </p:nvSpPr>
        <p:spPr>
          <a:xfrm>
            <a:off x="3635280" y="1341360"/>
            <a:ext cx="792360" cy="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91120" y="609120"/>
            <a:ext cx="4952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White blood cell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bodies “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defence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art of the immune system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uch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larger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than RBC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far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fewer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ave a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4000-13000 per mm</a:t>
            </a:r>
            <a:r>
              <a:rPr b="0" lang="en-GB" sz="28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 types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hagocytes and lymphocyt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7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826920" y="119700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 flipV="1">
            <a:off x="1763640" y="1125000"/>
            <a:ext cx="2664000" cy="863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0" y="105264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Platelets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if you get cut:-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platelets produc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iny </a:t>
            </a:r>
            <a:r>
              <a:rPr b="0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fibrin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threads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form a web-lik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mesh that traps blood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cells.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harden forming a clot, or "scab."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150,000 to 400,000 per mm</a:t>
            </a:r>
            <a:r>
              <a:rPr b="0" lang="en-GB" sz="26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05264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3492360" y="1197000"/>
            <a:ext cx="1150920" cy="216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979640" y="1413000"/>
            <a:ext cx="2663640" cy="792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3T13:59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