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94B9-478A-4E01-93CF-3CDFFE9983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blood cells specialis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) no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 spac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) contain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oxygen carrying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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0million molecules /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) biconcav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the surface area so more oxygen can be carr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red blood cells their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arry up to 4 molecules of O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es and dissociates with 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of Haemoglo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ytes and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non-specific response to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icrobelibrary.org/images/tterry/anim/phago05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ocy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a specific immune respons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2 types: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-cell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roduce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composition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red blood cells an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function of haemoglobin in the transport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the function of macrophag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erage human has 5 litres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ansporting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rries vital substances to all parts of the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blood sm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(55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-6-million 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000/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ol blood 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c0099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 part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transport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le foo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s (RB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to do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carry som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ies “defenc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larger than RB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 fe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0-13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yp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es and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99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get cut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elets produ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ny fibrin threa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form a web-li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h that traps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harden forming a clot, or "scab.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,000 to 400,000 per m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C72-F196-46AF-B46A-4E8F4512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DD8A-892D-44C9-9150-A0B27222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5CE-8E91-45BE-9613-D4231942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809-95B1-4CDA-8B3C-EA0D41456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3C2B-3DCA-4FA9-97C0-77453F17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62F5-6EE7-45A2-8396-F8AA17E0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DE5C-C320-4DD7-A214-EF67129C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13D8D-3726-49CA-9C51-6022FE9B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A9B3-A380-4875-BCC6-E95FD824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F5EE-182F-4C6E-ADB6-5186D7ED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8C14-27C9-4919-A134-76C1A7DD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2BEF-8603-4F2A-8801-E8EB6146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4F1E-3C3A-4D2B-8D01-B9CAF1CD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9CC-E488-4412-A0CA-25FC2FF6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779E-9777-4F7D-A528-026B6047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BF86-0381-4602-9D77-4078F0E1C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F340-8109-4CC4-BAA0-5B0C7B77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8B4D-039E-4EC0-A7F8-F2CBEE6B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3FA7-709D-4F18-8138-5F0CE639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2AE-6D6C-4A3F-A40A-775CC846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F00F-9CB5-4178-9113-4FCC186C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02D-6C31-4CF7-AA32-6845D92F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2F0-BCA9-4DC9-9B17-6B3A2F8E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053-78CC-4D8B-813F-A6A6F495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C483-B699-4BCF-BD09-B49F2175DD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66ff"/>
          </a:solidFill>
          <a:ln w="9360">
            <a:solidFill>
              <a:srgbClr val="99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0099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00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D5F8-33A2-41E1-B1CF-545C116360B3}" type="slidenum">
              <a:rPr b="0" lang="en-US" sz="1200" spc="-1" strike="noStrike">
                <a:solidFill>
                  <a:srgbClr val="cc00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lgfl.skoool.co.uk/viewdetails_ks3.aspx?id=61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By the end of the lesson you should be able to: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Comic Sans MS"/>
              </a:rPr>
              <a:t>Red blood cells specialisations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17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)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extra space insid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3) contain </a:t>
            </a: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haemoglobi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oxygen carrying molecule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50million molecules / cel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5" name="Picture 4" descr="blood%20cell"/>
          <p:cNvPicPr/>
          <p:nvPr/>
        </p:nvPicPr>
        <p:blipFill>
          <a:blip r:embed="rId1"/>
          <a:stretch/>
        </p:blipFill>
        <p:spPr>
          <a:xfrm>
            <a:off x="857160" y="2322360"/>
            <a:ext cx="3359160" cy="2340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755640" y="15573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1)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biconcave shape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755640" y="4869000"/>
            <a:ext cx="345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increases the surface area so more oxygen can be carried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3925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gives red blood cells their colour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an carry up to 4 molecules of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associates and dissociates with O</a:t>
            </a:r>
            <a:r>
              <a:rPr b="1" lang="en-GB" sz="28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-450720" algn="ctr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contains ir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0" name="Picture 4" descr="Hemoglobin"/>
          <p:cNvPicPr/>
          <p:nvPr/>
        </p:nvPicPr>
        <p:blipFill>
          <a:blip r:embed="rId1"/>
          <a:srcRect l="0" t="13215" r="0" b="13215"/>
          <a:stretch/>
        </p:blipFill>
        <p:spPr>
          <a:xfrm>
            <a:off x="533520" y="1981080"/>
            <a:ext cx="388908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Ferns0100"/>
          <p:cNvPicPr/>
          <p:nvPr/>
        </p:nvPicPr>
        <p:blipFill>
          <a:blip r:embed="rId1"/>
          <a:srcRect l="2815" t="35648" r="19365" b="37265"/>
          <a:stretch/>
        </p:blipFill>
        <p:spPr>
          <a:xfrm>
            <a:off x="380880" y="1295280"/>
            <a:ext cx="8763120" cy="2616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4"/>
          <p:cNvSpPr/>
          <p:nvPr/>
        </p:nvSpPr>
        <p:spPr>
          <a:xfrm>
            <a:off x="0" y="39625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When there is a high concentration of oxygen e.g in the alveoli haemoglobin combines with oxygen to form oxyhaemoglobin. When the blood reaches the tissue which have a low concentration of oxygen the haemoglobin dissociates with the oxygen and the oxygen is released into body tissues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-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Function of Haemoglobin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Mon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5" name="Picture 3" descr="Monocytes-2"/>
          <p:cNvPicPr/>
          <p:nvPr/>
        </p:nvPicPr>
        <p:blipFill>
          <a:blip r:embed="rId1"/>
          <a:stretch/>
        </p:blipFill>
        <p:spPr>
          <a:xfrm>
            <a:off x="1403280" y="1905120"/>
            <a:ext cx="59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Phagocytes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59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onocytes and macrophag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non-specific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response to infection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55400" indent="-45540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ttp://www.microbelibrary.org/images/tterry/anim/phago053.html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38" name="Picture 4" descr="Phagocytose"/>
          <p:cNvPicPr/>
          <p:nvPr/>
        </p:nvPicPr>
        <p:blipFill>
          <a:blip r:embed="rId1"/>
          <a:stretch/>
        </p:blipFill>
        <p:spPr>
          <a:xfrm>
            <a:off x="5057640" y="2865600"/>
            <a:ext cx="2482920" cy="2579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4303087"/>
          <p:cNvPicPr/>
          <p:nvPr/>
        </p:nvPicPr>
        <p:blipFill>
          <a:blip r:embed="rId2"/>
          <a:stretch/>
        </p:blipFill>
        <p:spPr>
          <a:xfrm>
            <a:off x="996840" y="3137040"/>
            <a:ext cx="329112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Verdana"/>
              </a:rPr>
              <a:t>Lymphocyte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41" name="Picture 3" descr="Lymphocyte"/>
          <p:cNvPicPr/>
          <p:nvPr/>
        </p:nvPicPr>
        <p:blipFill>
          <a:blip r:embed="rId1"/>
          <a:stretch/>
        </p:blipFill>
        <p:spPr>
          <a:xfrm>
            <a:off x="1836720" y="1846440"/>
            <a:ext cx="531972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 u="sng">
                <a:solidFill>
                  <a:srgbClr val="000066"/>
                </a:solidFill>
                <a:uFillTx/>
                <a:latin typeface="Comic Sans MS"/>
              </a:rPr>
              <a:t>Lymphocytes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Provide a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specific immune response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 to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infectious diseases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re are 2 types: -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T-cells 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	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- B-cell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They produce </a:t>
            </a:r>
            <a:r>
              <a:rPr b="1" lang="en-GB" sz="30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44" name="Picture 4" descr="lymphocytes"/>
          <p:cNvPicPr/>
          <p:nvPr/>
        </p:nvPicPr>
        <p:blipFill>
          <a:blip r:embed="rId1"/>
          <a:stretch/>
        </p:blipFill>
        <p:spPr>
          <a:xfrm>
            <a:off x="971640" y="2708280"/>
            <a:ext cx="22320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Can you?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composition of Blood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red blood cells and plasma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Explain the function of haemoglobin in the transport of oxygen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cc0099"/>
                </a:solidFill>
                <a:latin typeface="Comic Sans MS"/>
              </a:rPr>
              <a:t>State the function of macrophages and lymphocytes</a:t>
            </a:r>
            <a:endParaRPr b="0" lang="en-US" sz="3000" spc="-1" strike="noStrike">
              <a:solidFill>
                <a:srgbClr val="cc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the average human has 5 litres of bloo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is a transporting fluid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5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cc0099"/>
                </a:solidFill>
                <a:latin typeface="Comic Sans MS"/>
              </a:rPr>
              <a:t>it carries vital substances to all parts of the body</a:t>
            </a:r>
            <a:endParaRPr b="0" lang="en-US" sz="3400" spc="-1" strike="noStrike">
              <a:solidFill>
                <a:srgbClr val="cc0099"/>
              </a:solidFill>
              <a:latin typeface="Verdan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3808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3366"/>
                </a:solidFill>
                <a:latin typeface="Comic Sans MS"/>
              </a:rPr>
              <a:t>Blood</a:t>
            </a:r>
            <a:endParaRPr b="0" lang="en-US" sz="44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5964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Comic Sans MS"/>
              </a:rPr>
              <a:t>Human blood smear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97" name="Picture 3" descr="humanbloodsmear2"/>
          <p:cNvPicPr/>
          <p:nvPr/>
        </p:nvPicPr>
        <p:blipFill>
          <a:blip r:embed="rId1"/>
          <a:stretch/>
        </p:blipFill>
        <p:spPr>
          <a:xfrm>
            <a:off x="838080" y="1676520"/>
            <a:ext cx="4413240" cy="46479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732720" y="5589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Arial"/>
              </a:rPr>
              <a:t>X 500</a:t>
            </a:r>
            <a:endParaRPr b="0" lang="en-US" sz="2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10080" y="1066320"/>
            <a:ext cx="353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(55%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red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-6-million 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hite blood cell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(5000/ml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tele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992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0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890880" cy="5113440"/>
          </a:xfrm>
          <a:prstGeom prst="rect">
            <a:avLst/>
          </a:prstGeom>
          <a:ln w="0">
            <a:noFill/>
          </a:ln>
        </p:spPr>
      </p:pic>
      <p:sp>
        <p:nvSpPr>
          <p:cNvPr id="101" name="Line 4"/>
          <p:cNvSpPr/>
          <p:nvPr/>
        </p:nvSpPr>
        <p:spPr>
          <a:xfrm flipH="1" flipV="1">
            <a:off x="3492000" y="1196640"/>
            <a:ext cx="189252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3059280" y="1844640"/>
            <a:ext cx="238752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3924360" y="2852640"/>
            <a:ext cx="1481040" cy="18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2195640" y="3573360"/>
            <a:ext cx="3375000" cy="503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5" name="Line 8"/>
          <p:cNvSpPr/>
          <p:nvPr/>
        </p:nvSpPr>
        <p:spPr>
          <a:xfrm flipV="1">
            <a:off x="2268360" y="4149360"/>
            <a:ext cx="3292560" cy="3589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2916360" y="4797360"/>
            <a:ext cx="2550960" cy="647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0400" y="304920"/>
            <a:ext cx="2264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336699"/>
                </a:solidFill>
                <a:uFillTx/>
                <a:latin typeface="Comic Sans MS"/>
                <a:hlinkClick r:id="rId2"/>
              </a:rPr>
              <a:t>skool blood plasma</a:t>
            </a: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66"/>
                </a:solidFill>
                <a:latin typeface="Verdana"/>
              </a:rPr>
              <a:t>x 1000</a:t>
            </a:r>
            <a:endParaRPr b="0" lang="en-US" sz="3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09" name="Picture 3" descr="MISCFIG04"/>
          <p:cNvPicPr/>
          <p:nvPr/>
        </p:nvPicPr>
        <p:blipFill>
          <a:blip r:embed="rId1"/>
          <a:stretch/>
        </p:blipFill>
        <p:spPr>
          <a:xfrm>
            <a:off x="1600200" y="1981080"/>
            <a:ext cx="528624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1052640"/>
            <a:ext cx="42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Plasma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liquid part of blood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plasma transports:-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oluble food molecul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waste product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hormones 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389880" indent="-38988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ntibodie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1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684360" y="981000"/>
            <a:ext cx="3211200" cy="4824360"/>
          </a:xfrm>
          <a:prstGeom prst="rect">
            <a:avLst/>
          </a:prstGeom>
          <a:ln w="0">
            <a:noFill/>
          </a:ln>
        </p:spPr>
      </p:pic>
      <p:sp>
        <p:nvSpPr>
          <p:cNvPr id="112" name="Line 4"/>
          <p:cNvSpPr/>
          <p:nvPr/>
        </p:nvSpPr>
        <p:spPr>
          <a:xfrm>
            <a:off x="3348000" y="1197000"/>
            <a:ext cx="1152720" cy="7128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00720" y="1125000"/>
            <a:ext cx="424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Red blood cells</a:t>
            </a: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 (RBCs)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transport </a:t>
            </a:r>
            <a:r>
              <a:rPr b="1" lang="en-GB" sz="3200" spc="-1" strike="noStrike" u="sng">
                <a:solidFill>
                  <a:srgbClr val="cc0099"/>
                </a:solidFill>
                <a:uFillTx/>
                <a:latin typeface="Comic Sans MS"/>
              </a:rPr>
              <a:t>oxygen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specialised to do this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  <a:p>
            <a:pPr marL="464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99"/>
                </a:solidFill>
                <a:latin typeface="Comic Sans MS"/>
              </a:rPr>
              <a:t>Also carry some CO</a:t>
            </a:r>
            <a:r>
              <a:rPr b="0" lang="en-GB" sz="3200" spc="-1" strike="noStrike" baseline="-25000">
                <a:solidFill>
                  <a:srgbClr val="cc0099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4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125360"/>
            <a:ext cx="2959200" cy="4445280"/>
          </a:xfrm>
          <a:prstGeom prst="rect">
            <a:avLst/>
          </a:prstGeom>
          <a:ln w="0">
            <a:noFill/>
          </a:ln>
        </p:spPr>
      </p:pic>
      <p:sp>
        <p:nvSpPr>
          <p:cNvPr id="115" name="Line 4"/>
          <p:cNvSpPr/>
          <p:nvPr/>
        </p:nvSpPr>
        <p:spPr>
          <a:xfrm>
            <a:off x="3635280" y="1341360"/>
            <a:ext cx="792360" cy="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191120" y="609120"/>
            <a:ext cx="4952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99"/>
                </a:solidFill>
                <a:uFillTx/>
                <a:latin typeface="Comic Sans MS"/>
              </a:rPr>
              <a:t>White blood cell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the bodies “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defence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art of the immune system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much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larger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than RBC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far </a:t>
            </a:r>
            <a:r>
              <a:rPr b="1" lang="en-GB" sz="2800" spc="-1" strike="noStrike">
                <a:solidFill>
                  <a:srgbClr val="cc0099"/>
                </a:solidFill>
                <a:latin typeface="Comic Sans MS"/>
              </a:rPr>
              <a:t>fewer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have a nucleu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4000-13000 per mm</a:t>
            </a:r>
            <a:r>
              <a:rPr b="0" lang="en-GB" sz="28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-441360">
              <a:lnSpc>
                <a:spcPct val="100000"/>
              </a:lnSpc>
              <a:spcBef>
                <a:spcPts val="700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2 types 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cc0099"/>
                </a:solidFill>
                <a:latin typeface="Comic Sans MS"/>
              </a:rPr>
              <a:t>phagocytes and lymphocytes</a:t>
            </a: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  <a:p>
            <a:pPr marL="44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17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826920" y="119700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18" name="Line 4"/>
          <p:cNvSpPr/>
          <p:nvPr/>
        </p:nvSpPr>
        <p:spPr>
          <a:xfrm flipV="1">
            <a:off x="1763640" y="1125000"/>
            <a:ext cx="2664000" cy="86364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0" y="105264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Platelets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if you get cut:-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platelets produc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iny </a:t>
            </a:r>
            <a:r>
              <a:rPr b="0" lang="en-GB" sz="2600" spc="-1" strike="noStrike" u="sng">
                <a:solidFill>
                  <a:srgbClr val="cc0099"/>
                </a:solidFill>
                <a:uFillTx/>
                <a:latin typeface="Comic Sans MS"/>
              </a:rPr>
              <a:t>fibrin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threads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form a web-like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mesh that traps blood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    </a:t>
            </a: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cells.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these harden forming a clot, or "scab." 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649"/>
              </a:spcBef>
              <a:buClr>
                <a:srgbClr val="9966ff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cc0099"/>
                </a:solidFill>
                <a:latin typeface="Comic Sans MS"/>
              </a:rPr>
              <a:t>150,000 to 400,000 per mm</a:t>
            </a:r>
            <a:r>
              <a:rPr b="0" lang="en-GB" sz="2600" spc="-1" strike="noStrike" baseline="30000">
                <a:solidFill>
                  <a:srgbClr val="cc0099"/>
                </a:solidFill>
                <a:latin typeface="Comic Sans MS"/>
              </a:rPr>
              <a:t>3</a:t>
            </a:r>
            <a:endParaRPr b="0" lang="en-US" sz="2600" spc="-1" strike="noStrike">
              <a:solidFill>
                <a:srgbClr val="cc0099"/>
              </a:solidFill>
              <a:latin typeface="Verdana"/>
            </a:endParaRPr>
          </a:p>
        </p:txBody>
      </p:sp>
      <p:pic>
        <p:nvPicPr>
          <p:cNvPr id="120" name="Picture 3" descr="Human blood smear showing red and white blood cells ,  "/>
          <p:cNvPicPr/>
          <p:nvPr/>
        </p:nvPicPr>
        <p:blipFill>
          <a:blip r:embed="rId1"/>
          <a:stretch/>
        </p:blipFill>
        <p:spPr>
          <a:xfrm>
            <a:off x="900000" y="1052640"/>
            <a:ext cx="2959200" cy="4444920"/>
          </a:xfrm>
          <a:prstGeom prst="rect">
            <a:avLst/>
          </a:prstGeom>
          <a:ln w="0">
            <a:noFill/>
          </a:ln>
        </p:spPr>
      </p:pic>
      <p:sp>
        <p:nvSpPr>
          <p:cNvPr id="121" name="Line 4"/>
          <p:cNvSpPr/>
          <p:nvPr/>
        </p:nvSpPr>
        <p:spPr>
          <a:xfrm>
            <a:off x="3492360" y="1197000"/>
            <a:ext cx="1150920" cy="216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1979640" y="1413000"/>
            <a:ext cx="2663640" cy="7920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3T13:59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