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173D-DD87-4756-9EB2-05712A35D7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BA5-887F-4981-8DCE-1754FE0F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BDD-8DFB-46D3-A63E-4269BBE6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B19-A981-4A94-B567-84449568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D6C-79A8-49E2-A8F7-BCD902BD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FDE-422A-4B2F-8D6F-2EFF5A9A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E0F-D218-45F4-B246-58B81CD5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A59-18D0-43C0-8FDD-07823E42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6ED-EEA8-4C0E-A1BA-73B9CB49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890-406D-4B0F-A8E9-37AFDF60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33C-A0E8-4CEA-A8EA-D875850A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418-7CAC-4652-A2E7-13DE8974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5793-BEE4-4F29-9B7D-08086DD1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2F90-728C-4A8C-952B-530935F56D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urse-prescriber.co.uk/education/visual_lib/pp109.jpg" TargetMode="External"/><Relationship Id="rId2" Type="http://schemas.openxmlformats.org/officeDocument/2006/relationships/hyperlink" Target="http://www.nurse-prescriber.co.uk/education/visual_lib/pp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6477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lood Vessel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40520" y="2968560"/>
            <a:ext cx="7712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arning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and contrast th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200340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aorta-01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4897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352680" y="1295280"/>
            <a:ext cx="5335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81400" y="293688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21280" y="480060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V005"/>
          <p:cNvPicPr/>
          <p:nvPr/>
        </p:nvPicPr>
        <p:blipFill>
          <a:blip r:embed="rId1"/>
          <a:stretch/>
        </p:blipFill>
        <p:spPr>
          <a:xfrm>
            <a:off x="1692360" y="1554120"/>
            <a:ext cx="5761080" cy="37497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loodvessels_2"/>
          <p:cNvPicPr/>
          <p:nvPr/>
        </p:nvPicPr>
        <p:blipFill>
          <a:blip r:embed="rId1"/>
          <a:stretch/>
        </p:blipFill>
        <p:spPr>
          <a:xfrm>
            <a:off x="1371600" y="1060560"/>
            <a:ext cx="5486400" cy="4641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632480" y="2571840"/>
            <a:ext cx="500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llu_vein"/>
          <p:cNvPicPr/>
          <p:nvPr/>
        </p:nvPicPr>
        <p:blipFill>
          <a:blip r:embed="rId1"/>
          <a:stretch/>
        </p:blipFill>
        <p:spPr>
          <a:xfrm>
            <a:off x="685800" y="152280"/>
            <a:ext cx="7238880" cy="308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3635640" cy="29307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loodC10"/>
          <p:cNvPicPr/>
          <p:nvPr/>
        </p:nvPicPr>
        <p:blipFill>
          <a:blip r:embed="rId1"/>
          <a:stretch/>
        </p:blipFill>
        <p:spPr>
          <a:xfrm>
            <a:off x="0" y="1219320"/>
            <a:ext cx="8839080" cy="3846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rtl19"/>
          <p:cNvPicPr/>
          <p:nvPr/>
        </p:nvPicPr>
        <p:blipFill>
          <a:blip r:embed="rId1"/>
          <a:stretch/>
        </p:blipFill>
        <p:spPr>
          <a:xfrm>
            <a:off x="1714680" y="1582560"/>
            <a:ext cx="5715000" cy="36928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rtery%20&amp;%20Vein-100x-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illu_capillary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14" descr="CAPILLARY1%20WITH%20LABELS%20copy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624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ealth1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Ber%202%203%20Capillary"/>
          <p:cNvPicPr/>
          <p:nvPr/>
        </p:nvPicPr>
        <p:blipFill>
          <a:blip r:embed="rId1"/>
          <a:stretch/>
        </p:blipFill>
        <p:spPr>
          <a:xfrm>
            <a:off x="114480" y="606600"/>
            <a:ext cx="8915400" cy="56466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71445"/>
          <p:cNvPicPr/>
          <p:nvPr/>
        </p:nvPicPr>
        <p:blipFill>
          <a:blip r:embed="rId1"/>
          <a:stretch/>
        </p:blipFill>
        <p:spPr>
          <a:xfrm>
            <a:off x="1697040" y="1166760"/>
            <a:ext cx="5749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75480" y="152280"/>
            <a:ext cx="80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981080"/>
          <a:ext cx="8458200" cy="467388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2762280"/>
                <a:gridCol w="21146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l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s"/>
          <p:cNvPicPr/>
          <p:nvPr/>
        </p:nvPicPr>
        <p:blipFill>
          <a:blip r:embed="rId1"/>
          <a:stretch/>
        </p:blipFill>
        <p:spPr>
          <a:xfrm>
            <a:off x="1066680" y="1214280"/>
            <a:ext cx="731520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loodvessels_4"/>
          <p:cNvPicPr/>
          <p:nvPr/>
        </p:nvPicPr>
        <p:blipFill>
          <a:blip r:embed="rId1"/>
          <a:stretch/>
        </p:blipFill>
        <p:spPr>
          <a:xfrm>
            <a:off x="1611360" y="1217520"/>
            <a:ext cx="5921280" cy="4422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523880" y="4038480"/>
            <a:ext cx="5943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Veins-Arterys"/>
          <p:cNvPicPr/>
          <p:nvPr/>
        </p:nvPicPr>
        <p:blipFill>
          <a:blip r:embed="rId1"/>
          <a:stretch/>
        </p:blipFill>
        <p:spPr>
          <a:xfrm>
            <a:off x="2052720" y="1200240"/>
            <a:ext cx="5040360" cy="44575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5"/>
          <p:cNvGrpSpPr/>
          <p:nvPr/>
        </p:nvGrpSpPr>
        <p:grpSpPr>
          <a:xfrm>
            <a:off x="692280" y="1817640"/>
            <a:ext cx="7759440" cy="3140280"/>
            <a:chOff x="692280" y="1817640"/>
            <a:chExt cx="7759440" cy="3140280"/>
          </a:xfrm>
        </p:grpSpPr>
        <p:sp>
          <p:nvSpPr>
            <p:cNvPr id="61" name="Rectangle 2"/>
            <p:cNvSpPr/>
            <p:nvPr/>
          </p:nvSpPr>
          <p:spPr>
            <a:xfrm>
              <a:off x="692280" y="1817640"/>
              <a:ext cx="77594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"/>
            <p:cNvSpPr/>
            <p:nvPr/>
          </p:nvSpPr>
          <p:spPr>
            <a:xfrm>
              <a:off x="692280" y="1817640"/>
              <a:ext cx="7759440" cy="31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20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fig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74640"/>
            <a:ext cx="5943600" cy="5508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7"/>
          <p:cNvGrpSpPr/>
          <p:nvPr/>
        </p:nvGrpSpPr>
        <p:grpSpPr>
          <a:xfrm>
            <a:off x="2198520" y="1136520"/>
            <a:ext cx="3571920" cy="4586400"/>
            <a:chOff x="2198520" y="1136520"/>
            <a:chExt cx="3571920" cy="4586400"/>
          </a:xfrm>
        </p:grpSpPr>
        <p:sp>
          <p:nvSpPr>
            <p:cNvPr id="66" name="Rectangle 2"/>
            <p:cNvSpPr/>
            <p:nvPr/>
          </p:nvSpPr>
          <p:spPr>
            <a:xfrm>
              <a:off x="2198520" y="113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2198520" y="1136520"/>
              <a:ext cx="3571920" cy="4586400"/>
              <a:chOff x="2198520" y="1136520"/>
              <a:chExt cx="3571920" cy="45864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2198520" y="1136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2198520" y="1136520"/>
                <a:ext cx="3571920" cy="458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24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Picture 5" descr="vessel"/>
          <p:cNvPicPr/>
          <p:nvPr/>
        </p:nvPicPr>
        <p:blipFill>
          <a:blip r:embed="rId1"/>
          <a:stretch/>
        </p:blipFill>
        <p:spPr>
          <a:xfrm>
            <a:off x="1371600" y="320760"/>
            <a:ext cx="6705720" cy="5767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0" descr="19194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424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V004"/>
          <p:cNvPicPr/>
          <p:nvPr/>
        </p:nvPicPr>
        <p:blipFill>
          <a:blip r:embed="rId1"/>
          <a:stretch/>
        </p:blipFill>
        <p:spPr>
          <a:xfrm>
            <a:off x="457200" y="709560"/>
            <a:ext cx="8305920" cy="5488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40:08Z</dcterms:created>
  <dc:creator>St. Joseph's RC Comp</dc:creator>
  <dc:description/>
  <dc:language>en-US</dc:language>
  <cp:lastModifiedBy>LEGION2</cp:lastModifiedBy>
  <dcterms:modified xsi:type="dcterms:W3CDTF">2016-01-13T13:50:30Z</dcterms:modified>
  <cp:revision>14</cp:revision>
  <dc:subject/>
  <dc:title>PowerPoint Presentation</dc:title>
</cp:coreProperties>
</file>