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E7EC-5BDA-4DA9-BC64-6EE7E90F9B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A4E4-39FB-4F3F-AF6E-70C112E4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9B4-4983-4B25-8C51-E5CFB865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B35-BCB6-4824-863D-6E8A3C62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BD11-FE6A-4FD0-8785-135576B8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06A1-CEAE-48FA-AFF8-88237578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01F7-19DB-4F6B-A7CD-FB292D2C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B6C1-CDC3-4924-8E53-1D1BF7FE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2A73-1B66-42C7-BA36-3E0242FF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0DEE-1C25-4BC2-BF1C-9B0BDF6F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171D-9460-4E1F-A258-A145492D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8BFC-75B1-4153-964B-480B21AC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5C9-9E8B-4CF7-9BB5-6AD41D03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9A5F-8023-4692-A17A-34BAB3B5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525B-16FE-4BAA-88D8-885B69CB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C5E4-2E51-49AE-907A-4E5EB644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1A0A-D81E-4814-8166-899F3ED29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C5BE-5317-40D7-9843-048CCDDB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6BDB-C581-481D-A9D1-A32E098B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266-A12F-426D-ABE2-E1C9ED690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2C9-B38A-4D87-9AC7-C4F5656E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C83-456A-40BB-9716-BC2A7ED4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B39-AC4C-4E02-881F-46053E42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4FD-D220-4269-AA1F-E340120D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A9E-C69A-41A9-AAFE-EAF9A803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608A-A905-4CFF-B4BC-4EB40C3F97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DADD-1E31-4F2A-A6C7-A372F1619BE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Being Health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0"/>
            <a:ext cx="64771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0" y="747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800600" y="5700600"/>
            <a:ext cx="29718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6"/>
          <p:cNvGrpSpPr/>
          <p:nvPr/>
        </p:nvGrpSpPr>
        <p:grpSpPr>
          <a:xfrm>
            <a:off x="385560" y="1905120"/>
            <a:ext cx="3500640" cy="3690360"/>
            <a:chOff x="385560" y="1905120"/>
            <a:chExt cx="3500640" cy="3690360"/>
          </a:xfrm>
        </p:grpSpPr>
        <p:sp>
          <p:nvSpPr>
            <p:cNvPr id="267" name="Rectangle 7"/>
            <p:cNvSpPr/>
            <p:nvPr/>
          </p:nvSpPr>
          <p:spPr>
            <a:xfrm>
              <a:off x="465480" y="1905120"/>
              <a:ext cx="163620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In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385560" y="4038480"/>
              <a:ext cx="32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8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20.7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0.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266688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297180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36576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2" name="Picture 12" descr="pie chart 1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2895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Rectangle 13"/>
            <p:cNvSpPr/>
            <p:nvPr/>
          </p:nvSpPr>
          <p:spPr>
            <a:xfrm>
              <a:off x="137160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14"/>
          <p:cNvGrpSpPr/>
          <p:nvPr/>
        </p:nvGrpSpPr>
        <p:grpSpPr>
          <a:xfrm>
            <a:off x="4805640" y="1905120"/>
            <a:ext cx="3195360" cy="3690360"/>
            <a:chOff x="4805640" y="1905120"/>
            <a:chExt cx="3195360" cy="3690360"/>
          </a:xfrm>
        </p:grpSpPr>
        <p:sp>
          <p:nvSpPr>
            <p:cNvPr id="275" name="Rectangle 15"/>
            <p:cNvSpPr/>
            <p:nvPr/>
          </p:nvSpPr>
          <p:spPr>
            <a:xfrm>
              <a:off x="4885560" y="1905120"/>
              <a:ext cx="173664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Ex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4805640" y="4038480"/>
              <a:ext cx="300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5.5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14.6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4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731520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8"/>
            <p:cNvSpPr/>
            <p:nvPr/>
          </p:nvSpPr>
          <p:spPr>
            <a:xfrm>
              <a:off x="731988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77724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0"/>
            <p:cNvSpPr/>
            <p:nvPr/>
          </p:nvSpPr>
          <p:spPr>
            <a:xfrm>
              <a:off x="579132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1" name="Picture 21" descr="pie chart 2"/>
            <p:cNvPicPr/>
            <p:nvPr/>
          </p:nvPicPr>
          <p:blipFill>
            <a:blip r:embed="rId2"/>
            <a:stretch/>
          </p:blipFill>
          <p:spPr>
            <a:xfrm>
              <a:off x="4876920" y="2438280"/>
              <a:ext cx="2895480" cy="158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Lets take a closer look (avi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respiratory systemmp4.AVI" descr=""/>
          <p:cNvPicPr/>
          <p:nvPr/>
        </p:nvPicPr>
        <p:blipFill>
          <a:blip r:embed="rId1"/>
          <a:stretch/>
        </p:blipFill>
        <p:spPr>
          <a:xfrm>
            <a:off x="1042920" y="1644480"/>
            <a:ext cx="6553440" cy="48056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Backup of as wmv fil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respiratory systemmp4.WMV" descr=""/>
          <p:cNvPicPr/>
          <p:nvPr/>
        </p:nvPicPr>
        <p:blipFill>
          <a:blip r:embed="rId1"/>
          <a:stretch/>
        </p:blipFill>
        <p:spPr>
          <a:xfrm>
            <a:off x="1332000" y="1442880"/>
            <a:ext cx="6264360" cy="5011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v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lungs and breathing.AVI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m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lungs and breathing.WMV" descr=""/>
          <p:cNvPicPr/>
          <p:nvPr/>
        </p:nvPicPr>
        <p:blipFill>
          <a:blip r:embed="rId1"/>
          <a:stretch/>
        </p:blipFill>
        <p:spPr>
          <a:xfrm>
            <a:off x="1116000" y="1324080"/>
            <a:ext cx="6840720" cy="513072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1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bjectives &amp;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Respiratory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ow do we breath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uth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pipe/trachea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ole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veol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lungs5c"/>
          <p:cNvPicPr/>
          <p:nvPr/>
        </p:nvPicPr>
        <p:blipFill>
          <a:blip r:embed="rId1"/>
          <a:stretch/>
        </p:blipFill>
        <p:spPr>
          <a:xfrm>
            <a:off x="3924360" y="1341360"/>
            <a:ext cx="4776840" cy="529128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0" y="0"/>
            <a:ext cx="20574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In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443320" y="380880"/>
            <a:ext cx="4464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in we in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ShockwaveFlash1"/>
          <p:cNvGraphicFramePr/>
          <p:nvPr/>
        </p:nvGraphicFramePr>
        <p:xfrm>
          <a:off x="838080" y="1066680"/>
          <a:ext cx="739008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7390080" cy="5486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26668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Ex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061000" y="609480"/>
            <a:ext cx="4737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out we ex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ShockwaveFlash1"/>
          <p:cNvGraphicFramePr/>
          <p:nvPr/>
        </p:nvGraphicFramePr>
        <p:xfrm>
          <a:off x="914400" y="1143000"/>
          <a:ext cx="73152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43000"/>
                    <a:ext cx="7315200" cy="54100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Exchanging ga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lungs"/>
          <p:cNvPicPr/>
          <p:nvPr/>
        </p:nvPicPr>
        <p:blipFill>
          <a:blip r:embed="rId1"/>
          <a:stretch/>
        </p:blipFill>
        <p:spPr>
          <a:xfrm>
            <a:off x="179280" y="1484280"/>
            <a:ext cx="4337280" cy="4608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3D_Model_Anat_Alveoli2_web"/>
          <p:cNvPicPr/>
          <p:nvPr/>
        </p:nvPicPr>
        <p:blipFill>
          <a:blip r:embed="rId2"/>
          <a:stretch/>
        </p:blipFill>
        <p:spPr>
          <a:xfrm>
            <a:off x="4500720" y="1484280"/>
            <a:ext cx="4464000" cy="46814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0"/>
            <a:ext cx="25909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914400" y="58071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066680" y="77796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990720" y="1600200"/>
          <a:ext cx="716256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162560" cy="4038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380880" y="2362320"/>
            <a:ext cx="2438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ShockwaveFlash1"/>
          <p:cNvGraphicFramePr/>
          <p:nvPr/>
        </p:nvGraphicFramePr>
        <p:xfrm>
          <a:off x="2819520" y="1905120"/>
          <a:ext cx="571500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905120"/>
                    <a:ext cx="5715000" cy="4343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8:21:04Z</dcterms:created>
  <dc:creator>Tony Blakie</dc:creator>
  <dc:description/>
  <dc:language>en-US</dc:language>
  <cp:lastModifiedBy>LEGION2</cp:lastModifiedBy>
  <dcterms:modified xsi:type="dcterms:W3CDTF">2016-01-13T13:38:47Z</dcterms:modified>
  <cp:revision>8</cp:revision>
  <dc:subject/>
  <dc:title>Being Healthy- Breathing and the lungs</dc:title>
</cp:coreProperties>
</file>