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D777-386E-4EED-8A8C-F150343215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Health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thing and the lu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Heal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ing and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ing inhaled and exhaled 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 big differences between inhaled and exhaled air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ould you test for the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is another difference…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…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vapou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inhaled and exhaled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big differences between inhaled and exhaled ai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uld you test for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other difference…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vap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ts take a closer look (av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take a closer look (a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kup of as wmv fil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up of as wmv f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v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m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 1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a partn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ner A – explain the process of breathing in and what gases exch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ner B – explain the process of breathing out and what gases exch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prepared to share your answers with the clas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 partn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 A – explain the process of breathing in and what gas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 B – explain the process of breathing out and what gas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prepared to share your answers with the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el diagram of lungs and indicate where oxygen and carbon dioxide exchange in the lu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diagram of lungs and indicate where oxygen and carbon dioxide exchange in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en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s &amp; Outc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 &amp;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spir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 exchange happens in the lu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have 2 lungs, situated in your upper thorax / ch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, oxygen and carbon dioxide are exchanged – oxygen is needed for life and carbon dioxide is got rid of when we breathe ou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exchange happens in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2 lungs, situated in your upper thorax / c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oxygen and carbon dioxide are exchanged – oxygen is needed for life and carbon dioxide is got rid of when we breathe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ow do we breath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uth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indpipe/trachea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onchi 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onchioles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veoli 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breath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pipe/trachea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chi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chioles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veoli 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ha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When we breathe in we inha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a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hen we breathe in we inh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ha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When we breathe out we exha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a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hen we breathe out we exh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changing ga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ing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lveo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utside of the alveoli is covered with tiny blood vesse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makes its way into thousands of special air sacs collectively called the ALVEOL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side of the alveoli is covered with tiny blood vess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makes its way into thousands of special air sacs collectively called the ALVEO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lveo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of these alveoli is called the ALVEOL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where the oxygen is transferred into the blood and carbon dioxide moves out of the bloo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all these alveoli flattened and spread out onto the floor, they would cover an area the size of a tennis cour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veo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se alveoli is called the ALVEOL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ere the oxygen is transferred into the blood and carbon dioxide moves out of the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ll these alveoli flattened and spread out onto the floor, they would cover an area the size of a tennis cour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3D8E-2614-41E8-8AF0-9947CD35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66CE-4F4A-4B97-9A2E-88A9CAB1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82B8-D0AD-41C2-AB34-3CB82952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8872-0F0E-483A-A86E-4B9669905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E3D2-0C85-4626-90F6-3580D30E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804F-AEBD-4AFC-9981-32FA01FC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CE88-B97F-471D-92A8-133A4A16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FAEF-7D56-4ED4-A76E-00641948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72F8-0883-4D14-8874-1A864BD1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2FA3-9A57-465B-B6D2-F6140B85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9BC0-2883-4818-A2EF-78F29FFA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42BF-568D-45FF-8D7D-254BF78F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B4DC-7454-4BA5-9519-F860A758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49DD-300B-441F-AC9D-1E97E8CE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DF2A-3422-478C-95A6-324E3B1C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EBAF-F3D8-472E-9E84-22D73716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B599-CFE4-465D-A040-5B1E356D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0AC0-4ED8-4C91-84BE-0351505E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D6DB-B4BE-464A-9A25-56A11E32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17AD-2DA2-4870-9ABC-DEFEB408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02A3-0496-4D6F-A6B9-56ADF95A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58E4-011C-428F-A406-754512C6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2629-0412-4DF6-A574-BD58B507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2753-A8A9-4425-A999-760FF947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3545-4616-41E5-B526-AAD3F2EF86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3ADF-7031-4FCA-B877-9B7164528C2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Being Health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eathing and the lu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0" y="0"/>
            <a:ext cx="647712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aring inhaled and exhaled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0" y="7477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are the big differences between inhaled and exhaled air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could you test for the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457200" y="5715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is another difference…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4800600" y="5700600"/>
            <a:ext cx="29718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……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er vapo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6"/>
          <p:cNvGrpSpPr/>
          <p:nvPr/>
        </p:nvGrpSpPr>
        <p:grpSpPr>
          <a:xfrm>
            <a:off x="385560" y="1905120"/>
            <a:ext cx="3500640" cy="3690360"/>
            <a:chOff x="385560" y="1905120"/>
            <a:chExt cx="3500640" cy="3690360"/>
          </a:xfrm>
        </p:grpSpPr>
        <p:sp>
          <p:nvSpPr>
            <p:cNvPr id="267" name="Rectangle 7"/>
            <p:cNvSpPr/>
            <p:nvPr/>
          </p:nvSpPr>
          <p:spPr>
            <a:xfrm>
              <a:off x="465480" y="1905120"/>
              <a:ext cx="1636200" cy="45972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Inhaled Ai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8"/>
            <p:cNvSpPr/>
            <p:nvPr/>
          </p:nvSpPr>
          <p:spPr>
            <a:xfrm>
              <a:off x="385560" y="4038480"/>
              <a:ext cx="3262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Nitrogen (78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xygen (20.71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arbon Dioxide (0.1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9"/>
            <p:cNvSpPr/>
            <p:nvPr/>
          </p:nvSpPr>
          <p:spPr>
            <a:xfrm>
              <a:off x="2666880" y="4191120"/>
              <a:ext cx="228600" cy="1522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0"/>
            <p:cNvSpPr/>
            <p:nvPr/>
          </p:nvSpPr>
          <p:spPr>
            <a:xfrm>
              <a:off x="2971800" y="4572000"/>
              <a:ext cx="22860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1"/>
            <p:cNvSpPr/>
            <p:nvPr/>
          </p:nvSpPr>
          <p:spPr>
            <a:xfrm>
              <a:off x="3657600" y="4952880"/>
              <a:ext cx="22860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2" name="Picture 12" descr="pie chart 1"/>
            <p:cNvPicPr/>
            <p:nvPr/>
          </p:nvPicPr>
          <p:blipFill>
            <a:blip r:embed="rId1"/>
            <a:stretch/>
          </p:blipFill>
          <p:spPr>
            <a:xfrm>
              <a:off x="457200" y="2438280"/>
              <a:ext cx="28954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Rectangle 13"/>
            <p:cNvSpPr/>
            <p:nvPr/>
          </p:nvSpPr>
          <p:spPr>
            <a:xfrm>
              <a:off x="1371600" y="533412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Group 14"/>
          <p:cNvGrpSpPr/>
          <p:nvPr/>
        </p:nvGrpSpPr>
        <p:grpSpPr>
          <a:xfrm>
            <a:off x="4805640" y="1905120"/>
            <a:ext cx="3195360" cy="3690360"/>
            <a:chOff x="4805640" y="1905120"/>
            <a:chExt cx="3195360" cy="3690360"/>
          </a:xfrm>
        </p:grpSpPr>
        <p:sp>
          <p:nvSpPr>
            <p:cNvPr id="275" name="Rectangle 15"/>
            <p:cNvSpPr/>
            <p:nvPr/>
          </p:nvSpPr>
          <p:spPr>
            <a:xfrm>
              <a:off x="4885560" y="1905120"/>
              <a:ext cx="1736640" cy="4597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Exhaled Ai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16"/>
            <p:cNvSpPr/>
            <p:nvPr/>
          </p:nvSpPr>
          <p:spPr>
            <a:xfrm>
              <a:off x="4805640" y="4038480"/>
              <a:ext cx="3007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Nitrogen (75.5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xygen (14.6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arbon Dioxide (4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17"/>
            <p:cNvSpPr/>
            <p:nvPr/>
          </p:nvSpPr>
          <p:spPr>
            <a:xfrm>
              <a:off x="7315200" y="4191120"/>
              <a:ext cx="228600" cy="1522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18"/>
            <p:cNvSpPr/>
            <p:nvPr/>
          </p:nvSpPr>
          <p:spPr>
            <a:xfrm>
              <a:off x="7319880" y="4572000"/>
              <a:ext cx="22860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19"/>
            <p:cNvSpPr/>
            <p:nvPr/>
          </p:nvSpPr>
          <p:spPr>
            <a:xfrm>
              <a:off x="7772400" y="4952880"/>
              <a:ext cx="22860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0"/>
            <p:cNvSpPr/>
            <p:nvPr/>
          </p:nvSpPr>
          <p:spPr>
            <a:xfrm>
              <a:off x="5791320" y="533412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1" name="Picture 21" descr="pie chart 2"/>
            <p:cNvPicPr/>
            <p:nvPr/>
          </p:nvPicPr>
          <p:blipFill>
            <a:blip r:embed="rId2"/>
            <a:stretch/>
          </p:blipFill>
          <p:spPr>
            <a:xfrm>
              <a:off x="4876920" y="2438280"/>
              <a:ext cx="2895480" cy="158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Lets take a closer look (avi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respiratory systemmp4.AVI" descr=""/>
          <p:cNvPicPr/>
          <p:nvPr/>
        </p:nvPicPr>
        <p:blipFill>
          <a:blip r:embed="rId1"/>
          <a:stretch/>
        </p:blipFill>
        <p:spPr>
          <a:xfrm>
            <a:off x="1042920" y="1644480"/>
            <a:ext cx="6553440" cy="480564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Backup of as wmv fil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7" name="respiratory systemmp4.WMV" descr=""/>
          <p:cNvPicPr/>
          <p:nvPr/>
        </p:nvPicPr>
        <p:blipFill>
          <a:blip r:embed="rId1"/>
          <a:stretch/>
        </p:blipFill>
        <p:spPr>
          <a:xfrm>
            <a:off x="1332000" y="1442880"/>
            <a:ext cx="6264360" cy="501192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v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0" name="lungs and breathing.AVI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192720" cy="4645080"/>
          </a:xfrm>
          <a:prstGeom prst="rect">
            <a:avLst/>
          </a:prstGeom>
          <a:ln w="0">
            <a:noFill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m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3" name="lungs and breathing.WMV" descr=""/>
          <p:cNvPicPr/>
          <p:nvPr/>
        </p:nvPicPr>
        <p:blipFill>
          <a:blip r:embed="rId1"/>
          <a:stretch/>
        </p:blipFill>
        <p:spPr>
          <a:xfrm>
            <a:off x="1116000" y="1324080"/>
            <a:ext cx="6840720" cy="513072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ask 1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th a partn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 A – explain the process of breathing in and what gases ex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 B – explain the process of breathing out and what gases ex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 prepared to share your answers with the cl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ask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bel diagram of lungs and indicate where oxygen and carbon dioxide exchange in the lu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len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bjectives &amp; Outco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he Respiratory Syst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as exchange happens in the lu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have 2 lungs, situated in your upper thorax / ch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ere, oxygen and carbon dioxide are exchanged – oxygen is needed for life and carbon dioxide is got rid of when we breathe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How do we breath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uth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ndpipe/trachea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onchi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onchioles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veoli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lungs5c"/>
          <p:cNvPicPr/>
          <p:nvPr/>
        </p:nvPicPr>
        <p:blipFill>
          <a:blip r:embed="rId1"/>
          <a:stretch/>
        </p:blipFill>
        <p:spPr>
          <a:xfrm>
            <a:off x="3924360" y="1341360"/>
            <a:ext cx="4776840" cy="529128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0" y="0"/>
            <a:ext cx="205740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  <a:ea typeface="Times New Roman"/>
              </a:rPr>
              <a:t>Inha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443320" y="380880"/>
            <a:ext cx="4464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  <a:ea typeface="Times New Roman"/>
              </a:rPr>
              <a:t>(When we breathe in we inh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" name="ShockwaveFlash1"/>
          <p:cNvGraphicFramePr/>
          <p:nvPr/>
        </p:nvGraphicFramePr>
        <p:xfrm>
          <a:off x="838080" y="1066680"/>
          <a:ext cx="739008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066680"/>
                    <a:ext cx="7390080" cy="54864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266688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  <a:ea typeface="Times New Roman"/>
              </a:rPr>
              <a:t>Exha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2061000" y="609480"/>
            <a:ext cx="47376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  <a:ea typeface="Times New Roman"/>
              </a:rPr>
              <a:t>(When we breathe out we exh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ShockwaveFlash1"/>
          <p:cNvGraphicFramePr/>
          <p:nvPr/>
        </p:nvGraphicFramePr>
        <p:xfrm>
          <a:off x="914400" y="1143000"/>
          <a:ext cx="7315200" cy="54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143000"/>
                    <a:ext cx="7315200" cy="54100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Exchanging ga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5" descr="lungs"/>
          <p:cNvPicPr/>
          <p:nvPr/>
        </p:nvPicPr>
        <p:blipFill>
          <a:blip r:embed="rId1"/>
          <a:stretch/>
        </p:blipFill>
        <p:spPr>
          <a:xfrm>
            <a:off x="179280" y="1484280"/>
            <a:ext cx="4337280" cy="4608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3D_Model_Anat_Alveoli2_web"/>
          <p:cNvPicPr/>
          <p:nvPr/>
        </p:nvPicPr>
        <p:blipFill>
          <a:blip r:embed="rId2"/>
          <a:stretch/>
        </p:blipFill>
        <p:spPr>
          <a:xfrm>
            <a:off x="4500720" y="1484280"/>
            <a:ext cx="4464000" cy="46814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0" y="0"/>
            <a:ext cx="2590920" cy="520560"/>
          </a:xfrm>
          <a:prstGeom prst="rect">
            <a:avLst/>
          </a:prstGeom>
          <a:solidFill>
            <a:srgbClr val="800080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</a:rPr>
              <a:t>The Alveo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914400" y="580716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utside of the alveoli is covered with tiny blood vess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066680" y="77796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</a:rPr>
              <a:t>Oxygen makes its way into thousands of special air sacs collectively called the ALVEOL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ShockwaveFlash1"/>
          <p:cNvGraphicFramePr/>
          <p:nvPr/>
        </p:nvGraphicFramePr>
        <p:xfrm>
          <a:off x="990720" y="1600200"/>
          <a:ext cx="7162560" cy="40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600200"/>
                    <a:ext cx="7162560" cy="40384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0" y="0"/>
            <a:ext cx="2819520" cy="520560"/>
          </a:xfrm>
          <a:prstGeom prst="rect">
            <a:avLst/>
          </a:prstGeom>
          <a:solidFill>
            <a:srgbClr val="800080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</a:rPr>
              <a:t>The Alveo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380880" y="685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of these alveoli is called the ALVEOLU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where the oxygen is transferred into the blood and carbon dioxide moves out of the bl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4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6"/>
          <p:cNvSpPr/>
          <p:nvPr/>
        </p:nvSpPr>
        <p:spPr>
          <a:xfrm>
            <a:off x="380880" y="2362320"/>
            <a:ext cx="2438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all these alveoli flattened and spread out onto the floor, they would cover an area the size of a tennis cour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0" name="ShockwaveFlash1"/>
          <p:cNvGraphicFramePr/>
          <p:nvPr/>
        </p:nvGraphicFramePr>
        <p:xfrm>
          <a:off x="2819520" y="1905120"/>
          <a:ext cx="5715000" cy="43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905120"/>
                    <a:ext cx="5715000" cy="43434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8:21:04Z</dcterms:created>
  <dc:creator>Tony Blakie</dc:creator>
  <dc:description/>
  <dc:language>en-US</dc:language>
  <cp:lastModifiedBy>LEGION2</cp:lastModifiedBy>
  <dcterms:modified xsi:type="dcterms:W3CDTF">2016-01-13T13:38:47Z</dcterms:modified>
  <cp:revision>8</cp:revision>
  <dc:subject/>
  <dc:title>Being Healthy- Breathing and the lungs</dc:title>
</cp:coreProperties>
</file>