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A5D2-F1E0-41D9-9D34-BCAE3D196F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731-08A6-482E-A3A3-350BE90E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66F-43CC-460F-8858-4F24C0D0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88D-3F88-4F8A-AD2C-C06B596A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24A-BFE9-4627-A557-B00D5324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7914-DA87-40AC-AD64-969B0E70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1230-DB77-4A36-82A7-54BAC978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B1FC-100B-4541-9D09-C352E286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D35A-E137-4C2E-ADE5-6A74DBFA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C9F4-CFF9-4FB2-B52E-43E02D67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5DA8-F75B-4D94-BFE4-F812D763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0D20-A273-455C-A817-81A1D40D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4B1-5170-48DD-BDEF-6477FD95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6482-0D06-4185-AB71-9A372D1D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C261-2C64-4ADD-BC2D-1E204897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7AA9-3860-4A98-A9AD-60EBBF0F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F3BA-A9DC-4EF0-B105-861D49C3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4C0B-0363-4BC1-B1E7-F943CA9D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38E-F7AC-4950-8DCA-E12E7867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78B-1F07-4C20-8E3F-857C66DF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A17-7E22-4A21-9146-F87F3E0D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567-7DB5-4B7C-A211-5CADD954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B24-6E3E-48FE-85E5-BC57ABC5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DC3-D502-485A-AB71-ED04F981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5E1-D89A-4060-9648-6E4B8A0F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8EDA-DA49-424A-8456-89A8599C34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E96B-D886-4548-A86D-E44009A9127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Being Health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0"/>
            <a:ext cx="64771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0" y="747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800600" y="5700600"/>
            <a:ext cx="29718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6"/>
          <p:cNvGrpSpPr/>
          <p:nvPr/>
        </p:nvGrpSpPr>
        <p:grpSpPr>
          <a:xfrm>
            <a:off x="385560" y="1905120"/>
            <a:ext cx="3500640" cy="3690360"/>
            <a:chOff x="385560" y="1905120"/>
            <a:chExt cx="3500640" cy="3690360"/>
          </a:xfrm>
        </p:grpSpPr>
        <p:sp>
          <p:nvSpPr>
            <p:cNvPr id="267" name="Rectangle 7"/>
            <p:cNvSpPr/>
            <p:nvPr/>
          </p:nvSpPr>
          <p:spPr>
            <a:xfrm>
              <a:off x="465480" y="1905120"/>
              <a:ext cx="163620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In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385560" y="4038480"/>
              <a:ext cx="32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8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20.7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0.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266688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297180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36576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2" name="Picture 12" descr="pie chart 1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2895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Rectangle 13"/>
            <p:cNvSpPr/>
            <p:nvPr/>
          </p:nvSpPr>
          <p:spPr>
            <a:xfrm>
              <a:off x="137160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14"/>
          <p:cNvGrpSpPr/>
          <p:nvPr/>
        </p:nvGrpSpPr>
        <p:grpSpPr>
          <a:xfrm>
            <a:off x="4805640" y="1905120"/>
            <a:ext cx="3195360" cy="3690360"/>
            <a:chOff x="4805640" y="1905120"/>
            <a:chExt cx="3195360" cy="3690360"/>
          </a:xfrm>
        </p:grpSpPr>
        <p:sp>
          <p:nvSpPr>
            <p:cNvPr id="275" name="Rectangle 15"/>
            <p:cNvSpPr/>
            <p:nvPr/>
          </p:nvSpPr>
          <p:spPr>
            <a:xfrm>
              <a:off x="4885560" y="1905120"/>
              <a:ext cx="173664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Ex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4805640" y="4038480"/>
              <a:ext cx="300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5.5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14.6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4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731520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8"/>
            <p:cNvSpPr/>
            <p:nvPr/>
          </p:nvSpPr>
          <p:spPr>
            <a:xfrm>
              <a:off x="731988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77724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0"/>
            <p:cNvSpPr/>
            <p:nvPr/>
          </p:nvSpPr>
          <p:spPr>
            <a:xfrm>
              <a:off x="579132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1" name="Picture 21" descr="pie chart 2"/>
            <p:cNvPicPr/>
            <p:nvPr/>
          </p:nvPicPr>
          <p:blipFill>
            <a:blip r:embed="rId2"/>
            <a:stretch/>
          </p:blipFill>
          <p:spPr>
            <a:xfrm>
              <a:off x="4876920" y="2438280"/>
              <a:ext cx="2895480" cy="158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Lets take a closer look (avi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respiratory systemmp4.AVI" descr=""/>
          <p:cNvPicPr/>
          <p:nvPr/>
        </p:nvPicPr>
        <p:blipFill>
          <a:blip r:embed="rId1"/>
          <a:stretch/>
        </p:blipFill>
        <p:spPr>
          <a:xfrm>
            <a:off x="1042920" y="1644480"/>
            <a:ext cx="6553440" cy="48056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Backup of as wmv fil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respiratory systemmp4.WMV" descr=""/>
          <p:cNvPicPr/>
          <p:nvPr/>
        </p:nvPicPr>
        <p:blipFill>
          <a:blip r:embed="rId1"/>
          <a:stretch/>
        </p:blipFill>
        <p:spPr>
          <a:xfrm>
            <a:off x="1332000" y="1442880"/>
            <a:ext cx="6264360" cy="5011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v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lungs and breathing.AVI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m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lungs and breathing.WMV" descr=""/>
          <p:cNvPicPr/>
          <p:nvPr/>
        </p:nvPicPr>
        <p:blipFill>
          <a:blip r:embed="rId1"/>
          <a:stretch/>
        </p:blipFill>
        <p:spPr>
          <a:xfrm>
            <a:off x="1116000" y="1324080"/>
            <a:ext cx="6840720" cy="513072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1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bjectives &amp;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Respiratory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ow do we breath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uth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pipe/trachea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ole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veol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lungs5c"/>
          <p:cNvPicPr/>
          <p:nvPr/>
        </p:nvPicPr>
        <p:blipFill>
          <a:blip r:embed="rId1"/>
          <a:stretch/>
        </p:blipFill>
        <p:spPr>
          <a:xfrm>
            <a:off x="3924360" y="1341360"/>
            <a:ext cx="4776840" cy="529128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0" y="0"/>
            <a:ext cx="20574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In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443320" y="380880"/>
            <a:ext cx="4464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in we in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ShockwaveFlash1"/>
          <p:cNvGraphicFramePr/>
          <p:nvPr/>
        </p:nvGraphicFramePr>
        <p:xfrm>
          <a:off x="838080" y="1066680"/>
          <a:ext cx="739008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7390080" cy="5486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26668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Ex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061000" y="609480"/>
            <a:ext cx="4737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out we ex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ShockwaveFlash1"/>
          <p:cNvGraphicFramePr/>
          <p:nvPr/>
        </p:nvGraphicFramePr>
        <p:xfrm>
          <a:off x="914400" y="1143000"/>
          <a:ext cx="73152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43000"/>
                    <a:ext cx="7315200" cy="54100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Exchanging ga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lungs"/>
          <p:cNvPicPr/>
          <p:nvPr/>
        </p:nvPicPr>
        <p:blipFill>
          <a:blip r:embed="rId1"/>
          <a:stretch/>
        </p:blipFill>
        <p:spPr>
          <a:xfrm>
            <a:off x="179280" y="1484280"/>
            <a:ext cx="4337280" cy="4608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3D_Model_Anat_Alveoli2_web"/>
          <p:cNvPicPr/>
          <p:nvPr/>
        </p:nvPicPr>
        <p:blipFill>
          <a:blip r:embed="rId2"/>
          <a:stretch/>
        </p:blipFill>
        <p:spPr>
          <a:xfrm>
            <a:off x="4500720" y="1484280"/>
            <a:ext cx="4464000" cy="46814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0"/>
            <a:ext cx="25909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914400" y="58071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066680" y="77796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990720" y="1600200"/>
          <a:ext cx="716256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162560" cy="4038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380880" y="2362320"/>
            <a:ext cx="2438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ShockwaveFlash1"/>
          <p:cNvGraphicFramePr/>
          <p:nvPr/>
        </p:nvGraphicFramePr>
        <p:xfrm>
          <a:off x="2819520" y="1905120"/>
          <a:ext cx="571500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905120"/>
                    <a:ext cx="5715000" cy="4343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8:21:04Z</dcterms:created>
  <dc:creator>Tony Blakie</dc:creator>
  <dc:description/>
  <dc:language>en-US</dc:language>
  <cp:lastModifiedBy>LEGION2</cp:lastModifiedBy>
  <dcterms:modified xsi:type="dcterms:W3CDTF">2016-01-13T13:38:47Z</dcterms:modified>
  <cp:revision>8</cp:revision>
  <dc:subject/>
  <dc:title>Being Healthy- Breathing and the lungs</dc:title>
</cp:coreProperties>
</file>