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20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12.jpeg" ContentType="image/jpeg"/>
  <Override PartName="/ppt/media/image34.png" ContentType="image/png"/>
  <Override PartName="/ppt/media/image11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BD2F-F9E8-4B1D-8BB8-2E83F8C27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 W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 J Wright, Durban Girls’ High School,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 W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 J Wright, Durban Girls’ High School,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al of H.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healing of the ulc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.M of H.pylori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mach w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al of H.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healing of the ulc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.M of H.pylori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mach w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ulcer is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causes excess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Cl by cells of the stomach lining. The stomach is trying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 the bacte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cess acid remo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ucus layer an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ch cells are then attacke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ing in an ul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inhibitors such as Tagamet now usually prescribed for relie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y have to be taken continu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ulcer is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causes excess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Cl by cells of the stomach lining. The stomach is trying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 the bacte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cess acid remo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ucus layer an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ch cells are then attacke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ing in an ul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inhibitors such as Tagamet now usually prescribed for relie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y have to be taken continu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kit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a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kit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a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 the urea sol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wing out into a test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 the urea sol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wing out into a test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breath test – gas chromatograph reads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breath test – gas chromatograph reads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test wo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a identified in exhaled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due to H. pylori convers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 into ammo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test wo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a identified in exhaled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due to H. pylori convers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 into ammo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that provide further proof of the connection between H pylori and ul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removed within 2 weeks after taking antibiotic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that provide further proof of the connection between H pylori and ul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removed within 2 weeks after taking antibiotic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ng their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ok: The Ease &amp; Difficulty of a New Discov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: Robin War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ng their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ok: The Ease &amp; Difficulty of a New Discov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: Robin War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ptance at la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ptance at la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 – an Ulc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: ulcer n. an open sore on an 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internal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 – an Ulc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: ulcer n. an open sore on an 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internal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el prize announced -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initial discover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1 until acknowled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cientific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2005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el prize announced -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initial discover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1 until acknowled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cientific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2005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i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ead by pov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own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i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ou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responsible for stomach cancer and heart disease. Re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and reduce the ris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ther finding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preven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i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ead by pov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own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i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ou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responsible for stomach cancer and heart disease. Re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and reduce the ris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ther finding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preven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s – found in the stomach lining, and though to be cau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stressful l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s – found in the stomach lining, and though to be cau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stressful l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 endoscope to view an ulcer and a tissue sample th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n to be analy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an ulcer in the stom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 endoscope to view an ulcer and a tissue sample th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n to be analy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an ulcer in the stom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- patholog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urious observation made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in the samp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o him to analy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bservations were investiga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Dr Marsh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- patholog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urious observation made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in the samp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o him to analy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bservations were investiga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Dr Marsh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 to p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lture of H. pylori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 to p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lture of H. pylori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Barry Marshall – 1981, Austra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Barry Marshall – 1981, Austra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e of 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ample was taken and view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months of trials and failur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unplanned long weekend in the incub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resul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e of 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ample was taken and view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months of trials and failur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unplanned long weekend in the incub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resul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llia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llia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EE90-B2C0-4554-BC87-F6EF09072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47FA-8C5F-40FB-AFE0-17E3B96A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4F30-A75A-4D42-9268-46DAC3DC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0475-9CA4-4445-A1D4-6D0BD2C53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1DB2-6CF7-42BF-80C0-7117E36D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46B5-97C9-4E97-9E1A-B4C24852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F3EF-00BA-48BF-B3A7-BB32896E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998D-97E4-43FC-A2B2-8552D407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DD42-CF04-42EB-9743-E8ED29C7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0E3B-D776-42B0-B13A-20F8E344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89F6-D60B-4D24-BF6D-1F4E50CF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9C09-E8C1-4B47-8497-B569D909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A1F7-C2FE-401C-B3C4-BF27611E1C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755640" y="907920"/>
            <a:ext cx="626436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lcer Wars!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24000" y="5753160"/>
            <a:ext cx="892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 J Wright, Durban Girls’ High School,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helicobacter"/>
          <p:cNvPicPr/>
          <p:nvPr/>
        </p:nvPicPr>
        <p:blipFill>
          <a:blip r:embed="rId1"/>
          <a:stretch/>
        </p:blipFill>
        <p:spPr>
          <a:xfrm>
            <a:off x="250920" y="2133720"/>
            <a:ext cx="4378320" cy="3508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9" name="Picture 7" descr="pylori_cartoon"/>
          <p:cNvPicPr/>
          <p:nvPr/>
        </p:nvPicPr>
        <p:blipFill>
          <a:blip r:embed="rId2"/>
          <a:stretch/>
        </p:blipFill>
        <p:spPr>
          <a:xfrm>
            <a:off x="5105520" y="2057400"/>
            <a:ext cx="3657600" cy="4133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0" name="Text Box 8"/>
          <p:cNvSpPr/>
          <p:nvPr/>
        </p:nvSpPr>
        <p:spPr>
          <a:xfrm>
            <a:off x="5919840" y="404640"/>
            <a:ext cx="2792520" cy="119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al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ealing of the ulc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447840" y="1166760"/>
            <a:ext cx="374148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ning E.M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omach wa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0" y="0"/>
            <a:ext cx="147636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Beil"/>
          <p:cNvPicPr/>
          <p:nvPr/>
        </p:nvPicPr>
        <p:blipFill>
          <a:blip r:embed="rId1"/>
          <a:stretch/>
        </p:blipFill>
        <p:spPr>
          <a:xfrm>
            <a:off x="468360" y="1125360"/>
            <a:ext cx="3771720" cy="266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5" name="Picture 6" descr="img"/>
          <p:cNvPicPr/>
          <p:nvPr/>
        </p:nvPicPr>
        <p:blipFill>
          <a:blip r:embed="rId2"/>
          <a:stretch/>
        </p:blipFill>
        <p:spPr>
          <a:xfrm>
            <a:off x="4859280" y="3573360"/>
            <a:ext cx="3429000" cy="215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6" name="Text Box 7"/>
          <p:cNvSpPr/>
          <p:nvPr/>
        </p:nvSpPr>
        <p:spPr>
          <a:xfrm>
            <a:off x="2987640" y="333360"/>
            <a:ext cx="32400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How the ulcer is 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4427640" y="1197000"/>
            <a:ext cx="4465440" cy="1557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uses excess prod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HCl by cells of the stomach lining. The stomach is trying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ll the bacter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395280" y="4221000"/>
            <a:ext cx="4105440" cy="1557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cess acid remo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ucus layer an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mach cells are then attack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ing in an ulc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0" y="5969160"/>
            <a:ext cx="921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id inhibitors such as Tagamet now usually prescribed for relie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 they have to be taken continu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auszug-2"/>
          <p:cNvPicPr/>
          <p:nvPr/>
        </p:nvPicPr>
        <p:blipFill>
          <a:blip r:embed="rId1"/>
          <a:stretch/>
        </p:blipFill>
        <p:spPr>
          <a:xfrm>
            <a:off x="3851280" y="333360"/>
            <a:ext cx="5040360" cy="2895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3" name="Picture 7" descr="img?s=MCO&amp;f=3599221_3363"/>
          <p:cNvPicPr/>
          <p:nvPr/>
        </p:nvPicPr>
        <p:blipFill>
          <a:blip r:embed="rId2"/>
          <a:stretch/>
        </p:blipFill>
        <p:spPr>
          <a:xfrm>
            <a:off x="1116000" y="3500280"/>
            <a:ext cx="361944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Text Box 9"/>
          <p:cNvSpPr/>
          <p:nvPr/>
        </p:nvSpPr>
        <p:spPr>
          <a:xfrm>
            <a:off x="735120" y="1484280"/>
            <a:ext cx="2732040" cy="119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kit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licobactera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too"/>
          <p:cNvPicPr/>
          <p:nvPr/>
        </p:nvPicPr>
        <p:blipFill>
          <a:blip r:embed="rId1"/>
          <a:stretch/>
        </p:blipFill>
        <p:spPr>
          <a:xfrm>
            <a:off x="395280" y="1341360"/>
            <a:ext cx="3429000" cy="3029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8" name="Picture 5" descr="girl"/>
          <p:cNvPicPr/>
          <p:nvPr/>
        </p:nvPicPr>
        <p:blipFill>
          <a:blip r:embed="rId2"/>
          <a:stretch/>
        </p:blipFill>
        <p:spPr>
          <a:xfrm>
            <a:off x="4716360" y="1700280"/>
            <a:ext cx="35434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6"/>
          <p:cNvSpPr/>
          <p:nvPr/>
        </p:nvSpPr>
        <p:spPr>
          <a:xfrm>
            <a:off x="372960" y="641520"/>
            <a:ext cx="34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nking the urea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4643280" y="10731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wing out into a test tu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Fanci2"/>
          <p:cNvPicPr/>
          <p:nvPr/>
        </p:nvPicPr>
        <p:blipFill>
          <a:blip r:embed="rId1"/>
          <a:stretch/>
        </p:blipFill>
        <p:spPr>
          <a:xfrm>
            <a:off x="2195640" y="1844640"/>
            <a:ext cx="611496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4" name="Text Box 6"/>
          <p:cNvSpPr/>
          <p:nvPr/>
        </p:nvSpPr>
        <p:spPr>
          <a:xfrm>
            <a:off x="1042920" y="1125360"/>
            <a:ext cx="75376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 breath test – gas chromatograph reads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-3240" y="250920"/>
            <a:ext cx="14796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ammo_urea_stom"/>
          <p:cNvPicPr/>
          <p:nvPr/>
        </p:nvPicPr>
        <p:blipFill>
          <a:blip r:embed="rId1"/>
          <a:stretch/>
        </p:blipFill>
        <p:spPr>
          <a:xfrm>
            <a:off x="755640" y="1628640"/>
            <a:ext cx="7561440" cy="4753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8"/>
          <p:cNvSpPr/>
          <p:nvPr/>
        </p:nvSpPr>
        <p:spPr>
          <a:xfrm>
            <a:off x="324000" y="836640"/>
            <a:ext cx="27352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the test wor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901680" y="425520"/>
            <a:ext cx="492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monia identified in exhaled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due t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nvers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rea into ammo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fig2"/>
          <p:cNvPicPr/>
          <p:nvPr/>
        </p:nvPicPr>
        <p:blipFill>
          <a:blip r:embed="rId1"/>
          <a:stretch/>
        </p:blipFill>
        <p:spPr>
          <a:xfrm>
            <a:off x="900000" y="1628640"/>
            <a:ext cx="7272360" cy="3816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3" name="Text Box 6"/>
          <p:cNvSpPr/>
          <p:nvPr/>
        </p:nvSpPr>
        <p:spPr>
          <a:xfrm>
            <a:off x="1619280" y="692280"/>
            <a:ext cx="685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 that provide further proof of the connection betwe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 pylor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ulc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250920" y="566100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 pylor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removed within 2 weeks after taking antibiotic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DrW_2"/>
          <p:cNvPicPr/>
          <p:nvPr/>
        </p:nvPicPr>
        <p:blipFill>
          <a:blip r:embed="rId1"/>
          <a:stretch/>
        </p:blipFill>
        <p:spPr>
          <a:xfrm>
            <a:off x="4788000" y="3645000"/>
            <a:ext cx="325728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8" name="Picture 6" descr="DrW_3"/>
          <p:cNvPicPr/>
          <p:nvPr/>
        </p:nvPicPr>
        <p:blipFill>
          <a:blip r:embed="rId2"/>
          <a:stretch/>
        </p:blipFill>
        <p:spPr>
          <a:xfrm>
            <a:off x="1187280" y="1557360"/>
            <a:ext cx="325764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9" name="Text Box 8"/>
          <p:cNvSpPr/>
          <p:nvPr/>
        </p:nvSpPr>
        <p:spPr>
          <a:xfrm>
            <a:off x="2195640" y="549360"/>
            <a:ext cx="4824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ng their fi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5850000" y="1865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0" y="0"/>
            <a:ext cx="15476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324000" y="4437000"/>
            <a:ext cx="3384360" cy="1747440"/>
          </a:xfrm>
          <a:prstGeom prst="rect">
            <a:avLst/>
          </a:prstGeom>
          <a:solidFill>
            <a:srgbClr val="ccff3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Ease &amp; Difficulty of a New Discove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: Robin War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helicobacter_eng"/>
          <p:cNvPicPr/>
          <p:nvPr/>
        </p:nvPicPr>
        <p:blipFill>
          <a:blip r:embed="rId1"/>
          <a:stretch/>
        </p:blipFill>
        <p:spPr>
          <a:xfrm>
            <a:off x="3995640" y="333360"/>
            <a:ext cx="4608720" cy="5975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5" name="Rectangle 5"/>
          <p:cNvSpPr/>
          <p:nvPr/>
        </p:nvSpPr>
        <p:spPr>
          <a:xfrm>
            <a:off x="250920" y="119232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ceptance at las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6" descr="1592489362"/>
          <p:cNvPicPr/>
          <p:nvPr/>
        </p:nvPicPr>
        <p:blipFill>
          <a:blip r:embed="rId2"/>
          <a:stretch/>
        </p:blipFill>
        <p:spPr>
          <a:xfrm>
            <a:off x="755640" y="2349360"/>
            <a:ext cx="2743200" cy="2743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7" name="Text Box 7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imagenrara2"/>
          <p:cNvPicPr/>
          <p:nvPr/>
        </p:nvPicPr>
        <p:blipFill>
          <a:blip r:embed="rId1"/>
          <a:stretch/>
        </p:blipFill>
        <p:spPr>
          <a:xfrm>
            <a:off x="1908000" y="836640"/>
            <a:ext cx="6448680" cy="5321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0" name="Text Box 8"/>
          <p:cNvSpPr/>
          <p:nvPr/>
        </p:nvSpPr>
        <p:spPr>
          <a:xfrm>
            <a:off x="0" y="26028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265px-Editedgulcer"/>
          <p:cNvPicPr/>
          <p:nvPr/>
        </p:nvPicPr>
        <p:blipFill>
          <a:blip r:embed="rId1"/>
          <a:stretch/>
        </p:blipFill>
        <p:spPr>
          <a:xfrm>
            <a:off x="1258920" y="1844640"/>
            <a:ext cx="6618240" cy="468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2" name="Text Box 5"/>
          <p:cNvSpPr/>
          <p:nvPr/>
        </p:nvSpPr>
        <p:spPr>
          <a:xfrm>
            <a:off x="2539440" y="230040"/>
            <a:ext cx="39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roblem – an Ulc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187280" y="1001880"/>
            <a:ext cx="66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ulc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pen sore on an ex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internal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9640" y="0"/>
            <a:ext cx="1224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7" descr="797-2"/>
          <p:cNvPicPr/>
          <p:nvPr/>
        </p:nvPicPr>
        <p:blipFill>
          <a:blip r:embed="rId1"/>
          <a:stretch/>
        </p:blipFill>
        <p:spPr>
          <a:xfrm>
            <a:off x="5435640" y="2924280"/>
            <a:ext cx="3352680" cy="3200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3" name="Picture 11" descr="LHA20051004213522_1_TN"/>
          <p:cNvPicPr/>
          <p:nvPr/>
        </p:nvPicPr>
        <p:blipFill>
          <a:blip r:embed="rId2"/>
          <a:stretch/>
        </p:blipFill>
        <p:spPr>
          <a:xfrm>
            <a:off x="1258920" y="1125360"/>
            <a:ext cx="37339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4" name="Text Box 12"/>
          <p:cNvSpPr/>
          <p:nvPr/>
        </p:nvSpPr>
        <p:spPr>
          <a:xfrm>
            <a:off x="1908000" y="476280"/>
            <a:ext cx="45356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Times New Roman"/>
              </a:rPr>
              <a:t>Nobel prize announced -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250920" y="4149720"/>
            <a:ext cx="453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initial discovery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81 until acknowled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y the scientific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2005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gastro05"/>
          <p:cNvPicPr/>
          <p:nvPr/>
        </p:nvPicPr>
        <p:blipFill>
          <a:blip r:embed="rId1"/>
          <a:stretch/>
        </p:blipFill>
        <p:spPr>
          <a:xfrm>
            <a:off x="3276720" y="1197000"/>
            <a:ext cx="1714320" cy="1727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9" name="Text Box 6"/>
          <p:cNvSpPr/>
          <p:nvPr/>
        </p:nvSpPr>
        <p:spPr>
          <a:xfrm>
            <a:off x="1835280" y="476280"/>
            <a:ext cx="33112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 in the b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8" descr="Graph"/>
          <p:cNvPicPr/>
          <p:nvPr/>
        </p:nvPicPr>
        <p:blipFill>
          <a:blip r:embed="rId2"/>
          <a:stretch/>
        </p:blipFill>
        <p:spPr>
          <a:xfrm>
            <a:off x="3124080" y="3200400"/>
            <a:ext cx="5668920" cy="331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61" name="Picture 10" descr="1_listing"/>
          <p:cNvPicPr/>
          <p:nvPr/>
        </p:nvPicPr>
        <p:blipFill>
          <a:blip r:embed="rId3"/>
          <a:stretch/>
        </p:blipFill>
        <p:spPr>
          <a:xfrm>
            <a:off x="324000" y="1125360"/>
            <a:ext cx="2057400" cy="1828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2" name="Text Box 12"/>
          <p:cNvSpPr/>
          <p:nvPr/>
        </p:nvSpPr>
        <p:spPr>
          <a:xfrm>
            <a:off x="303120" y="3068640"/>
            <a:ext cx="241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ead by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own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i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6856560" y="641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5724360" y="333360"/>
            <a:ext cx="31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th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responsible for stomach cancer and heart disease. 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 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reduce the ris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15" descr="image20"/>
          <p:cNvPicPr/>
          <p:nvPr/>
        </p:nvPicPr>
        <p:blipFill>
          <a:blip r:embed="rId4"/>
          <a:stretch/>
        </p:blipFill>
        <p:spPr>
          <a:xfrm>
            <a:off x="395280" y="4724280"/>
            <a:ext cx="1782720" cy="188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6" name="Text Box 16"/>
          <p:cNvSpPr/>
          <p:nvPr/>
        </p:nvSpPr>
        <p:spPr>
          <a:xfrm>
            <a:off x="1908000" y="-64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rther finding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250920" y="4168800"/>
            <a:ext cx="27255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ple preven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6"/>
          <p:cNvSpPr/>
          <p:nvPr/>
        </p:nvSpPr>
        <p:spPr>
          <a:xfrm>
            <a:off x="743400" y="193680"/>
            <a:ext cx="781884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Ulcers – found in the stomach lining, and though to be cau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by stressful li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0" descr="gastrexm"/>
          <p:cNvPicPr/>
          <p:nvPr/>
        </p:nvPicPr>
        <p:blipFill>
          <a:blip r:embed="rId1"/>
          <a:stretch/>
        </p:blipFill>
        <p:spPr>
          <a:xfrm>
            <a:off x="2195640" y="1413000"/>
            <a:ext cx="3889080" cy="468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8" name="Text Box 11"/>
          <p:cNvSpPr/>
          <p:nvPr/>
        </p:nvSpPr>
        <p:spPr>
          <a:xfrm>
            <a:off x="611280" y="1125360"/>
            <a:ext cx="1224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265px-Editedgulcer"/>
          <p:cNvPicPr/>
          <p:nvPr/>
        </p:nvPicPr>
        <p:blipFill>
          <a:blip r:embed="rId1"/>
          <a:stretch/>
        </p:blipFill>
        <p:spPr>
          <a:xfrm>
            <a:off x="5940360" y="3573360"/>
            <a:ext cx="2801880" cy="2430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" name="Text Box 6"/>
          <p:cNvSpPr/>
          <p:nvPr/>
        </p:nvSpPr>
        <p:spPr>
          <a:xfrm>
            <a:off x="1197720" y="117360"/>
            <a:ext cx="779328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Using an endoscope to view an ulcer and a tissue sample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taken to be analy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" descr="imagen_videoendoscopia"/>
          <p:cNvPicPr/>
          <p:nvPr/>
        </p:nvPicPr>
        <p:blipFill>
          <a:blip r:embed="rId2"/>
          <a:stretch/>
        </p:blipFill>
        <p:spPr>
          <a:xfrm>
            <a:off x="0" y="692280"/>
            <a:ext cx="5580000" cy="5761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Text Box 12"/>
          <p:cNvSpPr/>
          <p:nvPr/>
        </p:nvSpPr>
        <p:spPr>
          <a:xfrm>
            <a:off x="6012000" y="2297160"/>
            <a:ext cx="304956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 of an ulcer in the stom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berg"/>
          <p:cNvPicPr/>
          <p:nvPr/>
        </p:nvPicPr>
        <p:blipFill>
          <a:blip r:embed="rId1"/>
          <a:stretch/>
        </p:blipFill>
        <p:spPr>
          <a:xfrm>
            <a:off x="1979640" y="476280"/>
            <a:ext cx="1600200" cy="2103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7" name="Text Box 6"/>
          <p:cNvSpPr/>
          <p:nvPr/>
        </p:nvSpPr>
        <p:spPr>
          <a:xfrm>
            <a:off x="3924360" y="422280"/>
            <a:ext cx="41036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Dr Robin Warren - path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7" descr="mar1-013"/>
          <p:cNvPicPr/>
          <p:nvPr/>
        </p:nvPicPr>
        <p:blipFill>
          <a:blip r:embed="rId2"/>
          <a:stretch/>
        </p:blipFill>
        <p:spPr>
          <a:xfrm>
            <a:off x="4211640" y="1557360"/>
            <a:ext cx="4343400" cy="2517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Text Box 12"/>
          <p:cNvSpPr/>
          <p:nvPr/>
        </p:nvSpPr>
        <p:spPr>
          <a:xfrm rot="20111400">
            <a:off x="468000" y="3860640"/>
            <a:ext cx="20160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Team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970440" y="4313160"/>
            <a:ext cx="4827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urious observation made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 Robin Warren in the samp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o him to analy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observations were investig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Dr Marsh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250920" y="333360"/>
            <a:ext cx="12967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warren"/>
          <p:cNvPicPr/>
          <p:nvPr/>
        </p:nvPicPr>
        <p:blipFill>
          <a:blip r:embed="rId1"/>
          <a:stretch/>
        </p:blipFill>
        <p:spPr>
          <a:xfrm>
            <a:off x="468360" y="1268280"/>
            <a:ext cx="4032360" cy="27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4" name="Picture 5" descr="Adu-Wusu"/>
          <p:cNvPicPr/>
          <p:nvPr/>
        </p:nvPicPr>
        <p:blipFill>
          <a:blip r:embed="rId2"/>
          <a:stretch/>
        </p:blipFill>
        <p:spPr>
          <a:xfrm>
            <a:off x="4859280" y="3716280"/>
            <a:ext cx="3889440" cy="2960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Text Box 6"/>
          <p:cNvSpPr/>
          <p:nvPr/>
        </p:nvSpPr>
        <p:spPr>
          <a:xfrm>
            <a:off x="5415840" y="1865160"/>
            <a:ext cx="29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laborat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 work to p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ltur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395280" y="260280"/>
            <a:ext cx="15127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bjmswan1"/>
          <p:cNvPicPr/>
          <p:nvPr/>
        </p:nvPicPr>
        <p:blipFill>
          <a:blip r:embed="rId1"/>
          <a:stretch/>
        </p:blipFill>
        <p:spPr>
          <a:xfrm>
            <a:off x="1692360" y="1628640"/>
            <a:ext cx="5018040" cy="331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9" name="Text Box 6"/>
          <p:cNvSpPr/>
          <p:nvPr/>
        </p:nvSpPr>
        <p:spPr>
          <a:xfrm>
            <a:off x="1258920" y="727200"/>
            <a:ext cx="54738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Dr Barry Marshall – 1981, 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Diagnosis%20Culture"/>
          <p:cNvPicPr/>
          <p:nvPr/>
        </p:nvPicPr>
        <p:blipFill>
          <a:blip r:embed="rId1"/>
          <a:stretch/>
        </p:blipFill>
        <p:spPr>
          <a:xfrm>
            <a:off x="755640" y="1628640"/>
            <a:ext cx="5029200" cy="3382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6"/>
          <p:cNvSpPr/>
          <p:nvPr/>
        </p:nvSpPr>
        <p:spPr>
          <a:xfrm>
            <a:off x="1258920" y="876240"/>
            <a:ext cx="4249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ulture of </a:t>
            </a:r>
            <a:r>
              <a:rPr b="0" i="1" lang="en-ZA" sz="24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5867280" y="2205000"/>
            <a:ext cx="2808360" cy="119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ample was taken and viewed unde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 Micr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1095480" y="5157720"/>
            <a:ext cx="557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months of trials and failur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unplanned long weekend in the incub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d a resul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pylori1b"/>
          <p:cNvPicPr/>
          <p:nvPr/>
        </p:nvPicPr>
        <p:blipFill>
          <a:blip r:embed="rId1"/>
          <a:stretch/>
        </p:blipFill>
        <p:spPr>
          <a:xfrm>
            <a:off x="1476360" y="333360"/>
            <a:ext cx="432108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9" name="Picture 7" descr="ulcer40x40"/>
          <p:cNvPicPr/>
          <p:nvPr/>
        </p:nvPicPr>
        <p:blipFill>
          <a:blip r:embed="rId2"/>
          <a:stretch/>
        </p:blipFill>
        <p:spPr>
          <a:xfrm>
            <a:off x="5029200" y="2971800"/>
            <a:ext cx="3657600" cy="358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Text Box 10"/>
          <p:cNvSpPr/>
          <p:nvPr/>
        </p:nvSpPr>
        <p:spPr>
          <a:xfrm>
            <a:off x="6012000" y="126828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5776200" y="158760"/>
            <a:ext cx="193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villia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2" descr="photonics"/>
          <p:cNvPicPr/>
          <p:nvPr/>
        </p:nvPicPr>
        <p:blipFill>
          <a:blip r:embed="rId3"/>
          <a:stretch/>
        </p:blipFill>
        <p:spPr>
          <a:xfrm>
            <a:off x="611280" y="3213000"/>
            <a:ext cx="2286000" cy="3246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Text Box 14"/>
          <p:cNvSpPr/>
          <p:nvPr/>
        </p:nvSpPr>
        <p:spPr>
          <a:xfrm>
            <a:off x="1692360" y="404640"/>
            <a:ext cx="576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3127680" y="3110040"/>
            <a:ext cx="4168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8"/>
          <p:cNvSpPr/>
          <p:nvPr/>
        </p:nvSpPr>
        <p:spPr>
          <a:xfrm>
            <a:off x="5433120" y="3038400"/>
            <a:ext cx="43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09:50:52Z</dcterms:created>
  <dc:creator>Wright</dc:creator>
  <dc:description/>
  <dc:language>en-US</dc:language>
  <cp:lastModifiedBy>LEGION2</cp:lastModifiedBy>
  <dcterms:modified xsi:type="dcterms:W3CDTF">2016-01-13T13:35:46Z</dcterms:modified>
  <cp:revision>7</cp:revision>
  <dc:subject/>
  <dc:title>PowerPoint Presentation</dc:title>
</cp:coreProperties>
</file>