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BE6B-7F6D-45E7-9F5B-AACEB58C6C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psin (prot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psin (prot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glucose later by other am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glucose later by other am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amino acids later by other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amino acids later by other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is a large carbohydrat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made up of smaller units calle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made up of one or more glucose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molecules can be broken down by 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important for the growth and repai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is a large carbohydrat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made up of smaller units calle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made up of one or more glucose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molecules can be broken down by 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important for the growth and repai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the tube within the body through which food passes and is processed in various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the tube within the body through which food passes and is processed in various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is mixed with food during che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ssist the mechanical breakdow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the enzyme amylase which starts the digestio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mucus that keeps the mouth moist and lubricates food for easier swall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is mixed with food during che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ssist the mechanical breakdow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the enzyme amylase which starts the digestio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mucus that keeps the mouth moist and lubricates food for easier swall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7F2-ED77-4CC6-8AA3-998600D9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1EC-9E3E-4841-B2EB-DF27F9C8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810C-4E68-427B-9CF3-1C137A2C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7297-849B-4225-BF0D-07580772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3CB0-89A2-47D1-8933-427392A7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E83F-E8B2-4A7F-93E5-BA433CAD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D683-C9DA-4B26-93BD-6FDAE482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086B-65E9-404C-98C3-F571DD60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1174-1AF7-4458-8A63-0F95A43E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3208-5F27-439F-8245-21A6BEC2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1E4B-07B4-4FE4-8302-095798CB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F414-AE86-42D5-BA77-FF89FEE2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7706-8A51-4051-AA8C-9E8FF2273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1992-11-23"/>
          <p:cNvPicPr/>
          <p:nvPr/>
        </p:nvPicPr>
        <p:blipFill>
          <a:blip r:embed="rId1"/>
          <a:srcRect l="0" t="5114" r="0" b="5114"/>
          <a:stretch/>
        </p:blipFill>
        <p:spPr>
          <a:xfrm>
            <a:off x="2700360" y="2637000"/>
            <a:ext cx="3525840" cy="4221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2" descr="Human-Digestive-System-Picture"/>
          <p:cNvPicPr/>
          <p:nvPr/>
        </p:nvPicPr>
        <p:blipFill>
          <a:blip r:embed="rId1"/>
          <a:stretch/>
        </p:blipFill>
        <p:spPr>
          <a:xfrm>
            <a:off x="1760400" y="765000"/>
            <a:ext cx="3621240" cy="6093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788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042920" y="4653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859280" y="342900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STR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70036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2987640" y="4869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NTESTINAL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600200"/>
          <a:ext cx="8229600" cy="5332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of digestive juice 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digestive juice produ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m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ric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e (breaks down big fat droplets into little fat dropl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cre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creatic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Intest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stinal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Human-Digestive-System-Picture"/>
          <p:cNvPicPr/>
          <p:nvPr/>
        </p:nvPicPr>
        <p:blipFill>
          <a:blip r:embed="rId1"/>
          <a:stretch/>
        </p:blipFill>
        <p:spPr>
          <a:xfrm>
            <a:off x="1760400" y="765000"/>
            <a:ext cx="3621240" cy="6093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788000" y="1844640"/>
            <a:ext cx="158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ry amy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042920" y="4653000"/>
            <a:ext cx="216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lip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859280" y="3429000"/>
            <a:ext cx="2233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STR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epsin (protease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70036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987640" y="4869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NTESTINAL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ken down into glucos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y other amyl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1908000" y="2492280"/>
            <a:ext cx="295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050920" y="1916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ry amy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mouth-open-huge307x379"/>
          <p:cNvPicPr/>
          <p:nvPr/>
        </p:nvPicPr>
        <p:blipFill>
          <a:blip r:embed="rId1"/>
          <a:stretch/>
        </p:blipFill>
        <p:spPr>
          <a:xfrm>
            <a:off x="6775560" y="0"/>
            <a:ext cx="2368440" cy="29242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ken down into amino acid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y other prot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1979640" y="3141720"/>
            <a:ext cx="295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68360" y="2565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ep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stomach"/>
          <p:cNvPicPr/>
          <p:nvPr/>
        </p:nvPicPr>
        <p:blipFill>
          <a:blip r:embed="rId1"/>
          <a:stretch/>
        </p:blipFill>
        <p:spPr>
          <a:xfrm>
            <a:off x="6276960" y="0"/>
            <a:ext cx="2867040" cy="23907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403280" y="3141720"/>
            <a:ext cx="259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403280" y="2565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lip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50312108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1971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68360" y="1989000"/>
            <a:ext cx="2736720" cy="146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66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635280" y="3284640"/>
            <a:ext cx="27370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Starch is a large carbohydrate 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580000" y="1989000"/>
            <a:ext cx="2737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Fats are made up of smaller units called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95280" y="4149720"/>
            <a:ext cx="2736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oteins are made up of one or more glucose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5651640" y="4581360"/>
            <a:ext cx="2736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Starch molecules can be broken down by amyl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908000" y="5516640"/>
            <a:ext cx="2737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Proteins are important for the growth and repair of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alimentary canal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(or gut) is the tube within the body through which food passes and is processed in various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CDA40_1"/>
          <p:cNvPicPr/>
          <p:nvPr/>
        </p:nvPicPr>
        <p:blipFill>
          <a:blip r:embed="rId1"/>
          <a:stretch/>
        </p:blipFill>
        <p:spPr>
          <a:xfrm>
            <a:off x="1547640" y="0"/>
            <a:ext cx="67676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Line 6"/>
          <p:cNvSpPr/>
          <p:nvPr/>
        </p:nvSpPr>
        <p:spPr>
          <a:xfrm flipV="1">
            <a:off x="3059280" y="1557000"/>
            <a:ext cx="144144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2771640" y="981000"/>
            <a:ext cx="13701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 flipV="1">
            <a:off x="2771640" y="2637000"/>
            <a:ext cx="201780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 flipV="1">
            <a:off x="2556000" y="3789360"/>
            <a:ext cx="1512720" cy="7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3132000" y="4292640"/>
            <a:ext cx="144144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 flipV="1">
            <a:off x="2627280" y="4076280"/>
            <a:ext cx="252108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V="1">
            <a:off x="3348000" y="4723920"/>
            <a:ext cx="14414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V="1">
            <a:off x="3419640" y="5300280"/>
            <a:ext cx="14414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V="1">
            <a:off x="3419640" y="6237360"/>
            <a:ext cx="144144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1835280" y="5493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1187280" y="191628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alivary g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1332000" y="2708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esopha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1763640" y="364500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1476360" y="4221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om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2050920" y="4508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nc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1476360" y="494172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rge 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1619280" y="544500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mall 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2627280" y="623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10357m30355344-9190-45c7-9cdc-c591f8b17bb5"/>
          <p:cNvPicPr/>
          <p:nvPr/>
        </p:nvPicPr>
        <p:blipFill>
          <a:blip r:embed="rId1"/>
          <a:stretch/>
        </p:blipFill>
        <p:spPr>
          <a:xfrm>
            <a:off x="539640" y="1197000"/>
            <a:ext cx="5226120" cy="5400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1116000" y="5805360"/>
            <a:ext cx="1655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708360" y="5877000"/>
            <a:ext cx="194328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716360" y="5084640"/>
            <a:ext cx="1943280" cy="98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971640" y="5805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4284720" y="5084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3564000" y="59500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6227640" y="2708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Saliva is mixed with food during ch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6227640" y="148428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Teeth assist the mechanical breakdown of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6156360" y="37162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Comic Sans MS"/>
              </a:rPr>
              <a:t>Saliva contains the enzyme amylase which starts the digestion of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6156360" y="522936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Comic Sans MS"/>
              </a:rPr>
              <a:t>Saliva contains mucus that keeps the mouth moist and lubricates food for easier swall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7380360" y="2276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8"/>
          <p:cNvSpPr/>
          <p:nvPr/>
        </p:nvSpPr>
        <p:spPr>
          <a:xfrm>
            <a:off x="7380360" y="3357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9"/>
          <p:cNvSpPr/>
          <p:nvPr/>
        </p:nvSpPr>
        <p:spPr>
          <a:xfrm>
            <a:off x="7380360" y="4653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20:46:45Z</dcterms:created>
  <dc:creator>Carol Crawford</dc:creator>
  <dc:description/>
  <dc:language>en-US</dc:language>
  <cp:lastModifiedBy>LEGION2</cp:lastModifiedBy>
  <dcterms:modified xsi:type="dcterms:W3CDTF">2016-01-13T13:13:02Z</dcterms:modified>
  <cp:revision>17</cp:revision>
  <dc:subject/>
  <dc:title>Alimentary Canal</dc:title>
</cp:coreProperties>
</file>