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BB37-86A0-4652-BBB4-962C21847B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1B1-C408-4254-9546-C337371C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C95-E2D0-448C-9CDA-BDDD1DF4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4A7-2843-4CC8-A7CA-A59CD379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CC2-3608-4FFD-B671-3197E53C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F92-05A9-48D0-A020-8229BBDC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8FB-FDDE-4D06-A253-30846E73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E4C-914D-41A4-A1F3-07AAF82B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39D-538F-45D2-9655-F5662BAF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4E9-87BA-42CB-A5E8-E53AEBDE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AD8-B61E-44FE-90E0-47F97588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44F-6B52-449A-A6F8-5FABF463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F14-F5F4-46A5-8794-810ADB26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8914-B2B9-4D22-A196-3CCD86BDF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92-11-23"/>
          <p:cNvPicPr/>
          <p:nvPr/>
        </p:nvPicPr>
        <p:blipFill>
          <a:blip r:embed="rId1"/>
          <a:srcRect l="0" t="5114" r="0" b="5114"/>
          <a:stretch/>
        </p:blipFill>
        <p:spPr>
          <a:xfrm>
            <a:off x="2700360" y="2637000"/>
            <a:ext cx="3525840" cy="4221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465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859280" y="3429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533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digestive juice 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gestive juice produ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m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(breaks down big fat droplets into little fat drop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t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184464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4653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859280" y="3429000"/>
            <a:ext cx="22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 (proteas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gluc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amy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08000" y="249228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9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mouth-open-huge307x379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amino acid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prot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79640" y="3141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6836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stomach"/>
          <p:cNvPicPr/>
          <p:nvPr/>
        </p:nvPicPr>
        <p:blipFill>
          <a:blip r:embed="rId1"/>
          <a:stretch/>
        </p:blipFill>
        <p:spPr>
          <a:xfrm>
            <a:off x="6276960" y="0"/>
            <a:ext cx="2867040" cy="2390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03280" y="314172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50312108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1989000"/>
            <a:ext cx="2736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66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35280" y="3284640"/>
            <a:ext cx="2737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tarch is a large carbohydrate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80000" y="198900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ts are made up of smaller units calle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414972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oteins are made up of one or more glucos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458136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tarch molecules can be broken down by amy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08000" y="551664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Proteins are important for the growth and repai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imentary cana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(or gut) is the tube within the body through which food passes and is processed in va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DA40_1"/>
          <p:cNvPicPr/>
          <p:nvPr/>
        </p:nvPicPr>
        <p:blipFill>
          <a:blip r:embed="rId1"/>
          <a:stretch/>
        </p:blipFill>
        <p:spPr>
          <a:xfrm>
            <a:off x="154764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059280" y="1557000"/>
            <a:ext cx="144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71640" y="981000"/>
            <a:ext cx="13701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2771640" y="2637000"/>
            <a:ext cx="20178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2556000" y="3789360"/>
            <a:ext cx="151272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3132000" y="4292640"/>
            <a:ext cx="14414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2627280" y="4076280"/>
            <a:ext cx="25210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348000" y="472392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3419640" y="530028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3419640" y="623736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83528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187280" y="1916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livary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33200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63640" y="364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76360" y="42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050920" y="450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476360" y="4941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619280" y="544500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62728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0357m30355344-9190-45c7-9cdc-c591f8b17bb5"/>
          <p:cNvPicPr/>
          <p:nvPr/>
        </p:nvPicPr>
        <p:blipFill>
          <a:blip r:embed="rId1"/>
          <a:stretch/>
        </p:blipFill>
        <p:spPr>
          <a:xfrm>
            <a:off x="539640" y="1197000"/>
            <a:ext cx="5226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116000" y="5805360"/>
            <a:ext cx="1655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08360" y="5877000"/>
            <a:ext cx="1943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716360" y="5084640"/>
            <a:ext cx="1943280" cy="9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971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4720" y="50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227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aliva is mixed with food during ch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227640" y="1484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eeth assist the mechanical breakdow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56360" y="37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omic Sans MS"/>
              </a:rPr>
              <a:t>Saliva contains the enzyme amylase which starts the diges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56360" y="5229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Saliva contains mucus that keeps the mouth moist and lubricates food for easier swa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38036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38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7380360" y="465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0:46:45Z</dcterms:created>
  <dc:creator>Carol Crawford</dc:creator>
  <dc:description/>
  <dc:language>en-US</dc:language>
  <cp:lastModifiedBy>LEGION2</cp:lastModifiedBy>
  <dcterms:modified xsi:type="dcterms:W3CDTF">2016-01-13T13:13:02Z</dcterms:modified>
  <cp:revision>17</cp:revision>
  <dc:subject/>
  <dc:title>Alimentary Canal</dc:title>
</cp:coreProperties>
</file>