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F032-7777-4E52-B555-09C25F36B1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dk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0035-F94F-4AF7-AD52-467E809E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A33-CBDB-415B-B6C3-AA16BFF0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2F5-39A0-4B8B-B7A6-54741972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D818-6393-44BC-89B1-58731A7E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1422-0CEC-484D-BDBF-79618C5C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81C2-92DE-45EA-BBA9-0E7E10FE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F217-E9A1-4143-B958-BB1EE7A8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45DB-77E4-4214-B3C2-1AB44657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CE38-B88C-4028-970F-259C170B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AFBD-6E5E-4995-A6F9-3922EE95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C185-26E5-439E-8C64-9F39004B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F3A-2765-4AE1-9655-A3E1FB61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6E7D-8788-4012-9A1C-4D432ED2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99B3-47FF-49F9-BB62-6104C283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381B-1D12-47E6-964D-0C6CD83F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C7F2-803D-4AF6-B9F5-92BEDBFB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EFDD-1DA6-47A3-8B3B-B9079F31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2BE8-361A-4FD7-BD32-837C7AFD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C72-12C4-4E9D-8784-B0E0C303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89C-9AEE-48DB-984B-A8F33D11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9F3-20B2-4455-A6F9-F5F82D94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045-6051-4615-91B4-FBA36EFB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ECC-9CFB-47CE-AB77-E50FCB8E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145D-667C-420D-B12F-ECAC4CF2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Freeform 71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F7FA-33B0-49D3-9B73-B238C31F2AA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Rectangle 3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7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8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7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8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9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2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3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4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37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38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39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40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1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42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3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4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5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6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47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3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4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5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6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57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8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9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1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2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3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4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5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6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7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8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69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70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2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3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4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5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6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77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78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79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80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1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2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3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4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5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86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7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8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89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90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1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2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94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5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6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97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98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00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1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2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3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7228-90A0-47BE-9BD8-B4BD7DF70AD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termediate 1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it 1 – Health and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7564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ong term abuse of alcohol can have a devastating impact on health, e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468360" y="2349360"/>
            <a:ext cx="37447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angover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Weight gain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igh blood pressur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Depressed immune system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Canc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iver dise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Alcohol poiso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5076720" y="2879640"/>
            <a:ext cx="3311640" cy="50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eart or respiratory fail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oss of appeti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Vitamin deficienc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memory los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drug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is a substance that alters the way the human body 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the most commonly used drug in Bri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ic drinks vary in the percentage of alcohol that they con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Alcoholic Content of Different Drin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 rot="16200000">
            <a:off x="-1049400" y="357804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9" name="Object 12"/>
          <p:cNvGraphicFramePr/>
          <p:nvPr/>
        </p:nvGraphicFramePr>
        <p:xfrm>
          <a:off x="826920" y="1773360"/>
          <a:ext cx="831708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Object 12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826920" y="1773360"/>
                    <a:ext cx="831708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14"/>
          <p:cNvSpPr/>
          <p:nvPr/>
        </p:nvSpPr>
        <p:spPr>
          <a:xfrm>
            <a:off x="1979640" y="5300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4356000" y="4653000"/>
            <a:ext cx="12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5003640" y="508464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6156360" y="443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8"/>
          <p:cNvSpPr/>
          <p:nvPr/>
        </p:nvSpPr>
        <p:spPr>
          <a:xfrm rot="16200000">
            <a:off x="7814160" y="47235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ce consumed alcohol is absorbed from the stomach and other parts of the g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is carried around the body in the blood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alcohol reaches the brain it affects the brain’s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t often makes a person feel relaxed and uninhib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slowly broken down in to harmless substances by the 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ffects of alcohol gradually wears 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faster you absorb the alcohol, the higher your blood alcohol level will b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more alcohol in your blood, the greater its effect will b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bsorption is more rapid if yo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quick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dd a fizzy mix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on an empty stoma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re small, young or fem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Uni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e unit of alcohol is the quantity that can be broken down in a healthy adult’s liver in about one h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recommended limit per week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wo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Comic Sans MS"/>
              </a:rPr>
              <a:t>How many units of alcohol in the following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29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pint of Ten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Barcardi Bree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.5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vodka and diet c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 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small glass of w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Cj02927720000[1]"/>
          <p:cNvPicPr/>
          <p:nvPr/>
        </p:nvPicPr>
        <p:blipFill>
          <a:blip r:embed="rId1"/>
          <a:stretch/>
        </p:blipFill>
        <p:spPr>
          <a:xfrm>
            <a:off x="5580000" y="1628640"/>
            <a:ext cx="1298520" cy="1793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MCj02900350000[1]"/>
          <p:cNvPicPr/>
          <p:nvPr/>
        </p:nvPicPr>
        <p:blipFill>
          <a:blip r:embed="rId2"/>
          <a:stretch/>
        </p:blipFill>
        <p:spPr>
          <a:xfrm>
            <a:off x="5651640" y="4221000"/>
            <a:ext cx="1083960" cy="2184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MCj02508440000[1]"/>
          <p:cNvPicPr/>
          <p:nvPr/>
        </p:nvPicPr>
        <p:blipFill>
          <a:blip r:embed="rId3"/>
          <a:stretch/>
        </p:blipFill>
        <p:spPr>
          <a:xfrm>
            <a:off x="7308720" y="2997360"/>
            <a:ext cx="1193760" cy="212724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53044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 the short term an excess of alcohol in your bloodstream leads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 reacti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muscle control and coord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judgement when making deci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5:41:49Z</dcterms:created>
  <dc:creator>Education</dc:creator>
  <dc:description/>
  <dc:language>en-US</dc:language>
  <cp:lastModifiedBy>LEGION2</cp:lastModifiedBy>
  <dcterms:modified xsi:type="dcterms:W3CDTF">2016-01-13T13:07:17Z</dcterms:modified>
  <cp:revision>9</cp:revision>
  <dc:subject/>
  <dc:title>ALCOHOL</dc:title>
</cp:coreProperties>
</file>