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584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83655-C71F-4E50-A21B-4079DDE1F7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POP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er Dama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IRRHOSI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carring of the liv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 blood flow in scarred are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er cannot fun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ymptoms: high blood pressure, abdominal swelling, jaundic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RREVERSIBL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 Da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RH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rring of the l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blood flow in scarred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 cannot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toms: high blood pressure, abdominal swelling, jaund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REVERSI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y Liv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ic Liv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Rest of Alcohol Effec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omach/Pancrea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hort Term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omach acids increase, which often results in nausea and vomit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ng Ter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rritation occurs in the stomach lining, causing open sores called ulcers; pancreas becomes inflam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inge Drink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 or more drinks in a sitting for me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 or more drinks in a sitting for wome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y lead to Alcohol Poison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y lead to unplanned unprotected se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y lead to drug us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ny high school/college students die from alcohol poisoning from binge drinking on the weekend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ge Dr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or more drinks in a sitting for 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or more drinks in a sitting for wo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lead to Alcohol Poi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lead to unplanned unprotected s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lead to drug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high school/college students die from alcohol poisoning from binge drinking on the weeke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angers of Binge Drink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nintentional injuries (e.g. car crash, falls, burns, drowning)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tentional injuries (e.g. firearm injuries, sexual assault, domestic violence)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poisoning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D’s and/or Unintended pregnancy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igh blood pressure, stroke, and other cardiovascular diseases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er Diseas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angers of Binge Dr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intentional injuries (e.g. car crash, falls, burns, drowning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ntional injuries (e.g. firearm injuries, sexual assault, domestic violence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cohol poison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D’s and/or Unintended pregnanc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gh blood pressure, stroke, and other cardiovascular diseas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ver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ctors affecting the amount of alcohol in a person’s bloo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end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tabolis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mount of Alcohol (not # of drinks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much they weig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much time elapses after or between drink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the amount of alcohol in a person’s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bo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unt of Alcohol (not # of drink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uch they we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uch time elapses after or between dri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inking and Driv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inking alcohol impairs vision, reaction time, and coordination. 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WI and DUI –leading cause of death among tee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igns of intoxication can begin to appear as low as 0.0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re is no acceptable BAC level for anyone under 2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FEST AMOUNT OF DRINKS  = 0!!!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is at any age!!!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FEST AMOUNT OF DRINKS  = 0!!!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t any age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sequences of teen DUI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arm to the driver and oth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everely restricted driving privileg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related injuries, property damage, and deat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ing with remors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lood Alcohol Concentr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mount of alcohol in a person’s bloodstrea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gal limit for IL is .08%  for people 21 years old and old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gal limit for IL is zero for people under 2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Alcohol Concen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unt of alcohol in a person’s bloodstr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gal limit for IL is .08%  for people 21 years old and ol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gal limit for IL is zero for people under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5% of High School Students report having tried alcohol at least onc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8% reported having an alcoholic beverage in the last mont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le students more likely than female students to report episodic heavy drink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5% of High School Students report having tried alcohol at least o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% reported having an alcoholic beverage in the last mon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 students more likely than female students to report episodic heavy dr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Poison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angerous to just “sleep it off”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ig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ntal confusion, stupor, coma, inability to be excited, vomiting, and seizur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low Respiration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*Hypothermia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*Dehydration *Irregular heartbea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LL 911 immediately if suspicious of poison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are some things that people do to ‘sober up’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ome things that people do to ‘sober up’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SOBERS A PERSON UP THE FASTEST???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IME!!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is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disease in which a person has a physical or psychological dependence on drinks that contain alcoho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haracterized as an impaired ability to study, work, or socialize normall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3 Stages of Alcoholis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arly Stage (Stage 1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 relax, relieve stres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ads to necessity to manage stres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gins to become intoxicated regularl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kes excuses and tries to rationalize drinking behavio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3 Stages of Alcoho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Stage (Stage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relax, relieve st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s to necessity to manage st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s to become intoxicated regular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s excuses and tries to rationalize drinking behav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ddle Stage (Stage 2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inker denies or tries to hide proble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 develops toleranc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requently absent from school or work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inking is central event in a persons lif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inks when alon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inks first thing in the morn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inks dail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dle Stage (Stage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er denies or tries to hid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develops tole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tly absent from school or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ing is central event in a persons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s when al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s first thing in the mo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s da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nal Stage (Stage 3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erson becomes aggressive &amp; isolated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lnutrition occurs because drinker consumes alcohol and does not worry about foo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 is addict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ry to quit=WITHDRAWA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lirium Tremens-hot/cold flashes, tremors, nightmares, hallucinations, fear of people and anima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*****NO CURE---ONLY RECOVERY*****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 Stage (Stage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 becomes aggressive &amp; isola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nutrition occurs because drinker consumes alcohol and does not worry about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is addi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o quit=WITHDRAW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lirium Tremens-hot/cold flashes, tremors, nightmares, hallucinations, fear of people and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***NO CURE---ONLY RECOVERY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ffects on Family and Societ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0% of violent crimes annually are alcohol relat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½ of all homicide victims have alcohol in their bloodstrea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n Family and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% of violent crimes annually are alcohol re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½ of all homicide victims have alcohol in their bloodstr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Alcohol?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pressan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tains intoxicating substance called ethyl alcohol or ethano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lows down the functions of the brain and other parts of the nervous syste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lcohol?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ress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s intoxicating substance called ethyl alcohol or ethan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ws down the functions of the brain and other parts of the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reatmen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nnot be cur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n be treat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unseling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dic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ea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not be cu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tre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sel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re to go for help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ics Anonymou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ational Association for children of alcoholic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ational drug and treatment referral routing servic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to go for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ics Anonym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 Association for children of alcohol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 drug and treatment referral routing serv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Alcohol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duced by a fermentation proces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of is the amount of alcohol in the substance (ex. 100 proof bottle of vodka is 50% alcohol)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2 oz. Beer = 4 oz. Wine = 1 oz. liquo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lcoho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 by a fermentation proc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of is the amount of alcohol in the substance (ex. 100 proof bottle of vodka is 50% alcohol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oz. Beer = 4 oz. Wine = 1 oz. liqu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ffects of Alcoho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rt/Blood Vesse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hort ter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erspiration increases and skin becomes flush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ng Ter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igh blood pressure and damage to the heart muscle; blood vessels harden and become less flexib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Alcoh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/Blood Vess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piration increases and skin becomes flus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blood pressure and damage to the heart muscle; blood vessels harden and become less flex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re Effec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rain/Nervous Syste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hort Term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peech is slurred and difficulty walk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ng Term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rain cells are destroyed and unable to be replaced; damage to nerves in body resulting in numbness in hands and fee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in/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ech is slurred and difficulty wal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in cells are destroyed and unable to be replaced; damage to nerves in body resulting in numbness in hands and f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Rest of Alcohol Effec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hort Term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er changes alcohol into water and carbon dioxid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ng Term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er is damaged possibly resulting in cirrhosis (scarring and destruction of the liver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n only oxidize about 1 serving of alcohol an hou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 WAY to speed up this proces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ntil liver has had time to oxidize all of the alcohol ingested, it keeps circulating through the bloodstrea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only oxidize about 1 serving of alcohol an h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WAY to speed up this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liver has had time to oxidize all of the alcohol ingested, it keeps circulating through the bloodstr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er Dama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TTY LIV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interferes with body’s ability to break down fat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xcess fat blocks flow in liver resulting in reduced oxygen and cell deat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n be REVERSED when drinking stop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 Da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TY L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 interferes with body’s ability to break down f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ss fat blocks flow in liver resulting in reduced oxygen and cell de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REVERSED when drinking st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6C5E-4053-4782-AB62-3F2A5E168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D5E4-C97C-49EA-A769-DB07F73C2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5F53-F4E7-41B3-9EF7-F6504EE2E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40E1-76D1-4D40-9077-297C6157B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2D536-E407-4225-83B9-1ECFDF996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2A6D1-5253-4E80-85D0-1319AAD2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56EA6-BA2E-4B47-B75B-2A2FB7B94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D2666-4357-4B1B-94A1-BAB90379B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849D5-F251-4BF9-9CD3-77E70C18E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3B0C4-6EF3-470A-9E54-0B379A4DD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9FB36-B892-4CB3-B358-2BCA8112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E7BD-3DBA-42EE-A007-0E3B1ADB0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1AF78-1869-4466-9CB5-35F07940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4A51D-02B4-4FD8-A2A7-FFFD1CFD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9365E-EFC4-475F-8928-1E8C5C044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FBA02-F167-4FE8-9964-3084530E8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BBD8A-871B-4771-B3C0-DBBE3D73E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8F7C-D1A2-41E8-8EFF-A7B0CDB9E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2F93-9B05-4BD6-9E81-130B83CB5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AAD8-CB6D-4054-912D-2D97C077F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0B81-2B7E-460A-8D1F-A362489B0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2B30-7D34-4D5E-B88F-96719D1F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A8C7-23F0-48C7-88A2-57E3D1F2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16D7-EB17-494C-BA18-1AD1881B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268A5-E33F-45AF-B0A4-A509C3F5FC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6FF37-CC4F-4743-8E51-73A33F7FD9A8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cc00"/>
                </a:solidFill>
                <a:latin typeface="Times New Roman"/>
              </a:rPr>
              <a:t>ALCOHOL</a:t>
            </a:r>
            <a:endParaRPr b="0" lang="en-US" sz="7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06" name="Picture 3" descr="23035392"/>
          <p:cNvPicPr/>
          <p:nvPr/>
        </p:nvPicPr>
        <p:blipFill>
          <a:blip r:embed="rId1"/>
          <a:stretch/>
        </p:blipFill>
        <p:spPr>
          <a:xfrm>
            <a:off x="380880" y="2895480"/>
            <a:ext cx="3094200" cy="3810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A5MRD5"/>
          <p:cNvPicPr/>
          <p:nvPr/>
        </p:nvPicPr>
        <p:blipFill>
          <a:blip r:embed="rId2"/>
          <a:stretch/>
        </p:blipFill>
        <p:spPr>
          <a:xfrm>
            <a:off x="762120" y="152280"/>
            <a:ext cx="1819080" cy="2667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main1"/>
          <p:cNvPicPr/>
          <p:nvPr/>
        </p:nvPicPr>
        <p:blipFill>
          <a:blip r:embed="rId3"/>
          <a:stretch/>
        </p:blipFill>
        <p:spPr>
          <a:xfrm>
            <a:off x="5105520" y="1752480"/>
            <a:ext cx="3355920" cy="41911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6"/>
          <p:cNvSpPr/>
          <p:nvPr/>
        </p:nvSpPr>
        <p:spPr>
          <a:xfrm>
            <a:off x="4800600" y="601992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ALCOPOP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Liver Damage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CIRRHOSI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carring of the live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o blood flow in scarred are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liver cannot func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ymptoms: high blood pressure, abdominal swelling, jaundic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IRREVERSIBLE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healthy liver"/>
          <p:cNvPicPr/>
          <p:nvPr/>
        </p:nvPicPr>
        <p:blipFill>
          <a:blip r:embed="rId1"/>
          <a:stretch/>
        </p:blipFill>
        <p:spPr>
          <a:xfrm>
            <a:off x="304920" y="838080"/>
            <a:ext cx="4876560" cy="3195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alcoholicliver"/>
          <p:cNvPicPr/>
          <p:nvPr/>
        </p:nvPicPr>
        <p:blipFill>
          <a:blip r:embed="rId2"/>
          <a:stretch/>
        </p:blipFill>
        <p:spPr>
          <a:xfrm>
            <a:off x="5257800" y="380880"/>
            <a:ext cx="3679920" cy="55627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4"/>
          <p:cNvSpPr/>
          <p:nvPr/>
        </p:nvSpPr>
        <p:spPr>
          <a:xfrm>
            <a:off x="457200" y="41911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Healthy Live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5486400" y="6095880"/>
            <a:ext cx="365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Alcoholic Live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…</a:t>
            </a: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The Rest of Alcohol Effects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91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tomach/Pancrea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hort Term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Stomach acids increase, which often results in nausea and vomiting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Long Term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Irritation occurs in the stomach lining, causing open sores called ulcers; pancreas becomes inflamed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Binge Drinking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5 or more drinks in a sitting for me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-27756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4 or more drinks in a sitting for wome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-27756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May lead to Alcohol Poisoning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-27756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May lead to unplanned unprotected sex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-27756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May lead to drug us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-27756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Many high school/college students die from alcohol poisoning from binge drinking on the weekends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angers of Binge Drinking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Unintentional injuries (e.g. car crash, falls, burns, drowning).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Intentional injuries (e.g. firearm injuries, sexual assault, domestic violence).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Alcohol poisoning.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STD’s and/or Unintended pregnancy.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High blood pressure, stroke, and other cardiovascular diseases.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iver Diseas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Factors affecting the amount of alcohol in a person’s blood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Gende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Metabolis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Amount of Alcohol (not # of drinks)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How much they weigh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How much time elapses after or between drink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Drinking and Driving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rinking alcohol impairs vision, reaction time, and coordination.  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WI and DUI –leading cause of death among teen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igns of intoxication can begin to appear as low as 0.0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re is no acceptable BAC level for anyone under 2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243828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cc00"/>
                </a:solidFill>
                <a:latin typeface="Times New Roman"/>
              </a:rPr>
              <a:t>SAFEST AMOUNT OF DRINKS  = 0!!!</a:t>
            </a:r>
            <a:br>
              <a:rPr sz="8800"/>
            </a:br>
            <a:br>
              <a:rPr sz="8800"/>
            </a:b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This is at any age!!!!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Consequences of teen DUI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Harm to the driver and other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Severely restricted driving privilege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Alcohol related injuries, property damage, and death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iving with remorse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Blood Alcohol Concentration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Amount of alcohol in a person’s </a:t>
            </a: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bloodstrea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egal limit for IL is .08%  for people 21 years old and olde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egal limit for IL is zero for people under 21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0" y="0"/>
            <a:ext cx="7238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75% of High School Students report having tried alcohol at least once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685800" y="2362320"/>
            <a:ext cx="8153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00"/>
                </a:solidFill>
                <a:latin typeface="Comic Sans MS"/>
              </a:rPr>
              <a:t>28% reported having an alcoholic beverage in the last month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0" y="457056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cc"/>
                </a:solidFill>
                <a:latin typeface="Tahoma"/>
              </a:rPr>
              <a:t>Male students more likely than female students to report episodic heavy drinking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bac_(female)3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700236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bac_(male)3"/>
          <p:cNvPicPr/>
          <p:nvPr/>
        </p:nvPicPr>
        <p:blipFill>
          <a:blip r:embed="rId1"/>
          <a:stretch/>
        </p:blipFill>
        <p:spPr>
          <a:xfrm>
            <a:off x="0" y="0"/>
            <a:ext cx="9144000" cy="700236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Alcohol Poisoning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angerous to just “sleep it off”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ign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ental confusion, stupor, coma, inability to be excited, vomiting, and seizur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low Respiration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*Hypothermia 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*Dehydration *Irregular heartbe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CALL 911 immediately if suspicious of poisoning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What are some things that people do to ‘sober up’?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WHAT SOBERS A PERSON UP THE FASTEST????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TIME!!!</a:t>
            </a: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Alcoholism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A disease in which a person has a physical or psychological dependence on drinks that contain alcohol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Characterized as an impaired ability to study, work, or socialize normally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The 3 Stages of Alcoholism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arly Stage (Stage 1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698400" indent="-26856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to relax, relieve stres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98400" indent="-26856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eads to necessity to manage stres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98400" indent="-26856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begins to become intoxicated regularly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98400" indent="-26856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makes excuses and tries to rationalize drinking behavio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0" y="1519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Middle Stage (Stage 2)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drinker denies or tries to hide proble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body develops toleranc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frequently absent from school or work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drinking is central event in a persons lif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drinks when alon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drinks first thing in the morning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drinks daily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Final Stage (Stage 3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623880" indent="-239760">
              <a:spcBef>
                <a:spcPts val="9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person becomes aggressive &amp; isolated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623880" indent="-239760">
              <a:spcBef>
                <a:spcPts val="9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malnutrition occurs because drinker consumes alcohol and does not worry about food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623880" indent="-239760">
              <a:spcBef>
                <a:spcPts val="9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body is addicted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623880" indent="-239760">
              <a:spcBef>
                <a:spcPts val="9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try to quit=WITHDRAW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623880" indent="-239760">
              <a:spcBef>
                <a:spcPts val="9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Delirium Tremens-hot/cold flashes, tremors, nightmares, hallucinations, fear of people and animal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*****NO CURE---ONLY RECOVERY*****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Effects on Family and Society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40% of violent crimes annually are alcohol related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½ of all homicide victims have alcohol in their bloodstream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What is Alcohol?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Depressant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Contains intoxicating substance called ethyl alcohol or ethanol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Slows down the functions of the brain and other parts of the nervous system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7" name="Picture 4" descr="j0195872"/>
          <p:cNvPicPr/>
          <p:nvPr/>
        </p:nvPicPr>
        <p:blipFill>
          <a:blip r:embed="rId1"/>
          <a:stretch/>
        </p:blipFill>
        <p:spPr>
          <a:xfrm>
            <a:off x="6477120" y="914400"/>
            <a:ext cx="2438280" cy="350532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ffcc00"/>
                </a:solidFill>
                <a:latin typeface="Times New Roman"/>
              </a:rPr>
              <a:t>Treatment</a:t>
            </a:r>
            <a:endParaRPr b="0" lang="en-US" sz="69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Cannot be cured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Can be treated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Counseling 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Medication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Where to go for help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imes New Roman"/>
              </a:rPr>
              <a:t>Alcoholics Anonymou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imes New Roman"/>
              </a:rPr>
              <a:t>National Association for children of alcoholic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imes New Roman"/>
              </a:rPr>
              <a:t>National drug and treatment referral routing service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What is Alcohol?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-152640" y="1447920"/>
            <a:ext cx="9296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Produced by a fermentation process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Proof is the amount of alcohol in the substance (ex. 100 proof bottle of vodka is 50% alcohol) 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2 oz. Beer = 4 oz. Wine = 1 oz. liquo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Times New Roman"/>
              </a:rPr>
              <a:t>Effects of Alcohol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Heart/Blood Vessel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Short ter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Perspiration increases and skin becomes flushed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ong Ter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High blood pressure and damage to the heart muscle; blood vessels harden and become less flexibl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More Effects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rain/Nervous System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Short Term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Speech is slurred and difficulty walking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ong Term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Brain cells are destroyed and unable to be replaced; damage to nerves in body resulting in numbness in hands and fee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7" name="Picture 4" descr="j0305551"/>
          <p:cNvPicPr/>
          <p:nvPr/>
        </p:nvPicPr>
        <p:blipFill>
          <a:blip r:embed="rId1"/>
          <a:stretch/>
        </p:blipFill>
        <p:spPr>
          <a:xfrm>
            <a:off x="7086600" y="1295280"/>
            <a:ext cx="1797120" cy="232596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…</a:t>
            </a: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The Rest of Alcohol Effects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ive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hort Term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2" marL="925560" indent="-18504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iver changes alcohol into water and carbon dioxid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Long Term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2" marL="925560" indent="-18504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iver is damaged possibly resulting in cirrhosis (scarring and destruction of the liver)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Liver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8390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Can only oxidize about 1 serving of alcohol an hou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NO WAY to speed up this proces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Until liver has had time to oxidize all of the alcohol ingested, it keeps circulating through the bloodstrea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Liver Damage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1920" y="11426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FATTY LIVE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lcohol interferes with body’s ability to break down fat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Excess fat blocks flow in liver resulting in reduced oxygen and cell death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can be REVERSED when drinking stop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6T17:46:11Z</dcterms:created>
  <dc:creator>Nancy</dc:creator>
  <dc:description/>
  <dc:language>en-US</dc:language>
  <cp:lastModifiedBy>LEGION2</cp:lastModifiedBy>
  <cp:lastPrinted>2008-06-19T00:55:33Z</cp:lastPrinted>
  <dcterms:modified xsi:type="dcterms:W3CDTF">2016-01-13T12:49:45Z</dcterms:modified>
  <cp:revision>10</cp:revision>
  <dc:subject/>
  <dc:title>ALCOHOL</dc:title>
</cp:coreProperties>
</file>