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7E70-C2D3-4023-AB5C-DE574E4B7B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6 – Absorp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2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2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ger-like folds in the surface of the small intestin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ngular – vill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ger-like folds in the surface of the small intestin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ngular – vill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has an extrem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apid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has an extrem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apid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ood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is supplied with blood vessels to receive the absorbed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/amino acids/vitamins/minerals are absorbed into blood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s of fat digestion absorbed into lact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ood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is supplied with blood vessels to receive the absorbed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/amino acids/vitamins/minerals are absorbed into blood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s of fat digestion absorbed into lact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Intention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th J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hould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Absorp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Visking Tub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eople will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ck Test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Practice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eople might sta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rance Intermediate 2 Biology textb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240 ‘Applying Your Knowledg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Intention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th J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hould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Absorp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Visking Tub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eople will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ck Test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Practice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eople might sta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rance Intermediate 2 Biology textb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240 ‘Applying Your Knowledg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-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a long tube in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ood in the alimentary canal is still outside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side the molecules of the food have to be able to pass through the wall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ry the ‘Model Absorption’ k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-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a long tube in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ood in the alimentary canal is still outside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side the molecules of the food have to be able to pass through the wall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ry the ‘Model Absorption’ k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piece of tube in the model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the food molecules inside the tube still be regarded as ‘outside’ th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ood molecules in the model were able to pass through the wall of the tube most easily?  Why wa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ere the protein molecules in the model unable to pass through the wall of the tu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piece of tube in the model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the food molecules inside the tube still be regarded as ‘outside’ th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ood molecules in the model were able to pass through the wall of the tube most easily?  Why wa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ere the protein molecules in the model unable to pass through the wall of the tu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ssage of small food molecules through the wall of the alimentary canal and into vessels that can transport them within the bod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ssage of small food molecules through the wall of the alimentary canal and into vessels that can transport them within the bod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- Visking Tubing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xperiment when set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visking tubing was being used to 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you tested for starch and glucose and a table of your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planation of the results in terms of size of the food molecu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- Visking Tubing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xperiment when set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visking tubing was being used to 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you tested for starch and glucose and a table of your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planation of the results in terms of size of the food molecu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soluble food molecules ar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bsorb food molecules efficiently the small intestine has three main adaptations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soluble food molecules ar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bsorb food molecules efficiently the small intestine has three main adaptations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 intestine is very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m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surface on the intestine is fol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vered with many finger-like projections called 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atly increase the surface area in contact with 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 intestine is very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m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surface on the intestine is fol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vered with many finger-like projections called 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atly increase the surface area in contact with 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1796-63A9-46E3-AFBD-D5725FCE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C585-9125-45E9-9D76-4FE4BB77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D0D6-9083-4FBB-9320-8A899AAA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8C68-B928-493C-8617-6E905B1F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3B69-F004-4588-B7CF-0A11B0F1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472C-2B6E-4BE0-827F-74FD55E3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4670-4F6E-4E11-A817-4652A366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7E2-C775-4E3C-8913-BEE2F105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B7B-FFBD-486D-93D2-3202C74D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0B8-9CAB-4952-9F4E-F31B5D1A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8E1-B8A0-4DF2-BBC2-9481B0BE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A14C-81F6-4D4F-9E3F-979C8524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2F32-D36D-4936-A08D-BF1E05F7F5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9.6 – Absorp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mediate 2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image006"/>
          <p:cNvPicPr/>
          <p:nvPr/>
        </p:nvPicPr>
        <p:blipFill>
          <a:blip r:embed="rId1"/>
          <a:stretch/>
        </p:blipFill>
        <p:spPr>
          <a:xfrm>
            <a:off x="2843280" y="3505320"/>
            <a:ext cx="4038480" cy="3352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finger-like folds in the surface of the small intestin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(Singular – vill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villus_villi-intestinales"/>
          <p:cNvPicPr/>
          <p:nvPr/>
        </p:nvPicPr>
        <p:blipFill>
          <a:blip r:embed="rId1"/>
          <a:stretch/>
        </p:blipFill>
        <p:spPr>
          <a:xfrm>
            <a:off x="4761000" y="1413000"/>
            <a:ext cx="4383000" cy="5445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.  Thin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villus has an extrem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only one cell th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rapid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.  Good Blood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villus is supplied with blood vessels to receive the absorbed f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glucose/amino acids/vitamins/minerals are absorbed into blood 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ducts of fat digestion absorbed into lact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w complete the ‘Notes’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Intentions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J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veryone should compl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-Absorptio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-Visking Tube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-Small Intes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ost people will compl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eck Test for 9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ome Practice for 9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ome people might 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rrance Intermediate 2 Biology textbo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 240 ‘Applying Your Knowledg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 - 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alimentary canal (or gut) is a long tube inside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food in the alimentary canal is still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cells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molecules of the food have to be able to pass through the wall of the alimentary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try the ‘Model Absorption’ k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es the piece of tube in the model repre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can the food molecules inside the tube still be regarded as ‘outside’ the bo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food molecules in the model were able to pass through the wall of the tube most easily?  Why wa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were the protein molecules in the model unable to pass through the wall of the tu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w complete the ‘Notes’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digestprocess"/>
          <p:cNvPicPr/>
          <p:nvPr/>
        </p:nvPicPr>
        <p:blipFill>
          <a:blip r:embed="rId1"/>
          <a:stretch/>
        </p:blipFill>
        <p:spPr>
          <a:xfrm>
            <a:off x="0" y="2481120"/>
            <a:ext cx="8977320" cy="4376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passage of small food molecules through the wall of the alimentary canal and into vessels that can transport them within the bod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- Visking Tubing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iagram of the experiment when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the visking tubing was being used to re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you tested for starch and glucose and a table of you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explanation of the results in terms of size of the food molecules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 – Small Int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ll, soluble food molecules are absorbed through the wall of the 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bsorb food molecules efficiently the small intestine ha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ain adaptations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3125smintestineapple"/>
          <p:cNvPicPr/>
          <p:nvPr/>
        </p:nvPicPr>
        <p:blipFill>
          <a:blip r:embed="rId1"/>
          <a:stretch/>
        </p:blipFill>
        <p:spPr>
          <a:xfrm>
            <a:off x="6372360" y="1628640"/>
            <a:ext cx="2771640" cy="233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.  A Large Surface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mall intestine is very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6m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inner surface on the intestine is fol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overed with many finger-like projection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greatly increase the surface area in contact with digested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013634fig8-24"/>
          <p:cNvPicPr/>
          <p:nvPr/>
        </p:nvPicPr>
        <p:blipFill>
          <a:blip r:embed="rId1"/>
          <a:stretch/>
        </p:blipFill>
        <p:spPr>
          <a:xfrm>
            <a:off x="0" y="0"/>
            <a:ext cx="6300720" cy="3394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smallintestine1"/>
          <p:cNvPicPr/>
          <p:nvPr/>
        </p:nvPicPr>
        <p:blipFill>
          <a:blip r:embed="rId2"/>
          <a:stretch/>
        </p:blipFill>
        <p:spPr>
          <a:xfrm>
            <a:off x="4284720" y="3449520"/>
            <a:ext cx="4859280" cy="32432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0:28:57Z</dcterms:created>
  <dc:creator>CEC</dc:creator>
  <dc:description/>
  <dc:language>en-US</dc:language>
  <cp:lastModifiedBy>LEGION2</cp:lastModifiedBy>
  <dcterms:modified xsi:type="dcterms:W3CDTF">2016-01-13T10:21:28Z</dcterms:modified>
  <cp:revision>10</cp:revision>
  <dc:subject/>
  <dc:title>9.6 – Absorption Process</dc:title>
</cp:coreProperties>
</file>