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EE0D-D895-44B1-AFFD-BCC3FCCF75F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7DE72-CF40-4430-9F9E-8B4C8B211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3FE9A-E720-4896-9811-EFAB9720B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05165-E3A9-4B1A-BA9B-42EF71445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670BC-72EB-447D-B601-C761FC4E6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4C849-8F74-4788-B2AE-1CB4151BF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611BB-F0AB-4922-B467-2C9108D8B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BEA9B-F1D6-441A-84D1-9858387CA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FAA35-8E32-4B2F-A459-E9B10714A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065DD-3884-45A3-BCE8-122B49F36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1656A-421B-4649-A759-6F4791E95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5531B-318D-4489-B7FC-5B5EA1198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3D72-D4D8-4262-9794-4D37677DD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2F9F-2147-44E4-AC55-8419A2F9F6B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13FE-D9BF-471D-80D8-5304AE88850C}"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2</cp:lastModifiedBy>
  <dcterms:modified xsi:type="dcterms:W3CDTF">2016-01-13T10:13:34Z</dcterms:modified>
  <cp:revision>9</cp:revision>
  <dc:subject/>
  <dc:title>SUPPORT AND TRANSPORT IN PLANTS</dc:title>
</cp:coreProperties>
</file>