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7.png" ContentType="image/png"/>
  <Override PartName="/ppt/media/image13.jpeg" ContentType="image/jpeg"/>
  <Override PartName="/ppt/media/image19.jpeg" ContentType="image/jpeg"/>
  <Override PartName="/ppt/media/image11.png" ContentType="image/png"/>
  <Override PartName="/ppt/media/image4.png" ContentType="image/png"/>
  <Override PartName="/ppt/media/image12.jpeg" ContentType="image/jpe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4.jpeg" ContentType="image/jpeg"/>
  <Override PartName="/ppt/media/image30.jpeg" ContentType="image/jpeg"/>
  <Override PartName="/ppt/media/image24.jpeg" ContentType="image/jpe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5.png" ContentType="image/png"/>
  <Override PartName="/ppt/media/image29.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1E9E-7080-445E-8171-A15BF9293E4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RT AND TRANSPORT IN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Y OF DICOT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a dicot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stem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stem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reduces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ticle is transparent allowing light to pass through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may have guard cells to allow gaseous exchange while at the same time reducing water loss through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ypodermis of sclerenchyma or collenchyma strengthens the stem and helps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cellular air spaces between the parenchyma cells allow for transport of water and g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odermal cells stores st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lerenchyma fibres gives strength to the plant  and help to keep it up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transports water and mineral salts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ransports manufactured food from the leaf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growth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in thickness of the stem is called secondary growth or secondary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thickness takes place in 3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secondary xylem and secondary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chyma cells between the vascular bundles begin to divide. This with vascular cambium forms a complete ring of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ire cambium divides to form secondary xylem on the inside and secondary phloem on the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year a new ring of secondary xylem is formed.  These are called the annual rings. (can tell the age of the tree by counting 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cells making up the older annual rings becomes clogged and are no longer able to transport water and mineral salts.  They become heartw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stem after a complete ring of cambium has been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C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parenchyma cells in the cortex begin to divide and form cork camb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ambium divides to form cork cells on its out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k cells have suberin laid down on their cell w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al 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tion of Len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woody stems the stomata are blocked by the presence of cork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pidermis of woody stems breaks up to form tiny pores called lenticles which allow gaseous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 of root sys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ap roo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dventitious root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xyl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nd xylem tracheid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are dead cells.  They are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ir cross walls are perforated or completely absent and form continuous tube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 have thick walls made up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nin is laid down in various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 ( lignin laid in cir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 thickening ( lignin laid in 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 thickening (laid in ladder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 (laid in p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 are similar to xylem vessels except that the ends are tapered and cross walls are always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nular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alari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pi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tted Thic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ylem Trachei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walls are perforated or completely absent – this forms xylem roots forms continuous tubes with the xylem stems and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ylem vessles have no living contents – allows the water to flow freely in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ls of the xylem vessels and tracheids are not completely thickened – the unthickened portions and bordered pits allow water to move across the root and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ptation of xylem to provide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thick-walled – they have a secondary wall of lign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vessels and tracheids are round in cross-section – round structures give additional str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tissue is made up of four types of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pa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loem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nd companion cells are highly specialis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eve tubes are living cells with long cylindrical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cross walls are perforated to form sieve pl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thin walled ce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tain strands of cytoplasm which run through the sieve plates from one cell to the 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on cells lie next to the sieve tubes – they are thin walled, with cross walls and has a well-defined nucle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ction of phloem t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eve tubes transport manufactured food from the leaves to the all parts of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anion cells probably control the activities of the sieve tu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lenchyma and Sclerenchy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sorption and Transport of water and mineral salts by pl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the root hairs of the epidermis of roots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S TO REM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IL WATER IS THE DILUTE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SAP HAS CONCENTRATION SOLUTION BECAUSE OF HIGH CONCENTRATION OF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LL MEMBRANE AND TONOPLAST IS SEMI-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MOSIS:  MOVEMENT OF WATER MOLECULES FROM HI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TER POTENTIAL TO LOW WATER POTENT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OUGH SEMI PERMEABLE MEMBR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transport of water and mineral salts to the stele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movement of water and mineral salts through the stem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nchor the plant firmly to the g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irational Pu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vaporates from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s diffusion pressure gradient between outside air and xy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sion exists in the water column extending from the roots to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hesive and cohesive forces keep the column contin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water is continually being pulled upward as water evaporates from the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pull = transpirational p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responsible for the upward movement of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ot pres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 sap of root hair always has low water potential when compared to soil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er enters root hair by osmo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osmosis causes pressure forcing water a short distance up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ntaneous movement of water up narrow tubes because of adhesion and cohesion is called capil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en of xylem vessels and tracheids are very narrow therefore capillarity takes 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ward distance is very s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al modifications of leaves to reduce water loss</a:t>
            </a:r>
            <a:br>
              <a:rPr sz="1200"/>
            </a:br>
            <a:r>
              <a:rPr b="0" lang="en-US" sz="1200" spc="-1" strike="noStrike">
                <a:solidFill>
                  <a:srgbClr val="000000"/>
                </a:solidFill>
                <a:latin typeface="Calibri"/>
              </a:rPr>
              <a:t>(Internal factors limiting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ken stomata: In some plants stomata may be sunken or s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ckened cuticle: A thick cuticle on the surface of leaves reduces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r on leaves: the sheen r shine of the hairs of some leaves reflect sunlight and reduces transpiration.  Hairs also trap water vapour, restricting water lo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size and arrangement of leaves: 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factors affecting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idity: High humidity decreases transpiratio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Increases evaporation and thus transpi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Wind removes the water vapour around leaf thus increasing water vapour pressure grad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Increases evaporation and thus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generally causes an increase in the rate of transpi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Loss of turgidity of the cells results in leave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 stems, becoming limp, causing them to droo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plant is called wil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 Loss of liquid water through tiny pores, call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athodes on margin of lea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ting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t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uses of plants related to their ana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er for furniture-making and building constr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ket-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ching, matting and broom-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tructure of Root T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cap is made up of parenchyma cells. It protects the inner layers of the ro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point is made up of meristematic cells.  Some of the new cells produced replace the parenchyma cells of the root cap which were dama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ion of elongation – the cells comes from the growing point which begin to elong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 hair region has root hairs, which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ly the cells in this region begin to differentiate into epidermis, parenchyma, sclerenchyma, xylem and phlo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ture region has side roots and fully differentiated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young dicot root, in pl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verse section of a young dicot root in det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nlarged Root H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various root t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The root hairs  of the epidermis absorb water and mineral sa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enchyma of the cortex stores starch and the intercellular spaces allow water and mineral salts to pass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ssage cells of the endodermis direct water into the xylem of the ste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cycle gives rise to sid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xylem transports water and mineral salts from the roots to the stem and leaves.  It also provides strength to the pl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loem transports manufactured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scular cambium gives rise to additional xylem and phloem as the root grows in thic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ctions of the 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leaves in a favourable position to receive light for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old the flowers in a favourable position for pol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stems contain chlorophyll and they therefore manufacture food by the process of photosynthe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store food and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water and mineral salts from roots to le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nsport food from the leaves to the roo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F6A15-1A38-4488-868E-33BBD80FB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5EA5E-FACD-4591-BDE2-1FD8E0C99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D0B16-A9CE-466C-8697-2B85F051E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CE0CA-0411-4E3E-87C0-2D2DF656F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17EC0-0CB7-4808-8969-1D6AA3E8B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8DC35-C054-46EF-B7DA-1BC3BC5AC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234CB-3BA2-4415-9333-12D087678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33BB1-0049-4C8E-9DC0-E6C606A32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A94FA-8BF0-42B5-BDC6-28A481869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6D200-0170-4525-9A11-E3D94545A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E7F8F-BEF8-4018-8D58-1C2B0A53F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CB75E-6BAB-4611-A459-1A00ED300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CD35D-C4A1-48A3-ABFC-6B934478B866}"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B5B6-448A-48D6-942F-3F41B4862C50}" type="slidenum">
              <a:rPr b="0" lang="en-Z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za/imgres?imgurl=http://www.banglapedia.org/httpdocs/Images/DicotPlantE.jpg&amp;imgrefurl=http://www.banglapedia.org/httpdocs/HT/D_0219.HTM&amp;usg=__JhDjtt2ICyD-hke3edMgfK8p2Gg=&amp;h=342&amp;w=300&amp;sz=43&amp;hl=en&amp;start=6&amp;sig2=1X_jgK71NVqb0soNsOEO8g&amp;tbnid=gL2yvQnsceRLCM:&amp;tbnh=120&amp;tbnw=105&amp;prev=/images?q=dicot+plant&amp;gbv=2&amp;hl=en&amp;sa=G&amp;ei=gkBCS6_xOsjRnAey5OHGAg" TargetMode="External"/><Relationship Id="rId2" Type="http://schemas.openxmlformats.org/officeDocument/2006/relationships/image" Target="../media/image1.jpeg"/><Relationship Id="rId3" Type="http://schemas.openxmlformats.org/officeDocument/2006/relationships/hyperlink" Target="http://images.google.co.za/imgres?imgurl=http://bp0.blogger.com/_l3UibfqaO3Y/SIVrB4tKzKI/AAAAAAAAABI/L16pJM7DZAM/s320/DSC01177.JPG&amp;imgrefurl=http://apbio12008.blogspot.com/2008/07/collected-items.html&amp;usg=__NQAyqOqLYS0vkwZw4rMzc9GRgAY=&amp;h=320&amp;w=274&amp;sz=32&amp;hl=en&amp;start=13&amp;sig2=n2k-ilANXf03lhK-8PZLjA&amp;tbnid=0x445tOzbBlVUM:&amp;tbnh=118&amp;tbnw=101&amp;prev=/images?q=dicot+plant&amp;gbv=2&amp;hl=en&amp;sa=G&amp;ei=gkBCS6_xOsjRnAey5OHGAg" TargetMode="External"/><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images.google.co.za/imgres?imgurl=http://www.realtrees4kids.org/images/6-8images/dougfirrings.jpg&amp;imgrefurl=http://www.realtrees4kids.org/sixeight/stemsrings.htm&amp;usg=___yhMuUqfx4RCNGIQ7qr_6KEBlAg=&amp;h=303&amp;w=300&amp;sz=19&amp;hl=en&amp;start=2&amp;sig2=Nh_G5Lwm2Q9J9C4RjNMHNA&amp;tbnid=2kjsw_GLjrpIuM:&amp;tbnh=116&amp;tbnw=115&amp;prev=/images?q=annual+rings&amp;gbv=2&amp;hl=en&amp;sa=G&amp;ei=MO5AS_6xMcHlnQfIgJWPBw"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za/imgres?imgurl=http://click4biology.info/c4b/9/images/9.2/xylem.gif&amp;imgrefurl=http://click4biology.info/c4b/9/plant9.2.htm&amp;usg=__zdNnExicUK--sYi-_hUvza8z2_g=&amp;h=210&amp;w=250&amp;sz=4&amp;hl=en&amp;start=2&amp;sig2=t79BRGDvgpZLoTYrGUQZOg&amp;tbnid=sSp0_7ED1PChJM:&amp;tbnh=93&amp;tbnw=111&amp;prev=/images?q=Xylem+vessels+annular+thickening&amp;gbv=2&amp;hl=en&amp;sa=G&amp;ei=WvNAS6u5FaW0nAfDlPzzCg" TargetMode="External"/><Relationship Id="rId2" Type="http://schemas.openxmlformats.org/officeDocument/2006/relationships/image" Target="../media/image16.jpeg"/><Relationship Id="rId3" Type="http://schemas.openxmlformats.org/officeDocument/2006/relationships/hyperlink" Target="http://images.google.co.za/imgres?imgurl=http://image.tutorvista.com/content/plant-histology/xylem-tracheae-left-side-section.jpeg&amp;imgrefurl=http://www.tutorvista.com/content/biology/biology-iii/plant-histology/xylem.php&amp;usg=__46rSGTn0tC6XptOKNgLbmX02OUI=&amp;h=248&amp;w=167&amp;sz=10&amp;hl=en&amp;start=4&amp;sig2=TKE3b-3lTMffMwsEVHmhOQ&amp;tbnid=5Qjyii3t6_HQnM:&amp;tbnh=111&amp;tbnw=75&amp;prev=/images?q=Xylem+vessels+annular+thickening&amp;gbv=2&amp;hl=en&amp;sa=G&amp;ei=WvNAS6u5FaW0nAfDlPzzCg" TargetMode="External"/><Relationship Id="rId4" Type="http://schemas.openxmlformats.org/officeDocument/2006/relationships/image" Target="../media/image17.jpeg"/><Relationship Id="rId5" Type="http://schemas.openxmlformats.org/officeDocument/2006/relationships/hyperlink" Target="http://images.google.co.za/imgres?imgurl=http://www.csupomona.edu/~gdbrum/bot124/images/scalariform%20xylem.jpg&amp;imgrefurl=http://mortada8.maktoobblog.com/1536586/types-of-plants-cells-part-3-the-vascular-system/&amp;usg=__V97AH01LAhfUOAaTmrWBJUvV-yo=&amp;h=848&amp;w=640&amp;sz=381&amp;hl=en&amp;start=5&amp;sig2=KJjkGaNqXlKvulMLPq3a_A&amp;tbnid=JMMScqOOcEHkfM:&amp;tbnh=145&amp;tbnw=109&amp;prev=/images?q=Xylem+vessels+scalariform+thickening&amp;gbv=2&amp;hl=en&amp;sa=G&amp;ei=IfRAS-TOE-iKnAeQj93uAQ" TargetMode="External"/><Relationship Id="rId6" Type="http://schemas.openxmlformats.org/officeDocument/2006/relationships/image" Target="../media/image18.jpeg"/><Relationship Id="rId7" Type="http://schemas.openxmlformats.org/officeDocument/2006/relationships/hyperlink" Target="http://images.google.co.za/imgres?imgurl=http://www.studentsguide.in/biology/morphology-anatomy-flowering-plants/images/pitted.jpg&amp;imgrefurl=http://www.studentsguide.in/biology/morphology-anatomy-flowering-plants/types-of-xylum.html&amp;usg=__Xpdh_yrnTMgISVjD6W4YBFK9Ma0=&amp;h=182&amp;w=71&amp;sz=2&amp;hl=en&amp;start=47&amp;sig2=TgbmDfRr-kp_HCPD9hUxmA&amp;tbnid=V3ViJHoLixvFQM:&amp;tbnh=101&amp;tbnw=39&amp;prev=/images?q=Xylem+vessels+pitted+thickening&amp;gbv=2&amp;ndsp=18&amp;hl=en&amp;sa=N&amp;start=36&amp;ei=mPRAS_nNHumKnAe4-ZScCg" TargetMode="External"/><Relationship Id="rId8" Type="http://schemas.openxmlformats.org/officeDocument/2006/relationships/image" Target="../media/image19.jpeg"/><Relationship Id="rId9" Type="http://schemas.openxmlformats.org/officeDocument/2006/relationships/hyperlink" Target="http://images.google.co.za/imgres?imgurl=http://sols.unlv.edu/Schulte/Anatomy/CellsTissues/TracheidWalls1.jpg&amp;imgrefurl=http://sols.unlv.edu/Schulte/Anatomy/CellsTissues/Cells.html&amp;usg=__zrQx0puJQOEDtHWlm-I16OBIpCE=&amp;h=597&amp;w=766&amp;sz=108&amp;hl=en&amp;start=1&amp;sig2=8XoxjwYuXdhoQwfpAuBC0Q&amp;tbnid=FOliKiIdmorPVM:&amp;tbnh=111&amp;tbnw=142&amp;prev=/images?q=xylem+tracheids&amp;gbv=2&amp;hl=en&amp;sa=G&amp;ei=f_VAS-3zBZu6nAfS79iCCQ" TargetMode="External"/><Relationship Id="rId10" Type="http://schemas.openxmlformats.org/officeDocument/2006/relationships/image" Target="../media/image20.jpeg"/><Relationship Id="rId11" Type="http://schemas.openxmlformats.org/officeDocument/2006/relationships/hyperlink" Target="http://images.google.co.za/imgres?imgurl=http://www.uic.edu/classes/bios/bios100/labs/trachei1.gif&amp;imgrefurl=http://www.uic.edu/classes/bios/bios100/labs/plantanatomy.htm&amp;usg=__zTrtf7qSe5b1B0Aaypzmp8MUsNk=&amp;h=252&amp;w=264&amp;sz=7&amp;hl=en&amp;start=4&amp;sig2=9ZIDNJ65Dc7087YblCQ5oA&amp;tbnid=4P8exugY6hv9OM:&amp;tbnh=107&amp;tbnw=112&amp;prev=/images?q=xylem+tracheids&amp;gbv=2&amp;hl=en&amp;sa=G&amp;ei=f_VAS-3zBZu6nAfS79iCCQ" TargetMode="External"/><Relationship Id="rId12" Type="http://schemas.openxmlformats.org/officeDocument/2006/relationships/image" Target="../media/image21.jpeg"/><Relationship Id="rId13" Type="http://schemas.openxmlformats.org/officeDocument/2006/relationships/slideLayout" Target="../slideLayouts/slideLayout1.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images.google.co.za/imgres?imgurl=http://img.sparknotes.com/figures/D/de8ebcc8ff4d3a7214b83f580ad855f3/phloem.gif&amp;imgrefurl=http://www.sparknotes.com/biology/plants/plantclassification/section2.rhtml&amp;usg=__DZRwaqp8aQg8uOr8ih7LYZUyJE8=&amp;h=456&amp;w=399&amp;sz=28&amp;hl=en&amp;start=8&amp;sig2=TnU1s5ZJDvCiFtsvPZGHjw&amp;tbnid=F-72_SWUckK3xM:&amp;tbnh=128&amp;tbnw=112&amp;prev=/images?q=phloem+tissue&amp;gbv=2&amp;hl=en&amp;sa=G&amp;ei=mftAS9LaINT5nAe0n62RBw" TargetMode="External"/><Relationship Id="rId2" Type="http://schemas.openxmlformats.org/officeDocument/2006/relationships/image" Target="../media/image22.jpeg"/><Relationship Id="rId3" Type="http://schemas.openxmlformats.org/officeDocument/2006/relationships/hyperlink" Target="http://images.google.co.za/imgres?imgurl=http://image.tutorvista.com/content/plant-histology/phloem-structure.jpeg&amp;imgrefurl=http://www.tutorvista.com/content/biology/biology-iii/plant-histology/phloem.php&amp;usg=__K5o8P33-Lep0g5iotHdeCzylyZU=&amp;h=281&amp;w=212&amp;sz=14&amp;hl=en&amp;start=84&amp;sig2=_r7uZ_pvrXFY9nPyM8eiKw&amp;tbnid=eDt5tCSa_rbaoM:&amp;tbnh=114&amp;tbnw=86&amp;prev=/images?q=phloem+tissue&amp;gbv=2&amp;ndsp=18&amp;hl=en&amp;sa=N&amp;start=72&amp;ei=ofxAS6XYH5DvnQfglI2YBw" TargetMode="External"/><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za/imgres?imgurl=http://image.tutorvista.com/content/tissues/collenchyma-simple-tissue.jpeg&amp;imgrefurl=http://www.tutorvista.com/content/science/science-i/tissues/permanent-tissues.php&amp;usg=__T7QxKfzydgZ0T9yu-qokZFXLSd8=&amp;h=273&amp;w=268&amp;sz=22&amp;hl=en&amp;start=29&amp;sig2=-RaJOHjOCIPJhSQp2nurVQ&amp;tbnid=YBtFvRGr3-nq5M:&amp;tbnh=113&amp;tbnw=111&amp;prev=/images?q=collenchyma+cells&amp;gbv=2&amp;ndsp=18&amp;hl=en&amp;sa=N&amp;start=18&amp;ei=2P1AS76OFumrnAe165yaBw" TargetMode="External"/><Relationship Id="rId2" Type="http://schemas.openxmlformats.org/officeDocument/2006/relationships/image" Target="../media/image24.jpeg"/><Relationship Id="rId3" Type="http://schemas.openxmlformats.org/officeDocument/2006/relationships/hyperlink" Target="http://images.google.co.za/imgres?imgurl=http://www.sbs.utexas.edu/mauseth/weblab/webchap5scler/webopener5scler.jpg&amp;imgrefurl=http://www.sbs.utexas.edu/mauseth/weblab/webchap5scler/chapter_5.htm&amp;usg=__GD5TqXjuFFv8SAqATVMW__qFw1g=&amp;h=240&amp;w=320&amp;sz=49&amp;hl=en&amp;start=6&amp;sig2=f7FxLZ_0xBjD8j1PYOgG4w&amp;tbnid=aIdgKDx7Y_dWIM:&amp;tbnh=89&amp;tbnw=118&amp;prev=/images?q=Sclerenchyma&amp;gbv=2&amp;hl=en&amp;sa=G&amp;ei=HP5AS7WUNJ-NnAern-mbBw"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71360"/>
            <a:ext cx="7772400" cy="2143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SUPPORT AND TRANSPORT IN PLANT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14240" y="3214800"/>
            <a:ext cx="6986880" cy="6141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Bookman"/>
              </a:rPr>
              <a:t>ANATOMY OF DICOT PLANTS</a:t>
            </a:r>
            <a:endParaRPr b="0" lang="en-US" sz="3200" spc="-1" strike="noStrike">
              <a:solidFill>
                <a:srgbClr val="000000"/>
              </a:solidFill>
              <a:latin typeface="Calibri"/>
            </a:endParaRPr>
          </a:p>
        </p:txBody>
      </p:sp>
      <p:pic>
        <p:nvPicPr>
          <p:cNvPr id="50" name="Picture 2" descr="http://t2.gstatic.com/images?q=tbn:gL2yvQnsceRLCM:http://www.banglapedia.org/httpdocs/Images/DicotPlantE.jpg">
            <a:hlinkClick r:id="rId1"/>
          </p:cNvPr>
          <p:cNvPicPr/>
          <p:nvPr/>
        </p:nvPicPr>
        <p:blipFill>
          <a:blip r:embed="rId2"/>
          <a:stretch/>
        </p:blipFill>
        <p:spPr>
          <a:xfrm>
            <a:off x="1143000" y="3929040"/>
            <a:ext cx="1714680" cy="2428920"/>
          </a:xfrm>
          <a:prstGeom prst="rect">
            <a:avLst/>
          </a:prstGeom>
          <a:ln w="0">
            <a:noFill/>
          </a:ln>
        </p:spPr>
      </p:pic>
      <p:pic>
        <p:nvPicPr>
          <p:cNvPr id="51" name="Picture 6" descr="http://t0.gstatic.com/images?q=tbn:0x445tOzbBlVUM:http://bp0.blogger.com/_l3UibfqaO3Y/SIVrB4tKzKI/AAAAAAAAABI/L16pJM7DZAM/s320/DSC01177.JPG">
            <a:hlinkClick r:id="rId3"/>
          </p:cNvPr>
          <p:cNvPicPr/>
          <p:nvPr/>
        </p:nvPicPr>
        <p:blipFill>
          <a:blip r:embed="rId4"/>
          <a:stretch/>
        </p:blipFill>
        <p:spPr>
          <a:xfrm>
            <a:off x="5715000" y="3929040"/>
            <a:ext cx="1714680" cy="2428920"/>
          </a:xfrm>
          <a:prstGeom prst="rect">
            <a:avLst/>
          </a:prstGeom>
          <a:ln w="0">
            <a:noFill/>
          </a:ln>
        </p:spPr>
      </p:pic>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External structure of a dicot stem</a:t>
            </a:r>
            <a:endParaRPr b="0" lang="en-US" sz="3200" spc="-1" strike="noStrike">
              <a:solidFill>
                <a:srgbClr val="000000"/>
              </a:solidFill>
              <a:latin typeface="Calibri"/>
            </a:endParaRPr>
          </a:p>
        </p:txBody>
      </p:sp>
      <p:pic>
        <p:nvPicPr>
          <p:cNvPr id="81" name="Picture 2" descr=""/>
          <p:cNvPicPr/>
          <p:nvPr/>
        </p:nvPicPr>
        <p:blipFill>
          <a:blip r:embed="rId1"/>
          <a:stretch/>
        </p:blipFill>
        <p:spPr>
          <a:xfrm>
            <a:off x="2143080" y="928800"/>
            <a:ext cx="4429080" cy="5715000"/>
          </a:xfrm>
          <a:prstGeom prst="rect">
            <a:avLst/>
          </a:prstGeom>
          <a:ln w="0">
            <a:noFill/>
          </a:ln>
        </p:spPr>
      </p:pic>
      <p:sp>
        <p:nvSpPr>
          <p:cNvPr id="8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14200" y="274320"/>
            <a:ext cx="8715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ransverse section of a young dicot stem in plan</a:t>
            </a:r>
            <a:endParaRPr b="0" lang="en-US" sz="3200" spc="-1" strike="noStrike">
              <a:solidFill>
                <a:srgbClr val="000000"/>
              </a:solidFill>
              <a:latin typeface="Calibri"/>
            </a:endParaRPr>
          </a:p>
        </p:txBody>
      </p:sp>
      <p:pic>
        <p:nvPicPr>
          <p:cNvPr id="84" name="Picture 2" descr=""/>
          <p:cNvPicPr/>
          <p:nvPr/>
        </p:nvPicPr>
        <p:blipFill>
          <a:blip r:embed="rId1"/>
          <a:stretch/>
        </p:blipFill>
        <p:spPr>
          <a:xfrm>
            <a:off x="571680" y="1214280"/>
            <a:ext cx="8143560" cy="5214960"/>
          </a:xfrm>
          <a:prstGeom prst="rect">
            <a:avLst/>
          </a:prstGeom>
          <a:ln w="0">
            <a:noFill/>
          </a:ln>
        </p:spPr>
      </p:pic>
      <p:sp>
        <p:nvSpPr>
          <p:cNvPr id="8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a young dicot stem in detail</a:t>
            </a:r>
            <a:endParaRPr b="0" lang="en-US" sz="2900" spc="-1" strike="noStrike">
              <a:solidFill>
                <a:srgbClr val="000000"/>
              </a:solidFill>
              <a:latin typeface="Calibri"/>
            </a:endParaRPr>
          </a:p>
        </p:txBody>
      </p:sp>
      <p:pic>
        <p:nvPicPr>
          <p:cNvPr id="87" name="Picture 2" descr=""/>
          <p:cNvPicPr/>
          <p:nvPr/>
        </p:nvPicPr>
        <p:blipFill>
          <a:blip r:embed="rId1"/>
          <a:stretch/>
        </p:blipFill>
        <p:spPr>
          <a:xfrm>
            <a:off x="928800" y="785880"/>
            <a:ext cx="6858000" cy="6072120"/>
          </a:xfrm>
          <a:prstGeom prst="rect">
            <a:avLst/>
          </a:prstGeom>
          <a:ln w="0">
            <a:noFill/>
          </a:ln>
        </p:spPr>
      </p:pic>
      <p:sp>
        <p:nvSpPr>
          <p:cNvPr id="88"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Functions of the various stem tissues</a:t>
            </a:r>
            <a:endParaRPr b="0" lang="en-US" sz="3200" spc="-1" strike="noStrike">
              <a:solidFill>
                <a:srgbClr val="000000"/>
              </a:solidFill>
              <a:latin typeface="Calibri"/>
            </a:endParaRPr>
          </a:p>
        </p:txBody>
      </p:sp>
      <p:sp>
        <p:nvSpPr>
          <p:cNvPr id="90" name=""/>
          <p:cNvSpPr txBox="1"/>
          <p:nvPr/>
        </p:nvSpPr>
        <p:spPr>
          <a:xfrm>
            <a:off x="457200" y="1071360"/>
            <a:ext cx="8229600" cy="57862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reduces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ticle is transparent allowing light to pass through for photosynthesi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pidermis may have guard cells to allow gaseous exchange while at the same time reducing water loss through transpiration.</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hypodermis of sclerenchyma or collenchyma strengthens the stem and helps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enchyma of the cortex stores foo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intercellular air spaces between the parenchyma cells allow for transport of water and gas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odermal cells stores starch.</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clerenchyma fibres gives strength to the plant  and help to keep it uprigh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Xylem transports water and mineral salts from the roots to the leave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hloem transports manufactured food from the leaf to the roots</a:t>
            </a:r>
            <a:endParaRPr b="0" lang="en-US" sz="2200" spc="-1" strike="noStrike">
              <a:solidFill>
                <a:srgbClr val="000000"/>
              </a:solidFill>
              <a:latin typeface="Calibri"/>
            </a:endParaRPr>
          </a:p>
        </p:txBody>
      </p:sp>
      <p:sp>
        <p:nvSpPr>
          <p:cNvPr id="9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Secondary growth of the stem</a:t>
            </a:r>
            <a:endParaRPr b="0" lang="en-US" sz="3200" spc="-1" strike="noStrike">
              <a:solidFill>
                <a:srgbClr val="000000"/>
              </a:solidFill>
              <a:latin typeface="Calibri"/>
            </a:endParaRPr>
          </a:p>
        </p:txBody>
      </p:sp>
      <p:sp>
        <p:nvSpPr>
          <p:cNvPr id="93" name=""/>
          <p:cNvSpPr txBox="1"/>
          <p:nvPr/>
        </p:nvSpPr>
        <p:spPr>
          <a:xfrm>
            <a:off x="457200" y="1143000"/>
            <a:ext cx="8229600" cy="4857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Increase in thickness of the stem is called secondary growth or secondary thicknes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lbertus MT Lt"/>
              </a:rPr>
              <a:t>Secondary thickness takes place in 3 ste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secondary xylem and secondary phlo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cor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Formation of lenticels</a:t>
            </a:r>
            <a:endParaRPr b="0" lang="en-US" sz="2400" spc="-1" strike="noStrike">
              <a:solidFill>
                <a:srgbClr val="000000"/>
              </a:solidFill>
              <a:latin typeface="Calibri"/>
            </a:endParaRPr>
          </a:p>
        </p:txBody>
      </p:sp>
      <p:sp>
        <p:nvSpPr>
          <p:cNvPr id="9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8472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Formation of secondary xylem and secondary phloem</a:t>
            </a:r>
            <a:endParaRPr b="0" lang="en-US" sz="2900" spc="-1" strike="noStrike">
              <a:solidFill>
                <a:srgbClr val="000000"/>
              </a:solidFill>
              <a:latin typeface="Calibri"/>
            </a:endParaRPr>
          </a:p>
        </p:txBody>
      </p:sp>
      <p:sp>
        <p:nvSpPr>
          <p:cNvPr id="96" name=""/>
          <p:cNvSpPr txBox="1"/>
          <p:nvPr/>
        </p:nvSpPr>
        <p:spPr>
          <a:xfrm>
            <a:off x="457200" y="999720"/>
            <a:ext cx="8229600" cy="56437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enchyma cells between the vascular bundles begin to divide. This with vascular cambium forms a complete ring of cambiu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ntire cambium divides to form secondary xylem on the inside and secondary phloem on the outsid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very year a new ring of secondary xylem is formed.  These are called the annual rings. (can tell the age of the tree by counting annual ring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xylem cells making up the older annual rings becomes clogged and are no longer able to transport water and mineral salts.  They become heartwoo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97"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u="sng">
                <a:solidFill>
                  <a:srgbClr val="000000"/>
                </a:solidFill>
                <a:uFillTx/>
                <a:latin typeface="Albertus MT Lt"/>
              </a:rPr>
              <a:t>Transverse section of stem after a complete ring of cambium has been formed</a:t>
            </a:r>
            <a:endParaRPr b="0" lang="en-US" sz="2900" spc="-1" strike="noStrike">
              <a:solidFill>
                <a:srgbClr val="000000"/>
              </a:solidFill>
              <a:latin typeface="Calibri"/>
            </a:endParaRPr>
          </a:p>
        </p:txBody>
      </p:sp>
      <p:pic>
        <p:nvPicPr>
          <p:cNvPr id="99" name="Picture 2" descr=""/>
          <p:cNvPicPr/>
          <p:nvPr/>
        </p:nvPicPr>
        <p:blipFill>
          <a:blip r:embed="rId1"/>
          <a:stretch/>
        </p:blipFill>
        <p:spPr>
          <a:xfrm>
            <a:off x="642960" y="1428840"/>
            <a:ext cx="7929720" cy="4857840"/>
          </a:xfrm>
          <a:prstGeom prst="rect">
            <a:avLst/>
          </a:prstGeom>
          <a:ln w="0">
            <a:noFill/>
          </a:ln>
        </p:spPr>
      </p:pic>
      <p:sp>
        <p:nvSpPr>
          <p:cNvPr id="10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Lt"/>
              </a:rPr>
              <a:t>Formation of Cork</a:t>
            </a:r>
            <a:endParaRPr b="0" lang="en-US" sz="2900" spc="-1" strike="noStrike">
              <a:solidFill>
                <a:srgbClr val="000000"/>
              </a:solidFill>
              <a:latin typeface="Calibri"/>
            </a:endParaRPr>
          </a:p>
        </p:txBody>
      </p:sp>
      <p:sp>
        <p:nvSpPr>
          <p:cNvPr id="102" name=""/>
          <p:cNvSpPr txBox="1"/>
          <p:nvPr/>
        </p:nvSpPr>
        <p:spPr>
          <a:xfrm>
            <a:off x="457200" y="785880"/>
            <a:ext cx="8229600" cy="53402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tain parenchyma cells in the cortex begin to divide and form cork cambiu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ambium divides to form cork cells on its outsid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rk cells have suberin laid down on their cell wall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428760" y="2714760"/>
            <a:ext cx="8072280" cy="4143240"/>
          </a:xfrm>
          <a:prstGeom prst="rect">
            <a:avLst/>
          </a:prstGeom>
          <a:ln w="0">
            <a:noFill/>
          </a:ln>
        </p:spPr>
      </p:pic>
      <p:sp>
        <p:nvSpPr>
          <p:cNvPr id="10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nual Rings</a:t>
            </a:r>
            <a:endParaRPr b="0" lang="en-US" sz="4400" spc="-1" strike="noStrike">
              <a:solidFill>
                <a:srgbClr val="000000"/>
              </a:solidFill>
              <a:latin typeface="Calibri"/>
            </a:endParaRPr>
          </a:p>
        </p:txBody>
      </p:sp>
      <p:pic>
        <p:nvPicPr>
          <p:cNvPr id="106" name="Picture 2" descr="http://www.detectingdesign.com/images/Dendrochronology/TreeRings3.jpg"/>
          <p:cNvPicPr/>
          <p:nvPr/>
        </p:nvPicPr>
        <p:blipFill>
          <a:blip r:embed="rId1"/>
          <a:stretch/>
        </p:blipFill>
        <p:spPr>
          <a:xfrm>
            <a:off x="357120" y="1785960"/>
            <a:ext cx="3714840" cy="4500720"/>
          </a:xfrm>
          <a:prstGeom prst="rect">
            <a:avLst/>
          </a:prstGeom>
          <a:ln w="0">
            <a:noFill/>
          </a:ln>
        </p:spPr>
      </p:pic>
      <p:pic>
        <p:nvPicPr>
          <p:cNvPr id="107" name="Picture 6" descr="http://t0.gstatic.com/images?q=tbn:2kjsw_GLjrpIuM:http://www.realtrees4kids.org/images/6-8images/dougfirrings.jpg">
            <a:hlinkClick r:id="rId2"/>
          </p:cNvPr>
          <p:cNvPicPr/>
          <p:nvPr/>
        </p:nvPicPr>
        <p:blipFill>
          <a:blip r:embed="rId3"/>
          <a:stretch/>
        </p:blipFill>
        <p:spPr>
          <a:xfrm>
            <a:off x="4643280" y="1857240"/>
            <a:ext cx="4000680" cy="4429440"/>
          </a:xfrm>
          <a:prstGeom prst="rect">
            <a:avLst/>
          </a:prstGeom>
          <a:ln w="0">
            <a:noFill/>
          </a:ln>
        </p:spPr>
      </p:pic>
      <p:sp>
        <p:nvSpPr>
          <p:cNvPr id="10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Formation of Lenticles</a:t>
            </a:r>
            <a:endParaRPr b="0" lang="en-US" sz="3200" spc="-1" strike="noStrike">
              <a:solidFill>
                <a:srgbClr val="000000"/>
              </a:solidFill>
              <a:latin typeface="Calibri"/>
            </a:endParaRPr>
          </a:p>
        </p:txBody>
      </p:sp>
      <p:sp>
        <p:nvSpPr>
          <p:cNvPr id="110" name=""/>
          <p:cNvSpPr txBox="1"/>
          <p:nvPr/>
        </p:nvSpPr>
        <p:spPr>
          <a:xfrm>
            <a:off x="457200" y="857160"/>
            <a:ext cx="8229600" cy="526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woody stems the stomata are blocked by the presence of cork cell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pidermis of woody stems breaks up to form tiny pores called lenticles which allow gaseous exchange</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111" name="Picture 2" descr="http://www.nhmi.org/mangroves/pic/w37.jpg"/>
          <p:cNvPicPr/>
          <p:nvPr/>
        </p:nvPicPr>
        <p:blipFill>
          <a:blip r:embed="rId1"/>
          <a:stretch/>
        </p:blipFill>
        <p:spPr>
          <a:xfrm>
            <a:off x="928800" y="2714760"/>
            <a:ext cx="2628720" cy="3838320"/>
          </a:xfrm>
          <a:prstGeom prst="rect">
            <a:avLst/>
          </a:prstGeom>
          <a:ln w="0">
            <a:noFill/>
          </a:ln>
        </p:spPr>
      </p:pic>
      <p:pic>
        <p:nvPicPr>
          <p:cNvPr id="112" name="Picture 4" descr="http://www.botgard.ucla.edu/html/botanytextbooks/generalbotany/images/barkfeatures/Lenticels4.jpg"/>
          <p:cNvPicPr/>
          <p:nvPr/>
        </p:nvPicPr>
        <p:blipFill>
          <a:blip r:embed="rId2"/>
          <a:stretch/>
        </p:blipFill>
        <p:spPr>
          <a:xfrm>
            <a:off x="4857840" y="2857680"/>
            <a:ext cx="2286000" cy="3495600"/>
          </a:xfrm>
          <a:prstGeom prst="rect">
            <a:avLst/>
          </a:prstGeom>
          <a:ln w="0">
            <a:noFill/>
          </a:ln>
        </p:spPr>
      </p:pic>
      <p:sp>
        <p:nvSpPr>
          <p:cNvPr id="11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ookman"/>
              </a:rPr>
              <a:t>The Roo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Two types of root syste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tap root system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84807"/>
                </a:solidFill>
                <a:latin typeface="Calibri"/>
              </a:rPr>
              <a:t>     </a:t>
            </a:r>
            <a:r>
              <a:rPr b="0" lang="en-US" sz="3200" spc="-1" strike="noStrike">
                <a:solidFill>
                  <a:srgbClr val="984807"/>
                </a:solidFill>
                <a:latin typeface="Calibri"/>
              </a:rPr>
              <a:t>- adventitious roo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55" name=""/>
          <p:cNvGraphicFramePr/>
          <p:nvPr/>
        </p:nvGraphicFramePr>
        <p:xfrm>
          <a:off x="428760" y="3500280"/>
          <a:ext cx="8358120" cy="2382840"/>
        </p:xfrm>
        <a:graphic>
          <a:graphicData uri="http://schemas.openxmlformats.org/drawingml/2006/table">
            <a:tbl>
              <a:tblPr/>
              <a:tblGrid>
                <a:gridCol w="4179600"/>
                <a:gridCol w="4178520"/>
              </a:tblGrid>
              <a:tr h="402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TAP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man"/>
                        </a:rPr>
                        <a:t>ADVENTITIOUS ROOT SYSTEM</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40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Arises from any part of the plant except from the radicle of the embryo</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24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a:rPr>
                        <a:t>- Main root cannot be distinguished</a:t>
                      </a:r>
                      <a:endParaRPr b="0" lang="en-US" sz="2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lbertus MT Lt"/>
              </a:rPr>
              <a:t>XYLEM</a:t>
            </a:r>
            <a:endParaRPr b="0" lang="en-US" sz="2200" spc="-1" strike="noStrike">
              <a:solidFill>
                <a:srgbClr val="000000"/>
              </a:solidFill>
              <a:latin typeface="Calibri"/>
            </a:endParaRPr>
          </a:p>
        </p:txBody>
      </p:sp>
      <p:sp>
        <p:nvSpPr>
          <p:cNvPr id="115" name=""/>
          <p:cNvSpPr txBox="1"/>
          <p:nvPr/>
        </p:nvSpPr>
        <p:spPr>
          <a:xfrm>
            <a:off x="457200" y="714240"/>
            <a:ext cx="8229600" cy="5857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issue is made up of four types of cel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vessel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tracheids</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sclerenchyma</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	</a:t>
            </a:r>
            <a:r>
              <a:rPr b="0" lang="en-US" sz="2200" spc="-1" strike="noStrike">
                <a:solidFill>
                  <a:srgbClr val="000000"/>
                </a:solidFill>
                <a:latin typeface="Albertus MT Lt"/>
              </a:rPr>
              <a:t>- xylem parenchyma</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nd xylem tracheids are highly specialised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are dead cells.  They are long, cylindrical cell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Their cross walls are perforated or completely absent and form continuous tubes from roots to leav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vessels have thick walls made up of ligni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Lignin is laid down in various pattern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Annular thickening ( lignin laid in circle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piral thickening ( lignin laid in spiral)</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Scalariform thickening (laid in ladder for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lbertus MT L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Pitted thickening (laid in pits)</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lbertus MT Lt"/>
              </a:rPr>
              <a:t>Xylem tracheids are similar to xylem vessels except that the ends are tapered and cross walls are always present</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Xylem Vessels</a:t>
            </a:r>
            <a:endParaRPr b="0" lang="en-US" sz="4000" spc="-1" strike="noStrike">
              <a:solidFill>
                <a:srgbClr val="000000"/>
              </a:solidFill>
              <a:latin typeface="Calibri"/>
            </a:endParaRPr>
          </a:p>
        </p:txBody>
      </p:sp>
      <p:pic>
        <p:nvPicPr>
          <p:cNvPr id="118" name="Picture 2" descr="http://t0.gstatic.com/images?q=tbn:sSp0_7ED1PChJM:http://click4biology.info/c4b/9/images/9.2/xylem.gif">
            <a:hlinkClick r:id="rId1"/>
          </p:cNvPr>
          <p:cNvPicPr/>
          <p:nvPr/>
        </p:nvPicPr>
        <p:blipFill>
          <a:blip r:embed="rId2"/>
          <a:stretch/>
        </p:blipFill>
        <p:spPr>
          <a:xfrm>
            <a:off x="428760" y="857160"/>
            <a:ext cx="1928520" cy="2571840"/>
          </a:xfrm>
          <a:prstGeom prst="rect">
            <a:avLst/>
          </a:prstGeom>
          <a:ln w="0">
            <a:noFill/>
          </a:ln>
        </p:spPr>
      </p:pic>
      <p:pic>
        <p:nvPicPr>
          <p:cNvPr id="119" name="Picture 6" descr="http://t2.gstatic.com/images?q=tbn:5Qjyii3t6_HQnM:http://image.tutorvista.com/content/plant-histology/xylem-tracheae-left-side-section.jpeg">
            <a:hlinkClick r:id="rId3"/>
          </p:cNvPr>
          <p:cNvPicPr/>
          <p:nvPr/>
        </p:nvPicPr>
        <p:blipFill>
          <a:blip r:embed="rId4"/>
          <a:stretch/>
        </p:blipFill>
        <p:spPr>
          <a:xfrm>
            <a:off x="2571840" y="857160"/>
            <a:ext cx="1071360" cy="2500560"/>
          </a:xfrm>
          <a:prstGeom prst="rect">
            <a:avLst/>
          </a:prstGeom>
          <a:ln w="0">
            <a:noFill/>
          </a:ln>
        </p:spPr>
      </p:pic>
      <p:pic>
        <p:nvPicPr>
          <p:cNvPr id="120" name="Picture 10" descr="http://t2.gstatic.com/images?q=tbn:JMMScqOOcEHkfM:http://www.csupomona.edu/~gdbrum/bot124/images/scalariform%2520xylem.jpg">
            <a:hlinkClick r:id="rId5"/>
          </p:cNvPr>
          <p:cNvPicPr/>
          <p:nvPr/>
        </p:nvPicPr>
        <p:blipFill>
          <a:blip r:embed="rId6"/>
          <a:stretch/>
        </p:blipFill>
        <p:spPr>
          <a:xfrm>
            <a:off x="4500720" y="857160"/>
            <a:ext cx="1395360" cy="2357640"/>
          </a:xfrm>
          <a:prstGeom prst="rect">
            <a:avLst/>
          </a:prstGeom>
          <a:ln w="0">
            <a:noFill/>
          </a:ln>
        </p:spPr>
      </p:pic>
      <p:pic>
        <p:nvPicPr>
          <p:cNvPr id="121" name="Picture 12" descr="http://t2.gstatic.com/images?q=tbn:V3ViJHoLixvFQM:http://www.studentsguide.in/biology/morphology-anatomy-flowering-plants/images/pitted.jpg">
            <a:hlinkClick r:id="rId7"/>
          </p:cNvPr>
          <p:cNvPicPr/>
          <p:nvPr/>
        </p:nvPicPr>
        <p:blipFill>
          <a:blip r:embed="rId8"/>
          <a:stretch/>
        </p:blipFill>
        <p:spPr>
          <a:xfrm>
            <a:off x="6858000" y="857160"/>
            <a:ext cx="1214280" cy="2143080"/>
          </a:xfrm>
          <a:prstGeom prst="rect">
            <a:avLst/>
          </a:prstGeom>
          <a:ln w="0">
            <a:noFill/>
          </a:ln>
        </p:spPr>
      </p:pic>
      <p:sp>
        <p:nvSpPr>
          <p:cNvPr id="122" name="TextBox 11"/>
          <p:cNvSpPr/>
          <p:nvPr/>
        </p:nvSpPr>
        <p:spPr>
          <a:xfrm>
            <a:off x="222120" y="32860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nular thickening</a:t>
            </a:r>
            <a:endParaRPr b="0" lang="en-US" sz="1800" spc="-1" strike="noStrike">
              <a:solidFill>
                <a:srgbClr val="000000"/>
              </a:solidFill>
              <a:latin typeface="Arial"/>
            </a:endParaRPr>
          </a:p>
        </p:txBody>
      </p:sp>
      <p:sp>
        <p:nvSpPr>
          <p:cNvPr id="123" name="TextBox 12"/>
          <p:cNvSpPr/>
          <p:nvPr/>
        </p:nvSpPr>
        <p:spPr>
          <a:xfrm>
            <a:off x="4576680" y="3214800"/>
            <a:ext cx="123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alarifor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4" name="TextBox 13"/>
          <p:cNvSpPr/>
          <p:nvPr/>
        </p:nvSpPr>
        <p:spPr>
          <a:xfrm>
            <a:off x="2647440" y="3286080"/>
            <a:ext cx="117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pir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ckening</a:t>
            </a:r>
            <a:endParaRPr b="0" lang="en-US" sz="1800" spc="-1" strike="noStrike">
              <a:solidFill>
                <a:srgbClr val="000000"/>
              </a:solidFill>
              <a:latin typeface="Arial"/>
            </a:endParaRPr>
          </a:p>
        </p:txBody>
      </p:sp>
      <p:sp>
        <p:nvSpPr>
          <p:cNvPr id="125" name="TextBox 14"/>
          <p:cNvSpPr/>
          <p:nvPr/>
        </p:nvSpPr>
        <p:spPr>
          <a:xfrm>
            <a:off x="6580800" y="2928960"/>
            <a:ext cx="177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itted Thickening</a:t>
            </a:r>
            <a:endParaRPr b="0" lang="en-US" sz="1800" spc="-1" strike="noStrike">
              <a:solidFill>
                <a:srgbClr val="000000"/>
              </a:solidFill>
              <a:latin typeface="Arial"/>
            </a:endParaRPr>
          </a:p>
        </p:txBody>
      </p:sp>
      <p:pic>
        <p:nvPicPr>
          <p:cNvPr id="126" name="Picture 14" descr="http://t2.gstatic.com/images?q=tbn:FOliKiIdmorPVM:http://sols.unlv.edu/Schulte/Anatomy/CellsTissues/TracheidWalls1.jpg">
            <a:hlinkClick r:id="rId9"/>
          </p:cNvPr>
          <p:cNvPicPr/>
          <p:nvPr/>
        </p:nvPicPr>
        <p:blipFill>
          <a:blip r:embed="rId10"/>
          <a:stretch/>
        </p:blipFill>
        <p:spPr>
          <a:xfrm>
            <a:off x="642960" y="4500720"/>
            <a:ext cx="2500200" cy="1714320"/>
          </a:xfrm>
          <a:prstGeom prst="rect">
            <a:avLst/>
          </a:prstGeom>
          <a:ln w="0">
            <a:noFill/>
          </a:ln>
        </p:spPr>
      </p:pic>
      <p:pic>
        <p:nvPicPr>
          <p:cNvPr id="127" name="Picture 16" descr="http://t2.gstatic.com/images?q=tbn:4P8exugY6hv9OM:http://www.uic.edu/classes/bios/bios100/labs/trachei1.gif">
            <a:hlinkClick r:id="rId11"/>
          </p:cNvPr>
          <p:cNvPicPr/>
          <p:nvPr/>
        </p:nvPicPr>
        <p:blipFill>
          <a:blip r:embed="rId12"/>
          <a:stretch/>
        </p:blipFill>
        <p:spPr>
          <a:xfrm>
            <a:off x="5072040" y="4357800"/>
            <a:ext cx="3000240" cy="1785960"/>
          </a:xfrm>
          <a:prstGeom prst="rect">
            <a:avLst/>
          </a:prstGeom>
          <a:ln w="0">
            <a:noFill/>
          </a:ln>
        </p:spPr>
      </p:pic>
      <p:sp>
        <p:nvSpPr>
          <p:cNvPr id="128" name="TextBox 17"/>
          <p:cNvSpPr/>
          <p:nvPr/>
        </p:nvSpPr>
        <p:spPr>
          <a:xfrm>
            <a:off x="571680" y="3857760"/>
            <a:ext cx="7643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Xylem Tracheids</a:t>
            </a:r>
            <a:endParaRPr b="0" lang="en-US" sz="3200" spc="-1" strike="noStrike">
              <a:solidFill>
                <a:srgbClr val="000000"/>
              </a:solidFill>
              <a:latin typeface="Arial"/>
            </a:endParaRPr>
          </a:p>
        </p:txBody>
      </p:sp>
      <p:sp>
        <p:nvSpPr>
          <p:cNvPr id="12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Adaptation of xylem to transport</a:t>
            </a:r>
            <a:endParaRPr b="0" lang="en-US" sz="2900" spc="-1" strike="noStrike">
              <a:solidFill>
                <a:srgbClr val="000000"/>
              </a:solidFill>
              <a:latin typeface="Calibri"/>
            </a:endParaRPr>
          </a:p>
        </p:txBody>
      </p:sp>
      <p:sp>
        <p:nvSpPr>
          <p:cNvPr id="131" name=""/>
          <p:cNvSpPr txBox="1"/>
          <p:nvPr/>
        </p:nvSpPr>
        <p:spPr>
          <a:xfrm>
            <a:off x="457200" y="857160"/>
            <a:ext cx="8229600" cy="5268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Cross walls are perforated or completely absent – this forms xylem roots forms continuous tubes with the xylem stems and leav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Xylem vessles have no living contents – allows the water to flow freely insid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The walls of the xylem vessels and tracheids are not completely thickened – the unthickened portions and bordered pits allow water to move across the root and stem</a:t>
            </a:r>
            <a:endParaRPr b="0" lang="en-US" sz="2400" spc="-1" strike="noStrike">
              <a:solidFill>
                <a:srgbClr val="000000"/>
              </a:solidFill>
              <a:latin typeface="Calibri"/>
            </a:endParaRPr>
          </a:p>
        </p:txBody>
      </p:sp>
      <p:sp>
        <p:nvSpPr>
          <p:cNvPr id="132" name="TextBox 4"/>
          <p:cNvSpPr/>
          <p:nvPr/>
        </p:nvSpPr>
        <p:spPr>
          <a:xfrm>
            <a:off x="428760" y="4143240"/>
            <a:ext cx="80722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lbertus MT Lt"/>
              </a:rPr>
              <a:t>Adaptation of xylem to provide strength</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thick-walled – they have a secondary wall of ligni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Lt"/>
              </a:rPr>
              <a:t> </a:t>
            </a:r>
            <a:r>
              <a:rPr b="0" lang="en-US" sz="2400" spc="-1" strike="noStrike">
                <a:solidFill>
                  <a:srgbClr val="000000"/>
                </a:solidFill>
                <a:latin typeface="Albertus MT Lt"/>
              </a:rPr>
              <a:t>the vessels and tracheids are round in cross-section – round structures give additional strength</a:t>
            </a:r>
            <a:endParaRPr b="0" lang="en-US" sz="2400" spc="-1" strike="noStrike">
              <a:solidFill>
                <a:srgbClr val="000000"/>
              </a:solidFill>
              <a:latin typeface="Arial"/>
            </a:endParaRPr>
          </a:p>
        </p:txBody>
      </p:sp>
      <p:sp>
        <p:nvSpPr>
          <p:cNvPr id="133"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Phloem</a:t>
            </a:r>
            <a:endParaRPr b="0" lang="en-US" sz="3200" spc="-1" strike="noStrike">
              <a:solidFill>
                <a:srgbClr val="000000"/>
              </a:solidFill>
              <a:latin typeface="Calibri"/>
            </a:endParaRPr>
          </a:p>
        </p:txBody>
      </p:sp>
      <p:sp>
        <p:nvSpPr>
          <p:cNvPr id="135" name=""/>
          <p:cNvSpPr txBox="1"/>
          <p:nvPr/>
        </p:nvSpPr>
        <p:spPr>
          <a:xfrm>
            <a:off x="457200" y="928440"/>
            <a:ext cx="8229600" cy="51973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tissue is made up of four types of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pa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loem sclerenchym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nd companion cells are highly specialis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eve tubes are living cells with long cylindrical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ir cross walls are perforated to form sieve pl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are thin walle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ontain strands of cytoplasm which run through the sieve plates from one cell to the nex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nion cells lie next to the sieve tubes – they are thin walled, with cross walls and has a well-defined nucleus</a:t>
            </a:r>
            <a:endParaRPr b="0" lang="en-US" sz="2400" spc="-1" strike="noStrike">
              <a:solidFill>
                <a:srgbClr val="000000"/>
              </a:solidFill>
              <a:latin typeface="Calibri"/>
            </a:endParaRPr>
          </a:p>
        </p:txBody>
      </p:sp>
      <p:sp>
        <p:nvSpPr>
          <p:cNvPr id="13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loem tissue</a:t>
            </a:r>
            <a:endParaRPr b="0" lang="en-US" sz="4400" spc="-1" strike="noStrike">
              <a:solidFill>
                <a:srgbClr val="000000"/>
              </a:solidFill>
              <a:latin typeface="Calibri"/>
            </a:endParaRPr>
          </a:p>
        </p:txBody>
      </p:sp>
      <p:pic>
        <p:nvPicPr>
          <p:cNvPr id="138" name="Picture 4" descr="http://t2.gstatic.com/images?q=tbn:F-72_SWUckK3xM:http://img.sparknotes.com/figures/D/de8ebcc8ff4d3a7214b83f580ad855f3/phloem.gif">
            <a:hlinkClick r:id="rId1"/>
          </p:cNvPr>
          <p:cNvPicPr/>
          <p:nvPr/>
        </p:nvPicPr>
        <p:blipFill>
          <a:blip r:embed="rId2"/>
          <a:stretch/>
        </p:blipFill>
        <p:spPr>
          <a:xfrm>
            <a:off x="928800" y="1928880"/>
            <a:ext cx="2714400" cy="3286080"/>
          </a:xfrm>
          <a:prstGeom prst="rect">
            <a:avLst/>
          </a:prstGeom>
          <a:ln w="0">
            <a:noFill/>
          </a:ln>
        </p:spPr>
      </p:pic>
      <p:pic>
        <p:nvPicPr>
          <p:cNvPr id="139" name="Picture 6" descr="http://t1.gstatic.com/images?q=tbn:eDt5tCSa_rbaoM:http://image.tutorvista.com/content/plant-histology/phloem-structure.jpeg">
            <a:hlinkClick r:id="rId3"/>
          </p:cNvPr>
          <p:cNvPicPr/>
          <p:nvPr/>
        </p:nvPicPr>
        <p:blipFill>
          <a:blip r:embed="rId4"/>
          <a:stretch/>
        </p:blipFill>
        <p:spPr>
          <a:xfrm>
            <a:off x="5286240" y="1785960"/>
            <a:ext cx="2357640" cy="4000320"/>
          </a:xfrm>
          <a:prstGeom prst="rect">
            <a:avLst/>
          </a:prstGeom>
          <a:ln w="0">
            <a:noFill/>
          </a:ln>
        </p:spPr>
      </p:pic>
      <p:sp>
        <p:nvSpPr>
          <p:cNvPr id="14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lbertus MT Lt"/>
              </a:rPr>
              <a:t>The function of phloem tissue</a:t>
            </a:r>
            <a:endParaRPr b="0" lang="en-US" sz="3200" spc="-1" strike="noStrike">
              <a:solidFill>
                <a:srgbClr val="000000"/>
              </a:solidFill>
              <a:latin typeface="Calibri"/>
            </a:endParaRPr>
          </a:p>
        </p:txBody>
      </p:sp>
      <p:sp>
        <p:nvSpPr>
          <p:cNvPr id="142" name=""/>
          <p:cNvSpPr txBox="1"/>
          <p:nvPr/>
        </p:nvSpPr>
        <p:spPr>
          <a:xfrm>
            <a:off x="457200" y="1428840"/>
            <a:ext cx="8229600" cy="4697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ieve tubes transport manufactured food from the leaves to the all parts of the pla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companion cells probably control the activities of the sieve tubes</a:t>
            </a:r>
            <a:endParaRPr b="0" lang="en-US" sz="3200" spc="-1" strike="noStrike">
              <a:solidFill>
                <a:srgbClr val="000000"/>
              </a:solidFill>
              <a:latin typeface="Calibri"/>
            </a:endParaRPr>
          </a:p>
        </p:txBody>
      </p:sp>
      <p:sp>
        <p:nvSpPr>
          <p:cNvPr id="14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nchyma and Sclerenchyma</a:t>
            </a:r>
            <a:endParaRPr b="0" lang="en-US" sz="4400" spc="-1" strike="noStrike">
              <a:solidFill>
                <a:srgbClr val="000000"/>
              </a:solidFill>
              <a:latin typeface="Calibri"/>
            </a:endParaRPr>
          </a:p>
        </p:txBody>
      </p:sp>
      <p:pic>
        <p:nvPicPr>
          <p:cNvPr id="145" name="Picture 4" descr="http://t1.gstatic.com/images?q=tbn:YBtFvRGr3-nq5M:http://image.tutorvista.com/content/tissues/collenchyma-simple-tissue.jpeg">
            <a:hlinkClick r:id="rId1"/>
          </p:cNvPr>
          <p:cNvPicPr/>
          <p:nvPr/>
        </p:nvPicPr>
        <p:blipFill>
          <a:blip r:embed="rId2"/>
          <a:stretch/>
        </p:blipFill>
        <p:spPr>
          <a:xfrm>
            <a:off x="642960" y="2428920"/>
            <a:ext cx="2786040" cy="3357360"/>
          </a:xfrm>
          <a:prstGeom prst="rect">
            <a:avLst/>
          </a:prstGeom>
          <a:ln w="0">
            <a:noFill/>
          </a:ln>
        </p:spPr>
      </p:pic>
      <p:pic>
        <p:nvPicPr>
          <p:cNvPr id="146" name="Picture 6" descr="http://t0.gstatic.com/images?q=tbn:aIdgKDx7Y_dWIM:http://www.sbs.utexas.edu/mauseth/weblab/webchap5scler/webopener5scler.jpg">
            <a:hlinkClick r:id="rId3"/>
          </p:cNvPr>
          <p:cNvPicPr/>
          <p:nvPr/>
        </p:nvPicPr>
        <p:blipFill>
          <a:blip r:embed="rId4"/>
          <a:stretch/>
        </p:blipFill>
        <p:spPr>
          <a:xfrm>
            <a:off x="5214960" y="1857240"/>
            <a:ext cx="2500200" cy="3571920"/>
          </a:xfrm>
          <a:prstGeom prst="rect">
            <a:avLst/>
          </a:prstGeom>
          <a:ln w="0">
            <a:noFill/>
          </a:ln>
        </p:spPr>
      </p:pic>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lbertus MT"/>
              </a:rPr>
              <a:t>Absorption and Transport of water and mineral salts by plants</a:t>
            </a:r>
            <a:endParaRPr b="0" lang="en-US" sz="3600" spc="-1" strike="noStrike">
              <a:solidFill>
                <a:srgbClr val="000000"/>
              </a:solidFill>
              <a:latin typeface="Calibri"/>
            </a:endParaRPr>
          </a:p>
        </p:txBody>
      </p:sp>
      <p:sp>
        <p:nvSpPr>
          <p:cNvPr id="150" name=""/>
          <p:cNvSpPr txBox="1"/>
          <p:nvPr/>
        </p:nvSpPr>
        <p:spPr>
          <a:xfrm>
            <a:off x="214200" y="1356840"/>
            <a:ext cx="8715600" cy="4768920"/>
          </a:xfrm>
          <a:prstGeom prst="rect">
            <a:avLst/>
          </a:prstGeom>
          <a:noFill/>
          <a:ln w="0">
            <a:noFill/>
          </a:ln>
        </p:spPr>
        <p:txBody>
          <a:bodyPr anchor="t">
            <a:normAutofit fontScale="95000"/>
          </a:bodyPr>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the root hairs of the epidermis of roots by osmosis</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POINTS TO REMEMBER</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SOIL WATER IS THE DILUTE SOLUTION</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SAP HAS CONCENTRATION SOLUTION BECAUSE OF HIGH CONCENTRATION OF SALTS.</a:t>
            </a:r>
            <a:endParaRPr b="0" lang="en-US" sz="2400" spc="-1" strike="noStrike">
              <a:solidFill>
                <a:srgbClr val="000000"/>
              </a:solidFill>
              <a:latin typeface="Calibri"/>
            </a:endParaRPr>
          </a:p>
          <a:p>
            <a:pPr marL="325800" indent="-32580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lbertus MT"/>
              </a:rPr>
              <a:t>THE CELL MEMBRANE AND TONOPLAST IS SEMI-PERMEABLE MEMBRANE</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OSMOSIS:  MOVEMENT OF WATER MOLECULES FROM HIGH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WATER POTENTIAL TO LOW WATER POTENTIAL </a:t>
            </a:r>
            <a:endParaRPr b="0" lang="en-US" sz="2400" spc="-1" strike="noStrike">
              <a:solidFill>
                <a:srgbClr val="000000"/>
              </a:solidFill>
              <a:latin typeface="Calibri"/>
            </a:endParaRPr>
          </a:p>
          <a:p>
            <a:pPr marL="325800" indent="-325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THROUGH SEMI PERMEABLE MEMBRANE.</a:t>
            </a:r>
            <a:endParaRPr b="0" lang="en-US" sz="2400" spc="-1" strike="noStrike">
              <a:solidFill>
                <a:srgbClr val="000000"/>
              </a:solidFill>
              <a:latin typeface="Calibri"/>
            </a:endParaRPr>
          </a:p>
        </p:txBody>
      </p:sp>
      <p:sp>
        <p:nvSpPr>
          <p:cNvPr id="15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Lateral transport of water and mineral salts to the stele of the root</a:t>
            </a:r>
            <a:endParaRPr b="0" lang="en-US" sz="2900" spc="-1" strike="noStrike">
              <a:solidFill>
                <a:srgbClr val="000000"/>
              </a:solidFill>
              <a:latin typeface="Calibri"/>
            </a:endParaRPr>
          </a:p>
        </p:txBody>
      </p:sp>
      <p:pic>
        <p:nvPicPr>
          <p:cNvPr id="153" name="Picture 3" descr=""/>
          <p:cNvPicPr/>
          <p:nvPr/>
        </p:nvPicPr>
        <p:blipFill>
          <a:blip r:embed="rId1"/>
          <a:stretch/>
        </p:blipFill>
        <p:spPr>
          <a:xfrm>
            <a:off x="285840" y="1071720"/>
            <a:ext cx="8643960" cy="5500440"/>
          </a:xfrm>
          <a:prstGeom prst="rect">
            <a:avLst/>
          </a:prstGeom>
          <a:ln w="0">
            <a:noFill/>
          </a:ln>
        </p:spPr>
      </p:pic>
      <p:sp>
        <p:nvSpPr>
          <p:cNvPr id="15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Upward movement of water and mineral salts through the stem from Roots to Leaves</a:t>
            </a:r>
            <a:endParaRPr b="0" lang="en-US" sz="2900" spc="-1" strike="noStrike">
              <a:solidFill>
                <a:srgbClr val="000000"/>
              </a:solidFill>
              <a:latin typeface="Calibri"/>
            </a:endParaRPr>
          </a:p>
        </p:txBody>
      </p:sp>
      <p:pic>
        <p:nvPicPr>
          <p:cNvPr id="156" name="Picture 2" descr=""/>
          <p:cNvPicPr/>
          <p:nvPr/>
        </p:nvPicPr>
        <p:blipFill>
          <a:blip r:embed="rId1"/>
          <a:stretch/>
        </p:blipFill>
        <p:spPr>
          <a:xfrm>
            <a:off x="571680" y="1214280"/>
            <a:ext cx="7786440" cy="528660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17375e"/>
                </a:solidFill>
                <a:uFillTx/>
                <a:latin typeface="Bookman"/>
              </a:rPr>
              <a:t>Functions of the roots</a:t>
            </a:r>
            <a:endParaRPr b="0" lang="en-US" sz="4000" spc="-1" strike="noStrike">
              <a:solidFill>
                <a:srgbClr val="000000"/>
              </a:solidFill>
              <a:latin typeface="Calibri"/>
            </a:endParaRPr>
          </a:p>
        </p:txBody>
      </p:sp>
      <p:sp>
        <p:nvSpPr>
          <p:cNvPr id="58"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nchor the plant firmly to the ground.</a:t>
            </a:r>
            <a:endParaRPr b="0" lang="en-US" sz="3200" spc="-1" strike="noStrike">
              <a:solidFill>
                <a:srgbClr val="000000"/>
              </a:solidFill>
              <a:latin typeface="Calibri"/>
            </a:endParaRPr>
          </a:p>
          <a:p>
            <a:pPr marL="343080" indent="-343080">
              <a:spcBef>
                <a:spcPts val="799"/>
              </a:spcBef>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7375e"/>
                </a:solidFill>
                <a:latin typeface="Calibri"/>
              </a:rPr>
              <a:t>They absorb water and mineral sal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irational pu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ot press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pillar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a:rPr>
              <a:t>Forces responsible for the upward movement of water</a:t>
            </a:r>
            <a:endParaRPr b="0" lang="en-US" sz="3200" spc="-1" strike="noStrike">
              <a:solidFill>
                <a:srgbClr val="000000"/>
              </a:solidFill>
              <a:latin typeface="Calibri"/>
            </a:endParaRPr>
          </a:p>
        </p:txBody>
      </p:sp>
      <p:sp>
        <p:nvSpPr>
          <p:cNvPr id="162" name=""/>
          <p:cNvSpPr txBox="1"/>
          <p:nvPr/>
        </p:nvSpPr>
        <p:spPr>
          <a:xfrm>
            <a:off x="457200" y="1143000"/>
            <a:ext cx="8229600" cy="4983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Transpirational Pull: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evaporates from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s diffusion pressure gradient between outside air and xyl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sion exists in the water column extending from the roots to the leav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hesive and cohesive forces keep the column continuou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us water is continually being pulled upward as water evaporates from the leav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rPr>
              <a:t>Upward pull = transpirational pull</a:t>
            </a:r>
            <a:endParaRPr b="0" lang="en-US" sz="24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Forces responsible for the upward movement of water</a:t>
            </a:r>
            <a:endParaRPr b="0" lang="en-US" sz="2900" spc="-1" strike="noStrike">
              <a:solidFill>
                <a:srgbClr val="000000"/>
              </a:solidFill>
              <a:latin typeface="Calibri"/>
            </a:endParaRPr>
          </a:p>
        </p:txBody>
      </p:sp>
      <p:sp>
        <p:nvSpPr>
          <p:cNvPr id="165" name=""/>
          <p:cNvSpPr txBox="1"/>
          <p:nvPr/>
        </p:nvSpPr>
        <p:spPr>
          <a:xfrm>
            <a:off x="457200" y="1285560"/>
            <a:ext cx="8229600" cy="4840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Root press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ell sap of root hair always has low water potential when compared to soil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ater enters root hair by osmosi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ontinuous osmosis causes pressure forcing water a short distance up the stem</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lbertus MT"/>
              </a:rPr>
              <a:t>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pontaneous movement of water up narrow tubes because of adhesion and cohesion is called capillar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Lumen of xylem vessels and tracheids are very narrow therefore capillarity takes pla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Upward distance is very short</a:t>
            </a:r>
            <a:endParaRPr b="0" lang="en-US" sz="2400" spc="-1" strike="noStrike">
              <a:solidFill>
                <a:srgbClr val="000000"/>
              </a:solidFill>
              <a:latin typeface="Calibri"/>
            </a:endParaRPr>
          </a:p>
        </p:txBody>
      </p:sp>
      <p:sp>
        <p:nvSpPr>
          <p:cNvPr id="16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tructural modifications of leaves to reduce water loss</a:t>
            </a:r>
            <a:br>
              <a:rPr sz="2400"/>
            </a:br>
            <a:r>
              <a:rPr b="0" lang="en-US" sz="2400" spc="-1" strike="noStrike">
                <a:solidFill>
                  <a:srgbClr val="000000"/>
                </a:solidFill>
                <a:latin typeface="Albertus MT"/>
              </a:rPr>
              <a:t>(Internal factors limiting transpiration)</a:t>
            </a:r>
            <a:endParaRPr b="0" lang="en-US" sz="2400" spc="-1" strike="noStrike">
              <a:solidFill>
                <a:srgbClr val="000000"/>
              </a:solidFill>
              <a:latin typeface="Calibri"/>
            </a:endParaRPr>
          </a:p>
        </p:txBody>
      </p:sp>
      <p:sp>
        <p:nvSpPr>
          <p:cNvPr id="168" name=""/>
          <p:cNvSpPr txBox="1"/>
          <p:nvPr/>
        </p:nvSpPr>
        <p:spPr>
          <a:xfrm>
            <a:off x="457200" y="1213920"/>
            <a:ext cx="8229600" cy="535788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unken stomata:</a:t>
            </a:r>
            <a:r>
              <a:rPr b="0" lang="en-US" sz="2400" spc="-1" strike="noStrike" u="sng">
                <a:solidFill>
                  <a:srgbClr val="000000"/>
                </a:solidFill>
                <a:uFillTx/>
                <a:latin typeface="Albertus MT"/>
              </a:rPr>
              <a:t> </a:t>
            </a:r>
            <a:r>
              <a:rPr b="0" lang="en-US" sz="2400" spc="-1" strike="noStrike">
                <a:solidFill>
                  <a:srgbClr val="000000"/>
                </a:solidFill>
                <a:latin typeface="Albertus MT"/>
              </a:rPr>
              <a:t>In some plants stomata may be sunken or small.</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hickened cuticle: </a:t>
            </a:r>
            <a:r>
              <a:rPr b="0" lang="en-US" sz="2400" spc="-1" strike="noStrike">
                <a:solidFill>
                  <a:srgbClr val="000000"/>
                </a:solidFill>
                <a:latin typeface="Albertus MT"/>
              </a:rPr>
              <a:t>A thick cuticle on the surface of leaves reduces the rate of transpiration.</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air on leaves: </a:t>
            </a:r>
            <a:r>
              <a:rPr b="0" lang="en-US" sz="2400" spc="-1" strike="noStrike">
                <a:solidFill>
                  <a:srgbClr val="000000"/>
                </a:solidFill>
                <a:latin typeface="Albertus MT"/>
              </a:rPr>
              <a:t>the sheen r shine of the hairs of some leaves reflect sunlight and reduces transpiration.  Hairs also trap water vapour, restricting water loss.</a:t>
            </a: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Shape, size and arrangement of leaves: </a:t>
            </a:r>
            <a:r>
              <a:rPr b="0" lang="en-US" sz="2400" spc="-1" strike="noStrike">
                <a:solidFill>
                  <a:srgbClr val="000000"/>
                </a:solidFill>
                <a:latin typeface="Albertus MT"/>
              </a:rPr>
              <a:t>The shape and size of leaves determine the total surface area exposed to the environment, and hence influence the rate of transpiration.  The leaves of some plants are arranged in such manner that they shade each other or overlap each other.  In this water loss is restricted</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lbertus MT"/>
              </a:rPr>
              <a:t>Environmental factors affecting the rate of transpiration</a:t>
            </a:r>
            <a:endParaRPr b="0" lang="en-US" sz="2900" spc="-1" strike="noStrike">
              <a:solidFill>
                <a:srgbClr val="000000"/>
              </a:solidFill>
              <a:latin typeface="Calibri"/>
            </a:endParaRPr>
          </a:p>
        </p:txBody>
      </p:sp>
      <p:sp>
        <p:nvSpPr>
          <p:cNvPr id="171" name=""/>
          <p:cNvSpPr txBox="1"/>
          <p:nvPr/>
        </p:nvSpPr>
        <p:spPr>
          <a:xfrm>
            <a:off x="457200" y="1214280"/>
            <a:ext cx="8229600" cy="4911840"/>
          </a:xfrm>
          <a:prstGeom prst="rect">
            <a:avLst/>
          </a:prstGeom>
          <a:noFill/>
          <a:ln w="0">
            <a:noFill/>
          </a:ln>
        </p:spPr>
        <p:txBody>
          <a:bodyPr anchor="t">
            <a:normAutofit/>
          </a:bodyPr>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Humidity:</a:t>
            </a:r>
            <a:r>
              <a:rPr b="0" lang="en-US" sz="2400" spc="-1" strike="noStrike" u="sng">
                <a:solidFill>
                  <a:srgbClr val="000000"/>
                </a:solidFill>
                <a:uFillTx/>
                <a:latin typeface="Albertus MT"/>
              </a:rPr>
              <a:t> </a:t>
            </a:r>
            <a:r>
              <a:rPr b="0" lang="en-US" sz="2400" spc="-1" strike="noStrike">
                <a:solidFill>
                  <a:srgbClr val="000000"/>
                </a:solidFill>
                <a:latin typeface="Albertus MT"/>
              </a:rPr>
              <a:t>High humidity decreases transpiration rat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Wind:</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increases.  Wind removes the water vapour around leaf thus increasing water vapour pressure gradien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Temperature:</a:t>
            </a:r>
            <a:r>
              <a:rPr b="0" lang="en-US" sz="2400" spc="-1" strike="noStrike" u="sng">
                <a:solidFill>
                  <a:srgbClr val="000000"/>
                </a:solidFill>
                <a:uFillTx/>
                <a:latin typeface="Albertus MT"/>
              </a:rPr>
              <a:t> </a:t>
            </a:r>
            <a:r>
              <a:rPr b="0" lang="en-US" sz="2400" spc="-1" strike="noStrike">
                <a:solidFill>
                  <a:srgbClr val="000000"/>
                </a:solidFill>
                <a:latin typeface="Albertus MT"/>
              </a:rPr>
              <a:t>Increases evaporation and thus transpiration</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00000"/>
                </a:solidFill>
                <a:uFillTx/>
                <a:latin typeface="Albertus MT"/>
              </a:rPr>
              <a:t>Light:  </a:t>
            </a:r>
            <a:r>
              <a:rPr b="0" lang="en-US" sz="2400" spc="-1" strike="noStrike">
                <a:solidFill>
                  <a:srgbClr val="000000"/>
                </a:solidFill>
                <a:latin typeface="Albertus MT"/>
              </a:rPr>
              <a:t>generally causes an increase in the rate of transpiration</a:t>
            </a:r>
            <a:endParaRPr b="0" lang="en-US" sz="2400" spc="-1" strike="noStrike">
              <a:solidFill>
                <a:srgbClr val="000000"/>
              </a:solidFill>
              <a:latin typeface="Calibri"/>
            </a:endParaRPr>
          </a:p>
        </p:txBody>
      </p:sp>
      <p:sp>
        <p:nvSpPr>
          <p:cNvPr id="17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642960" y="285840"/>
            <a:ext cx="8170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Wilting:  Loss of turgidity of the cells results in leaves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Sometimes the stems, becoming limp, causing them to droo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en the plant is called wil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 Loss of liquid water through tiny pores, calle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hydathodes on margin of lea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4" name="Picture 2" descr="http://t2.gstatic.com/images?q=tbn:Fj227jGY3_tPsM:http://www.ez-detox-diet.com/images/wilting-plant.jpg"/>
          <p:cNvPicPr/>
          <p:nvPr/>
        </p:nvPicPr>
        <p:blipFill>
          <a:blip r:embed="rId1"/>
          <a:stretch/>
        </p:blipFill>
        <p:spPr>
          <a:xfrm>
            <a:off x="500040" y="2714760"/>
            <a:ext cx="2714760" cy="3571920"/>
          </a:xfrm>
          <a:prstGeom prst="rect">
            <a:avLst/>
          </a:prstGeom>
          <a:ln w="0">
            <a:noFill/>
          </a:ln>
        </p:spPr>
      </p:pic>
      <p:pic>
        <p:nvPicPr>
          <p:cNvPr id="175" name="Picture 4" descr="http://t2.gstatic.com/images?q=tbn:8xEKByllPDztTM:http://4.bp.blogspot.com/_oCXP3wyQN9w/SdelXbm9xfI/AAAAAAAABcA/rpttPyCi-qI/s400/Guttation.jpg"/>
          <p:cNvPicPr/>
          <p:nvPr/>
        </p:nvPicPr>
        <p:blipFill>
          <a:blip r:embed="rId2"/>
          <a:stretch/>
        </p:blipFill>
        <p:spPr>
          <a:xfrm>
            <a:off x="3929040" y="2714760"/>
            <a:ext cx="1857240" cy="3500280"/>
          </a:xfrm>
          <a:prstGeom prst="rect">
            <a:avLst/>
          </a:prstGeom>
          <a:ln w="0">
            <a:noFill/>
          </a:ln>
        </p:spPr>
      </p:pic>
      <p:pic>
        <p:nvPicPr>
          <p:cNvPr id="176" name="Picture 6" descr="http://t2.gstatic.com/images?q=tbn:uqh-rZGkeHUs1M:http://www.imsc.res.in/~indu/JM/2009/MayJun/Cover/Guttation_ne.jpg"/>
          <p:cNvPicPr/>
          <p:nvPr/>
        </p:nvPicPr>
        <p:blipFill>
          <a:blip r:embed="rId3"/>
          <a:stretch/>
        </p:blipFill>
        <p:spPr>
          <a:xfrm>
            <a:off x="6357960" y="2714760"/>
            <a:ext cx="2286000" cy="3429000"/>
          </a:xfrm>
          <a:prstGeom prst="rect">
            <a:avLst/>
          </a:prstGeom>
          <a:ln w="0">
            <a:noFill/>
          </a:ln>
        </p:spPr>
      </p:pic>
      <p:sp>
        <p:nvSpPr>
          <p:cNvPr id="177" name="TextBox 8"/>
          <p:cNvSpPr/>
          <p:nvPr/>
        </p:nvSpPr>
        <p:spPr>
          <a:xfrm>
            <a:off x="461520" y="6215040"/>
            <a:ext cx="166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T"/>
              </a:rPr>
              <a:t>Wilting Plant</a:t>
            </a:r>
            <a:endParaRPr b="0" lang="en-US" sz="1800" spc="-1" strike="noStrike">
              <a:solidFill>
                <a:srgbClr val="000000"/>
              </a:solidFill>
              <a:latin typeface="Arial"/>
            </a:endParaRPr>
          </a:p>
        </p:txBody>
      </p:sp>
      <p:sp>
        <p:nvSpPr>
          <p:cNvPr id="178" name="TextBox 9"/>
          <p:cNvSpPr/>
          <p:nvPr/>
        </p:nvSpPr>
        <p:spPr>
          <a:xfrm>
            <a:off x="4953960" y="6143760"/>
            <a:ext cx="15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Guttation</a:t>
            </a:r>
            <a:endParaRPr b="0" lang="en-US" sz="2400" spc="-1" strike="noStrike">
              <a:solidFill>
                <a:srgbClr val="000000"/>
              </a:solidFill>
              <a:latin typeface="Arial"/>
            </a:endParaRPr>
          </a:p>
        </p:txBody>
      </p:sp>
      <p:sp>
        <p:nvSpPr>
          <p:cNvPr id="1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Box 1"/>
          <p:cNvSpPr/>
          <p:nvPr/>
        </p:nvSpPr>
        <p:spPr>
          <a:xfrm>
            <a:off x="389880" y="1000080"/>
            <a:ext cx="8102160" cy="302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Economic uses of plants related to their anatom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 </a:t>
            </a:r>
            <a:r>
              <a:rPr b="0" lang="en-US" sz="2400" spc="-1" strike="noStrike">
                <a:solidFill>
                  <a:srgbClr val="000000"/>
                </a:solidFill>
                <a:latin typeface="Albertus MT"/>
              </a:rPr>
              <a:t>Pape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Cloth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imber for furniture-making and building construction</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Basket-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T"/>
              </a:rPr>
              <a:t>Thatching, matting and broom-making</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14200" y="-360"/>
            <a:ext cx="3571920" cy="42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xternal Structure of Root Tip</a:t>
            </a:r>
            <a:endParaRPr b="0" lang="en-US" sz="2000" spc="-1" strike="noStrike">
              <a:solidFill>
                <a:srgbClr val="000000"/>
              </a:solidFill>
              <a:latin typeface="Calibri"/>
            </a:endParaRPr>
          </a:p>
        </p:txBody>
      </p:sp>
      <p:sp>
        <p:nvSpPr>
          <p:cNvPr id="61" name="PlaceHolder 2"/>
          <p:cNvSpPr>
            <a:spLocks noGrp="1"/>
          </p:cNvSpPr>
          <p:nvPr>
            <p:ph/>
          </p:nvPr>
        </p:nvSpPr>
        <p:spPr>
          <a:xfrm>
            <a:off x="285480" y="428760"/>
            <a:ext cx="4500360" cy="6215040"/>
          </a:xfrm>
          <a:prstGeom prst="rect">
            <a:avLst/>
          </a:prstGeom>
          <a:noFill/>
          <a:ln w="0">
            <a:noFill/>
          </a:ln>
        </p:spPr>
        <p:txBody>
          <a:bodyPr anchor="t">
            <a:normAutofit fontScale="93000"/>
          </a:bodyPr>
          <a:p>
            <a:pPr>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Bookman"/>
              </a:rPr>
              <a:t> </a:t>
            </a:r>
            <a:r>
              <a:rPr b="1" lang="en-US" sz="1900" spc="-1" strike="noStrike">
                <a:solidFill>
                  <a:srgbClr val="984807"/>
                </a:solidFill>
                <a:latin typeface="Bookman"/>
              </a:rPr>
              <a:t>Root cap is made up of parenchyma cells. It protects the inner layers of the root.</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growing point is made up of meristematic cells.  Some of the new cells produced replace the parenchyma cells of the root cap which were damaged.</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Region of elongation – the cells comes from the growing point which begin to elongate.</a:t>
            </a:r>
            <a:endParaRPr b="0" lang="en-US" sz="1900" spc="-1" strike="noStrike">
              <a:solidFill>
                <a:srgbClr val="000000"/>
              </a:solidFill>
              <a:latin typeface="Calibri"/>
            </a:endParaRPr>
          </a:p>
          <a:p>
            <a:pPr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The root hair region has root hairs, which absorb water and mineral salts.</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Internally the cells in this region begin to differentiate into epidermis, parenchyma, sclerenchyma, xylem and phloem</a:t>
            </a:r>
            <a:endParaRPr b="0" lang="en-US" sz="1900" spc="-1" strike="noStrike">
              <a:solidFill>
                <a:srgbClr val="000000"/>
              </a:solidFill>
              <a:latin typeface="Calibri"/>
            </a:endParaRPr>
          </a:p>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476"/>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84807"/>
                </a:solidFill>
                <a:latin typeface="Bookman"/>
              </a:rPr>
              <a:t> </a:t>
            </a:r>
            <a:r>
              <a:rPr b="1" lang="en-US" sz="1900" spc="-1" strike="noStrike">
                <a:solidFill>
                  <a:srgbClr val="984807"/>
                </a:solidFill>
                <a:latin typeface="Bookman"/>
              </a:rPr>
              <a:t>Mature region has side roots and fully differentiated tissues.</a:t>
            </a:r>
            <a:endParaRPr b="0" lang="en-US" sz="1900" spc="-1" strike="noStrike">
              <a:solidFill>
                <a:srgbClr val="000000"/>
              </a:solidFill>
              <a:latin typeface="Calibri"/>
            </a:endParaRPr>
          </a:p>
        </p:txBody>
      </p:sp>
      <p:pic>
        <p:nvPicPr>
          <p:cNvPr id="62" name="Picture 3" descr=""/>
          <p:cNvPicPr/>
          <p:nvPr/>
        </p:nvPicPr>
        <p:blipFill>
          <a:blip r:embed="rId1"/>
          <a:stretch/>
        </p:blipFill>
        <p:spPr>
          <a:xfrm>
            <a:off x="4714920" y="428760"/>
            <a:ext cx="4143240" cy="6000480"/>
          </a:xfrm>
          <a:prstGeom prst="rect">
            <a:avLst/>
          </a:prstGeom>
          <a:ln w="0">
            <a:noFill/>
          </a:ln>
        </p:spPr>
      </p:pic>
      <p:sp>
        <p:nvSpPr>
          <p:cNvPr id="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14200"/>
            <a:ext cx="8229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young dicot root, in plan</a:t>
            </a:r>
            <a:endParaRPr b="0" lang="en-US" sz="3200" spc="-1" strike="noStrike">
              <a:solidFill>
                <a:srgbClr val="000000"/>
              </a:solidFill>
              <a:latin typeface="Calibri"/>
            </a:endParaRPr>
          </a:p>
        </p:txBody>
      </p:sp>
      <p:sp>
        <p:nvSpPr>
          <p:cNvPr id="65" name=""/>
          <p:cNvSpPr txBox="1"/>
          <p:nvPr/>
        </p:nvSpPr>
        <p:spPr>
          <a:xfrm>
            <a:off x="4648320" y="928440"/>
            <a:ext cx="4038480" cy="5197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
          <p:cNvPicPr/>
          <p:nvPr/>
        </p:nvPicPr>
        <p:blipFill>
          <a:blip r:embed="rId1"/>
          <a:stretch/>
        </p:blipFill>
        <p:spPr>
          <a:xfrm>
            <a:off x="214200" y="928800"/>
            <a:ext cx="8643960" cy="5357880"/>
          </a:xfrm>
          <a:prstGeom prst="rect">
            <a:avLst/>
          </a:prstGeom>
          <a:ln w="0">
            <a:noFill/>
          </a:ln>
        </p:spPr>
      </p:pic>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14200" y="274680"/>
            <a:ext cx="8715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ransverse section of a young dicot root in detail</a:t>
            </a:r>
            <a:endParaRPr b="0" lang="en-US" sz="3200" spc="-1" strike="noStrike">
              <a:solidFill>
                <a:srgbClr val="000000"/>
              </a:solidFill>
              <a:latin typeface="Calibri"/>
            </a:endParaRPr>
          </a:p>
        </p:txBody>
      </p:sp>
      <p:pic>
        <p:nvPicPr>
          <p:cNvPr id="69" name="Picture 2" descr=""/>
          <p:cNvPicPr/>
          <p:nvPr/>
        </p:nvPicPr>
        <p:blipFill>
          <a:blip r:embed="rId1"/>
          <a:stretch/>
        </p:blipFill>
        <p:spPr>
          <a:xfrm>
            <a:off x="428760" y="857160"/>
            <a:ext cx="8286480" cy="5500800"/>
          </a:xfrm>
          <a:prstGeom prst="rect">
            <a:avLst/>
          </a:prstGeom>
          <a:ln w="0">
            <a:noFill/>
          </a:ln>
        </p:spPr>
      </p:pic>
      <p:sp>
        <p:nvSpPr>
          <p:cNvPr id="7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lbertus MT Lt"/>
              </a:rPr>
              <a:t>Enlarged Root Hair</a:t>
            </a:r>
            <a:endParaRPr b="0" lang="en-US" sz="3200" spc="-1" strike="noStrike">
              <a:solidFill>
                <a:srgbClr val="000000"/>
              </a:solidFill>
              <a:latin typeface="Calibri"/>
            </a:endParaRPr>
          </a:p>
        </p:txBody>
      </p:sp>
      <p:pic>
        <p:nvPicPr>
          <p:cNvPr id="72" name="Picture 2" descr=""/>
          <p:cNvPicPr/>
          <p:nvPr/>
        </p:nvPicPr>
        <p:blipFill>
          <a:blip r:embed="rId1"/>
          <a:stretch/>
        </p:blipFill>
        <p:spPr>
          <a:xfrm>
            <a:off x="1143000" y="1571760"/>
            <a:ext cx="7072200" cy="4857480"/>
          </a:xfrm>
          <a:prstGeom prst="rect">
            <a:avLst/>
          </a:prstGeom>
          <a:ln w="0">
            <a:noFill/>
          </a:ln>
        </p:spPr>
      </p:pic>
      <p:sp>
        <p:nvSpPr>
          <p:cNvPr id="7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Albertus MT Lt"/>
              </a:rPr>
              <a:t>Functions of the various root tissues</a:t>
            </a:r>
            <a:endParaRPr b="0" lang="en-US" sz="2900" spc="-1" strike="noStrike">
              <a:solidFill>
                <a:srgbClr val="000000"/>
              </a:solidFill>
              <a:latin typeface="Calibri"/>
            </a:endParaRPr>
          </a:p>
        </p:txBody>
      </p:sp>
      <p:sp>
        <p:nvSpPr>
          <p:cNvPr id="75" name=""/>
          <p:cNvSpPr txBox="1"/>
          <p:nvPr/>
        </p:nvSpPr>
        <p:spPr>
          <a:xfrm>
            <a:off x="457200" y="928800"/>
            <a:ext cx="8229600" cy="55720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t>
            </a:r>
            <a:r>
              <a:rPr b="0" lang="en-US" sz="2700" spc="-1" strike="noStrike">
                <a:solidFill>
                  <a:srgbClr val="4f6228"/>
                </a:solidFill>
                <a:latin typeface="Calibri"/>
              </a:rPr>
              <a:t> The root hairs  of the epidermis absorb water and mineral sal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renchyma of the cortex stores starch and the intercellular spaces allow water and mineral salts to pass through</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assage cells of the endodermis direct water into the xylem of the stele.</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ericycle gives rise to sid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xylem transports water and mineral salts from the roots to the stem and leaves.  It also provides strength to the plant.</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phloem transports manufactured food from the leaves to the roots.</a:t>
            </a:r>
            <a:endParaRPr b="0" lang="en-US" sz="2700" spc="-1" strike="noStrike">
              <a:solidFill>
                <a:srgbClr val="000000"/>
              </a:solidFill>
              <a:latin typeface="Calibri"/>
            </a:endParaRPr>
          </a:p>
          <a:p>
            <a:pPr marL="343080" indent="-343080">
              <a:lnSpc>
                <a:spcPct val="80000"/>
              </a:lnSpc>
              <a:spcBef>
                <a:spcPts val="675"/>
              </a:spcBef>
              <a:buClr>
                <a:srgbClr val="4f62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f6228"/>
                </a:solidFill>
                <a:latin typeface="Calibri"/>
              </a:rPr>
              <a:t>The vascular cambium gives rise to additional xylem and phloem as the root grows in thicknes</a:t>
            </a:r>
            <a:r>
              <a:rPr b="0" lang="en-US" sz="2700" spc="-1" strike="noStrike">
                <a:solidFill>
                  <a:srgbClr val="000000"/>
                </a:solidFill>
                <a:latin typeface="Calibri"/>
              </a:rPr>
              <a:t>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76"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MT Lt"/>
              </a:rPr>
              <a:t>The Stem</a:t>
            </a:r>
            <a:endParaRPr b="0" lang="en-US" sz="3200" spc="-1" strike="noStrike">
              <a:solidFill>
                <a:srgbClr val="000000"/>
              </a:solidFill>
              <a:latin typeface="Calibri"/>
            </a:endParaRPr>
          </a:p>
        </p:txBody>
      </p:sp>
      <p:sp>
        <p:nvSpPr>
          <p:cNvPr id="78"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Calibri"/>
              </a:rPr>
              <a:t>Functions of the 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leaves in a favourable position to receive light for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hold the flowers in a favourable position for pollin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st stems contain chlorophyll and they therefore manufacture food by the process of photosynthes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store food and wat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water and mineral salts from roots to lea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y transport food from the leaves to the roots</a:t>
            </a:r>
            <a:endParaRPr b="0" lang="en-US" sz="3000" spc="-1" strike="noStrike">
              <a:solidFill>
                <a:srgbClr val="000000"/>
              </a:solidFill>
              <a:latin typeface="Calibri"/>
            </a:endParaRPr>
          </a:p>
        </p:txBody>
      </p:sp>
      <p:sp>
        <p:nvSpPr>
          <p:cNvPr id="7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898989"/>
                </a:solidFill>
                <a:latin typeface="Calibri"/>
              </a:rPr>
              <a:t>www.sliderbase.co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3T16:54:58Z</dcterms:created>
  <dc:creator>Administrator</dc:creator>
  <dc:description/>
  <dc:language>en-US</dc:language>
  <cp:lastModifiedBy>LEGION2</cp:lastModifiedBy>
  <dcterms:modified xsi:type="dcterms:W3CDTF">2016-01-13T10:13:34Z</dcterms:modified>
  <cp:revision>9</cp:revision>
  <dc:subject/>
  <dc:title>SUPPORT AND TRANSPORT IN PLANTS</dc:title>
</cp:coreProperties>
</file>