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C848-D751-486E-95D8-3E5FBBCBFA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24C85-6F7B-431F-A058-879C6BB50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F20A3-C851-4045-B65C-7590F1426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D5967-C4A4-4109-A4B8-73A323FF2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512E2-913C-4914-AB1D-D6CD79E5A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E3A72-C25B-46E9-8634-7810A42B6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EEAC4-526B-462A-B097-2181E0750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E23E8-DB21-407B-A43C-0E2C08A38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AEEBA-7F6E-4462-B2BD-CC0481E03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A5720-22D0-4CD5-912E-8C290B514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6CE4-3E45-4767-B1AA-41A0C71F5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6E40A-B8ED-4A29-BD48-4302FEDC4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82C3A-1F48-42E0-B89F-C9B377AAC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FE0E-B9E2-4053-AF92-F9A2DBA656A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87F6-4F68-405B-9C96-152EF9292BBD}"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2</cp:lastModifiedBy>
  <dcterms:modified xsi:type="dcterms:W3CDTF">2016-01-13T10:13:34Z</dcterms:modified>
  <cp:revision>9</cp:revision>
  <dc:subject/>
  <dc:title>SUPPORT AND TRANSPORT IN PLANTS</dc:title>
</cp:coreProperties>
</file>